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C493-71E0-4FCA-A7FA-60AB6721E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2653-EBF2-4E46-BD66-E27127FE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0D24-5591-4B7E-BB17-802615E5C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9DDB-CA2D-4CD7-A3C5-CFCB0281C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C152-3CC6-455B-8BF3-4F2FA155E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B470-08E5-454C-8424-9B3695F9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B0B5-31D8-4065-AD07-2FF3C473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15F7-B8F8-4649-8A57-737E3286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82D3-BE5C-4954-975A-9BB98E18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E6B7-82F7-48C7-990E-7D01FC81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7247-7B80-407C-B2E6-5107A2E7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FDCC-04B7-49D7-B674-FD01D51B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0980-6D1A-43C7-B32D-9EFA1F04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FD0D-6630-45F5-9132-D6C7B6A3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9702-6C85-4970-8CF3-678A8C24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66B2-8237-491E-80CF-51E7F1B53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B778-0917-414F-BA0F-0B82B5AB9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811A-D632-4969-A83D-407F3AD8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2889-C5AA-4EF9-83B9-5D78D83A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2503-6850-4D10-B706-48DE6AF3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96A6-14D3-405A-BC5B-C8EB7C6B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DB5C-141E-4EEC-9D17-20F86FF0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831F-3B0B-4925-BC04-8758B3B4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845B-AD4C-4C49-9FF6-FADAFEBD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9AF9-DC5E-4451-94F3-4817D64E3A33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1E10-BC88-409F-91CD-2A17104523B5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ccff"/>
                </a:solidFill>
                <a:latin typeface="Verdana"/>
              </a:rPr>
              <a:t>Introductions</a:t>
            </a:r>
            <a:endParaRPr b="1" lang="en-US" sz="7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447560" y="2895120"/>
            <a:ext cx="6553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New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nd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Veteran Science Facilitators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Develop Goals for Fall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6324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10/20/0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12/01/0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03/16/0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05/19/0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Group Norm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</a:rPr>
              <a:t>Review Goals from Last Workshop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Format maps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Prioritize, revise, and add vocabulary to maps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Resources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Review and revise CFA’s and check for alignment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Ice Breaker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38080" y="2286000"/>
            <a:ext cx="1409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levat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733920" y="1447920"/>
            <a:ext cx="1342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spir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105520" y="2057400"/>
            <a:ext cx="165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motivat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438280" y="3200400"/>
            <a:ext cx="17240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impa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257800" y="3124080"/>
            <a:ext cx="2819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accomplis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43000" y="4572000"/>
            <a:ext cx="1600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rea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429000" y="5181480"/>
            <a:ext cx="139068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oost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181480" y="4648320"/>
            <a:ext cx="2581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tribut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781680" y="1295280"/>
            <a:ext cx="1228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elight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371600" y="1066680"/>
            <a:ext cx="1362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erv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Verdana"/>
              </a:rPr>
              <a:t>Roles: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eam Recorder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records notes for the group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Reporter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summarizes and shares work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Bouncer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Ensures focus of group on topic and is cogniscent of tim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Norms Keeper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makes sure the group stays positive and re-enforces norm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4857"/>
                </a:solidFill>
                <a:latin typeface="Verdana"/>
              </a:rPr>
              <a:t>Let’s Look at the Data…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omparison– Top 5 school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hat do those colors mean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hat to do with all this data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ick 3 areas of trends and gap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Go to the wiki and find the core and tes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econstruct for content (vocabulary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Vocabulary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ase 1 – decide on number of words to be taugh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ase 2 – create a rank ordered list (use data and secured learning from matrix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Format (color code,*, separate lists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ase 3 – share your list with the grade level above and below and make chang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ase 4 – Place in your map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Format Map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onths, Units and Concepts, PI’s/MU’s, Skills, Vocabulary, add Essential Question column and move questions to that column (to be added at a later date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Units and Concepts (Unit names bolded, concepts bulleted below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Resources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Use wiki, books, kits, tools, and create resource folders for that/those grade level(s) -- Monica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If a grade level is not in need of resources, work on revise, review, and align CFA’s to updated maps -- Julie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6:42:56Z</dcterms:created>
  <dc:creator>boces</dc:creator>
  <dc:description/>
  <dc:language>en-US</dc:language>
  <cp:lastModifiedBy>Monica Daigler</cp:lastModifiedBy>
  <dcterms:modified xsi:type="dcterms:W3CDTF">2009-07-22T12:08:05Z</dcterms:modified>
  <cp:revision>10</cp:revision>
  <dc:subject/>
  <dc:title>Introductions</dc:title>
</cp:coreProperties>
</file>