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6BC-FC38-4E01-9ADD-12275DBB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6A4-E3E3-48A9-A062-9E0CCE7A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3CD-7099-4695-9CBC-57344B62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91A-1364-4CA0-A1D7-343E35CF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79E9-A84B-4BA6-BB2E-C2C1D92A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A71B-65F7-4BE7-B5AC-3A958679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4458-AAF4-4E1B-9A4E-DF955FBD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E1DC-B949-4685-8F5A-512DC3CA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0352-0324-4333-BAD2-60FD6C8E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8F35-AC8F-45BB-88CE-6F50D8A2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0457-C440-46EB-BAB5-98E2055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6D0-1966-4B4B-B064-B7C97BA7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72D3-78FF-4158-B4D8-D4C9FD8A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A532-69D4-4E87-879C-9F13AC5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91C9-642D-44D9-8D89-93FE5919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8F4F-28EC-4C5F-9B28-44D2C013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4431-491F-462E-AC12-6F162E40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579-6578-4EF5-8D3E-7D7722C2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BCD-9F2C-47BD-8358-5611B8C1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0FD-67CD-4204-A70A-6C37C60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111-485F-4FB2-A789-7EF8FCC0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FC5-B77E-47D1-B5C0-F9ED9191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0A2-5106-4D98-AFEC-2085C070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8F6-E83B-461E-9DC2-9D149DB6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A3C1-4DAB-4010-A83C-17626C63759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1469-9CC7-45B6-8CD2-4669EE866EC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eteran Science Facilitator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Monica Daigler</cp:lastModifiedBy>
  <dcterms:modified xsi:type="dcterms:W3CDTF">2009-07-22T12:08:05Z</dcterms:modified>
  <cp:revision>10</cp:revision>
  <dc:subject/>
  <dc:title>Introductions</dc:title>
</cp:coreProperties>
</file>