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drumroll.wav" ContentType="audio/x-wav"/>
  <Override PartName="/ppt/media/image2.png" ContentType="image/png"/>
  <Override PartName="/ppt/media/cowbell.wav" ContentType="audio/x-wav"/>
  <Override PartName="/ppt/media/kiss2.wav" ContentType="audio/x-wav"/>
  <Override PartName="/ppt/media/image3.png" ContentType="image/png"/>
  <Override PartName="/ppt/media/cashreg.wav" ContentType="audio/x-wav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F346-7048-45BB-903D-A5568865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CF5F-9F21-433B-B90F-021263FE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7C16-3FE5-4BE2-B3AC-905F4069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1904-753A-4143-BC66-BFF3A369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4D6A-AD51-4B84-861E-A8FCB4C1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F3C6-8158-450D-B140-83EFA89A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343-3D79-4404-AC61-7C12611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512-7366-4E6B-9D3C-6BF57CB7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09F0-2D8F-49F6-92A9-DE957867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4C00-C09F-4F83-BC9D-B5A931FC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FE6A-39B6-4417-BA36-F796492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E4CC-6779-4C5A-97EE-BDBBCA8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E90F-5678-454D-AC00-A8D287CE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C82F-E60F-4B31-B92E-C873699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1FBD-C229-4F0E-B46F-4A2AA066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FD79-0437-4386-8752-9A788265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B0A7-FA74-45BD-B2BB-1298C0DE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1B05-D909-4803-8BD6-791FBD1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3BD4-CB5D-4F8D-B741-E68EF41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F8F2-2E1F-4C52-9860-43E95FF0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2A13-170A-468A-A3B8-CB58BA9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783E-7762-46D8-8CC0-258EC75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3DAC-3979-433A-9162-361BF4B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A820-7C36-4906-810F-477E4F93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67C5-6241-4C70-B1B9-E230F0A361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5F88-DB2D-4F62-8CFE-C0C06C493A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oter4kids.com/Frogs/lifecycle.jpg&amp;imgrefurl=http://www.tooter4kids.com/Frogs/life_cycle_of_frogs.htm&amp;h=312&amp;w=315&amp;sz=16&amp;tbnid=QWbVE-q8XCAJ::&amp;tbnh=116&amp;tbnw=117&amp;prev=/images%3Fq%3Dlife%2Bcycle%2Bimage&amp;hl=en&amp;usg=__XMMSFG9c_iCubGx3B9vxq_gG5Xg=&amp;sa=X&amp;oi=image_result&amp;resnum=4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wbe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ca Burgio Daig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Lor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8288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29528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14300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Turn and Talk</a:t>
            </a: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xplain this diagram to your partn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696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http://www.tooter4kids.com/Frogs/life_cycle_of_frog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living things go through these stages, from birth to death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39625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288936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of the plant that stores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8353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533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eature or trait of an organis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244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3716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alk with a partner about how you could use this game in your classroo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py each word and draw a picture for i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Staff-D620</cp:lastModifiedBy>
  <dcterms:modified xsi:type="dcterms:W3CDTF">2008-10-24T18:12:04Z</dcterms:modified>
  <cp:revision>5</cp:revision>
  <dc:subject/>
  <dc:title>Guess the Covered Word</dc:title>
</cp:coreProperties>
</file>