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7CE-24CD-4DAE-A10E-D73F86FD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823-2777-4EB3-A1D8-8C21316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7CF-2C1D-4B14-AB56-53CDD7A8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E4B-1737-47E9-A638-3841ADAE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50A6-697C-4B15-BBA2-F146B82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5928-BA62-42D4-8F52-B92ABE2F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D902-E119-46FE-9260-00149B2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E8F21-C5A8-4B28-B10F-EDDBEE9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9B08C-6A86-4D24-8667-42518B71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5E58-E741-49B8-A5EF-212E777C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E5736-85AC-4CBA-B731-6D32EB1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029-F0A3-4E0B-8748-6F1CC468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07B08-147A-4A88-9B19-5F31FD2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BAFF-EB50-42DF-9950-1CB3294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DF9F0-211F-435B-87C4-6C161B8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4AD9-3573-42A6-9CDF-F9B46644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1E97-618A-47E9-B848-A78C00B1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FDC-099F-47F9-8D15-407EBDA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B23-E7EC-4A0F-96DA-BCA7D1E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AFA-B4A2-434F-B399-B020736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A1F-D10A-4421-A418-6AF02C90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724-C658-4692-A296-9A0436D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948-8E99-41D0-9E17-C10C341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962-05B6-44FF-918A-44791B6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BC9-D59A-45A3-90B9-5502C0E14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3B0-BD95-494E-9144-145922D8B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10--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 on Card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-Daigler</cp:lastModifiedBy>
  <dcterms:modified xsi:type="dcterms:W3CDTF">2010-08-16T16:20:17Z</dcterms:modified>
  <cp:revision>51</cp:revision>
  <dc:subject/>
  <dc:title>Slide 1</dc:title>
</cp:coreProperties>
</file>