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425-156A-4CA9-B64F-1D761F16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8CB-F3E2-4D4E-B2F2-ED6AC41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D6C-AF6D-455F-B20C-C5E649F1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268-E15E-410B-97DA-3374C569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37C70-03EC-4C61-9E2E-23FA0A29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A3D1B-8A56-40B8-8E7E-F1A4B2BD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40C37-9E46-4E6F-86EE-820F28A7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69820-5790-42A1-83B7-D3BEDFCC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32CDA-E71A-4067-80B7-2E5AF31E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5B489-5402-46F5-9559-02C9837E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58297-DB80-4891-AB48-18A5890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4C6-1CD6-424B-84CD-6AA267AE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BE24E-7B38-4F8C-9B46-0CEEC94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89ECE-08B7-40AF-9CBB-491E248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9F3A3-FA96-4096-80B3-F181E2D5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EAB25-794F-462A-B8E8-41B97F3C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79E71-4884-4D97-AF22-9DE84854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E0F-EAE1-47A6-B2BE-916B5018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E22-8A73-4FC3-B69D-08B0B99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951-407E-4AF1-A26B-C8F9ED8C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A9F-74FB-4048-8CD0-CE85B9E1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81D-521B-4499-9C44-9F1326D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F16-6FAC-4064-9475-B0ECCCB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D93-2EC7-4793-B3CA-72BAE430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CD73-69F8-454A-9AB4-C716BD8AE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63F-5C68-4B25-95FF-A56738F26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daigler@e1b.org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oadway"/>
              </a:rPr>
              <a:t>RBIS</a:t>
            </a:r>
            <a:br>
              <a:rPr sz="5400"/>
            </a:b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Research-Based Instructional Strategies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Day 2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tarpoi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2010--20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724280" y="48765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ica Daig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daigler@e1b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21-70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, Cues,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vance Organiz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operative Learning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Motivational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mmarizing and Note-taking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(Academic Strateg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phic representation of what students will learn (given BEFORE the learn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essential information not unusual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 students to skim (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Q3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te-Ta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d Cornell Notes (right and left bra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-Pair-Share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 83 in purple book and rubric on pg 9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operative Learning – 4 grou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groups (outline, web, picture no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“What is Cooperative Learning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oster paper, create the assigned notes based on the artic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Group -- “Grouping Students”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(pros/c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Cooperative Learning look like in your classroom? AND how do you group your stud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ew on Card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 was taken from presentations done by Debra Pickering (Spring 2005 Classroom Instruction That Works)and Bea McGarvey (Fall 2006 What Works in Schoo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room Instruction That Works – Robert J. Marzano, Debra J. Pickering, Jane E. Pollu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andbook for Classroom Instruction That Works – Robert J. Marzano, Jennifer S. Norford, Diane E. Paynter, Debra J. Pickering, Barbara B. Gad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orks in Schools – Robert J. Marz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4:28:50Z</dcterms:created>
  <dc:creator>Elizabeth Fisher</dc:creator>
  <dc:description/>
  <dc:language>en-US</dc:language>
  <cp:lastModifiedBy>Monica Burgio-Daigler</cp:lastModifiedBy>
  <dcterms:modified xsi:type="dcterms:W3CDTF">2010-08-16T16:20:17Z</dcterms:modified>
  <cp:revision>51</cp:revision>
  <dc:subject/>
  <dc:title>Slide 1</dc:title>
</cp:coreProperties>
</file>