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5BF7-8A06-4241-B330-D3AC3020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022-16C4-4164-89DD-D8E4B842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B4F3-AD3B-4409-BA62-7263907A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1D6-4C70-4394-A3D7-9FCC3927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3D9DB-8C96-4796-AB94-3B81534B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0CB99-61D2-42D4-9752-F7783388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58CEE-214B-4862-93E5-70868625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026B0-8A07-4DD4-B520-16836396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8BB2B-5459-4E5F-AD03-491ED0F0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1A0B1-AC50-4B89-B259-97D9E507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69B76-D4F4-41AB-AE90-4014CEB3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751-C79E-45EA-B13F-89064B28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C8F50-7403-48BD-9CC2-17A9B292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92C11-D803-4836-B731-55D0928C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A956A-C4FA-44F0-8258-732F0092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628F0-A120-40F7-936A-C8860CE0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C842D-AE93-4992-85F4-EEFE942C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D11-9D3B-4885-B086-3B8B988F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4A9-11E9-4875-8CD0-61E3ECA3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591-0E73-40B9-B272-80B50C3E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6C1-5106-4646-A8F5-DC3369E3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9A5-980C-4CEA-BDA4-1CDD014E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638-F770-4D93-BB73-96C9DA94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030-4F5E-4218-BE5C-5E5E5F9A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E16C-5609-46C2-82EE-D4DBCA317A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DE94-8E54-4F9F-98FC-A8FF4EB37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daigler@e1b.org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oadway"/>
              </a:rPr>
              <a:t>RBIS</a:t>
            </a:r>
            <a:br>
              <a:rPr sz="5400"/>
            </a:b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Research-Based Instructional Strategies</a:t>
            </a: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Broadway"/>
              </a:rPr>
              <a:t>Day 2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tarpoi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2010--20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724280" y="487656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ica Daigl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mdaigler@e1b.o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21-705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, Cues, and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vance Organize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operative Learning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(Motivational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mmarizing and Note-taking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dvance Organiz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phic representation of what students will learn (given BEFORE the learn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s essential information not unusual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 students to skim (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Q3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te-Tak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1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ed Cornell Notes (right and left brai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lection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-Pair-Share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g 83 in purple book and rubric on pg 9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operative Learning – 4 group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groups (outline, web, picture no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“What is Cooperative Learning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poster paper, create the assigned notes based on the artic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Group -- “Grouping Students”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(pros/c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Cooperative Learning look like in your classroom? AND how do you group your studen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view on Cards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 was taken from presentations done by Debra Pickering (Spring 2005 Classroom Instruction That Works)and Bea McGarvey (Fall 2006 What Works in School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room Instruction That Works – Robert J. Marzano, Debra J. Pickering, Jane E. Pollu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Handbook for Classroom Instruction That Works – Robert J. Marzano, Jennifer S. Norford, Diane E. Paynter, Debra J. Pickering, Barbara B. Gadd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orks in Schools – Robert J. Marz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4:28:50Z</dcterms:created>
  <dc:creator>Elizabeth Fisher</dc:creator>
  <dc:description/>
  <dc:language>en-US</dc:language>
  <cp:lastModifiedBy>Monica Burgio-Daigler</cp:lastModifiedBy>
  <dcterms:modified xsi:type="dcterms:W3CDTF">2010-08-16T16:20:17Z</dcterms:modified>
  <cp:revision>51</cp:revision>
  <dc:subject/>
  <dc:title>Slide 1</dc:title>
</cp:coreProperties>
</file>