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CA35-9A5D-4AC5-A01A-04143FF5E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9617-4BB0-4E35-ABBC-B62643285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586C-257D-4484-92B5-0C8CD95D4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303B-FD52-483D-8514-8E88B9373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048BE5-D232-4B30-A648-9BD7EB6B3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F2F709-EB69-4DBE-A34C-383F8FA07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8E5BB3-3A71-43EE-B51F-A3DFD2AA3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4B3547-6D93-4E27-A9F2-211396B6C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ACC926-F254-49B5-BDF8-28F841BB2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95EB25-228A-4163-871B-093C0B730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D6A844-8EC8-4274-82FC-FF9553AD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2314-87D1-40D3-A1A0-3EB0BDFF3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EBBF21-7E77-4E95-98EB-CBBD2F19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D38C39-96EC-4F61-B684-F9BA614F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0A045A-59F2-4960-B0E6-CB2D1E6A3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898475-8E7E-45A8-A96D-5B9D47EB8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F5F8D9-A118-45E6-A293-C4B02DA7E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2713-7949-4568-B8ED-EBC76805A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E762-576A-482D-9B3D-09610D3E8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5533-5CA6-43BB-8132-428DF4416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5FA4-0881-48AD-8E63-63AE0F61C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2C60-5775-4D28-963D-7914B243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EF83-1EC0-460E-9494-49804C94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2081-DCB9-4CF1-8370-A974350C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6994E-000A-4E28-BFF1-724DB7EF1F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8B03B-795D-4B15-8467-21047932A7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mdaigler@e1b.org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3581280"/>
            <a:ext cx="883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roadway"/>
              </a:rPr>
              <a:t>RBIS</a:t>
            </a:r>
            <a:br>
              <a:rPr sz="5400"/>
            </a:b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Research-Based Instructional Strategies</a:t>
            </a:r>
            <a:br>
              <a:rPr sz="2800"/>
            </a:br>
            <a:r>
              <a:rPr b="1" lang="en-US" sz="3200" spc="-1" strike="noStrike">
                <a:solidFill>
                  <a:srgbClr val="ffffff"/>
                </a:solidFill>
                <a:latin typeface="Broadway"/>
              </a:rPr>
              <a:t>Day 2</a:t>
            </a:r>
            <a:br>
              <a:rPr sz="3200"/>
            </a:b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Starpoin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2010--201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724280" y="4876560"/>
            <a:ext cx="4114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nica Daigl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mdaigler@e1b.or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821-705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oda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uestions, Cues, and 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dvance Organizer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Academic Strategy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ooperative Learning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(Motivational Strategy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Summarizing and Note-taking 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(Academic Strategy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dvance Organiz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aphic representation of what students will learn (given BEFORE the learning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ludes essential information not unusual inform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ach students to skim (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Q3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ote-Tak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1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dified Cornell Notes (right and left brai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flection Ques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nk-Pair-Share Activ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g 83 in purple book and rubric on pg 90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operative Learning – 4 group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 groups (outline, web, picture not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d “What is Cooperative Learning?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 poster paper, create the assigned notes based on the articl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Group -- “Grouping Students” activ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are (pros/con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es Cooperative Learning look like in your classroom? AND how do you group your student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view on Cards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cknowledgemen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terial was taken from presentations done by Debra Pickering (Spring 2005 Classroom Instruction That Works)and Bea McGarvey (Fall 2006 What Works in School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assroom Instruction That Works – Robert J. Marzano, Debra J. Pickering, Jane E. Pollu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Handbook for Classroom Instruction That Works – Robert J. Marzano, Jennifer S. Norford, Diane E. Paynter, Debra J. Pickering, Barbara B. Gadd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Works in Schools – Robert J. Marza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14:28:50Z</dcterms:created>
  <dc:creator>Elizabeth Fisher</dc:creator>
  <dc:description/>
  <dc:language>en-US</dc:language>
  <cp:lastModifiedBy>Monica Burgio-Daigler</cp:lastModifiedBy>
  <dcterms:modified xsi:type="dcterms:W3CDTF">2010-08-16T16:20:17Z</dcterms:modified>
  <cp:revision>51</cp:revision>
  <dc:subject/>
  <dc:title>Slide 1</dc:title>
</cp:coreProperties>
</file>