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A03-000A-4E23-86B6-62B345CE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F31-F431-4FC1-AEC0-330B019E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39A-1F50-45B0-92EF-F3B92739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644-55D7-466C-B904-0ECCD249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B2D1-60E3-413D-9F0C-03969B5D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E6B3-1B9F-49C4-B062-F4932662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DCD1-519A-438D-82A7-3B71891B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8AAB-4DC0-4B1E-AA70-64F58A3D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4E1D-D2BA-4D7E-BDE6-1E9C2BBF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1BCB-E631-49FC-80A4-24793449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BF4F-97C1-428E-90E0-A619877B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571-2431-46E9-A9A1-EF88179B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384C-FBFB-471B-B8F4-B6534BC7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EAE3-5B40-4FAB-A613-E3DB5FB8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C49D-8481-4209-899C-D5C77101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DAAA-9041-4F7C-918C-48C9676A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B35F-901F-4E2C-ACCC-33BE5CE1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F8A-193F-4D3B-8D35-C8C9C1ED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926-D428-42AC-AC81-5CDE4BF0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521-6B39-4A43-9358-465A3086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FBC-8AAD-465F-823D-10AC2FB8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AD6-BD5C-4434-BC78-9E0718F6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3D6-52FF-4B42-AF1A-02C7C5E4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905-AB32-446C-B206-68CAC16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7E21-561B-41F1-A06E-DE3C64EE1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5ED1-8AA2-4865-97BD-F586A9883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fisher@e1b.org" TargetMode="External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cobedotechtalk.edublogs.org/2009/03/18/using-flip-cameras-in-your-classroom/" TargetMode="External"/><Relationship Id="rId2" Type="http://schemas.openxmlformats.org/officeDocument/2006/relationships/hyperlink" Target="http://escobedotechtalk.edublogs.org/files/2009/03/pulling-videos-from-flip.pdf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therpad.com/rbisms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Broadway"/>
              </a:rPr>
              <a:t>RBIS</a:t>
            </a:r>
            <a:br>
              <a:rPr sz="6600"/>
            </a:br>
            <a:r>
              <a:rPr b="0" lang="en-US" sz="3600" spc="-1" strike="noStrike">
                <a:solidFill>
                  <a:srgbClr val="ccecff"/>
                </a:solidFill>
                <a:latin typeface="Broadway"/>
              </a:rPr>
              <a:t>Research-Based Instructional Strategies</a:t>
            </a:r>
            <a:br>
              <a:rPr sz="3600"/>
            </a:br>
            <a:r>
              <a:rPr b="1" lang="en-US" sz="4000" spc="-1" strike="noStrike">
                <a:solidFill>
                  <a:srgbClr val="ccecff"/>
                </a:solidFill>
                <a:latin typeface="Broadway"/>
              </a:rPr>
              <a:t>Day 2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tarpoi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pecial Area Teachers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and Scienc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2009-201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z Fisher and Monica Daig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efisher@e1b.org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mdaigler@e1b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21-7385   821-70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, Cues, and Advance Organizer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Lear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izing and Note-tak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ce Organiz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itory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students to skim (SQ3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ight this look like in your classroom/content ar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te-Ta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Heidi Hayes Jacobs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Learning – 4 grou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Cooperative Learning and look like in your classroom/content area? AND how do you group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Activ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ip Came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scobedotechtalk.edublogs.org/2009/03/18/using-flip-cameras-in-your-classro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escobedotechtalk.edublogs.org/files/2009/03/pulling-videos-from-flip.p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ign Languag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Strateg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therpad.com/rbism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and C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-wait time, higher level requiring students to think (inferential questions) – pgs 270-2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es – tapping into background and prior knowledge, helps establishes expectations for students – pgs 267-2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02T19:10:57Z</dcterms:modified>
  <cp:revision>46</cp:revision>
  <dc:subject/>
  <dc:title>Slide 1</dc:title>
</cp:coreProperties>
</file>