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9A3-9FF1-4646-A97B-4546A515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A48-71E9-42EA-9FAA-3B054987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0A7-FE06-47BE-956B-B2BA3CA1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E72-8111-441F-893E-709237AE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4E4-8E60-4ADD-9850-58CF92A8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0F3E-C7EA-4C27-8B95-717A5290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2B55-408C-4A33-ACAF-6CCE3C8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8C7E-FE80-459D-8133-C85FDC7A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572-5776-4C03-B88E-3CEC9F0D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AEC6-5F89-4954-A7C4-1FB55CB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4617-091F-43CC-A027-EFE099A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2CB-2F7E-4F20-A17F-BF2905A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1A6C-7B83-426E-9B0B-7805D10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3F07-D301-4F95-8597-6E68F4BA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7CE-5A90-4D38-9AC6-61DE4B95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8689-8A61-40EE-B00A-B4BE2CC8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5239-EC40-4513-9032-8E191911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A60-DC3B-4749-83A5-C3894E8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46F-4145-48BD-869B-00C1468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F9A-1C34-4AD0-ABBA-AE5759A8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B72-B1AB-4FE3-BA16-3995CDFF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F7B-DCCE-4D27-84D1-9AAB0DC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80A-DD8D-4D03-A62D-DCB0448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3A3-DB09-4103-A873-69B0309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249C-CF7C-41E3-8A54-CD7D8A1D2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F667-0163-4E88-A914-3F7655603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fisher@e1b.org" TargetMode="External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cobedotechtalk.edublogs.org/2009/03/18/using-flip-cameras-in-your-classroom/" TargetMode="External"/><Relationship Id="rId2" Type="http://schemas.openxmlformats.org/officeDocument/2006/relationships/hyperlink" Target="http://escobedotechtalk.edublogs.org/files/2009/03/pulling-videos-from-flip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therpad.com/rbism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Broadway"/>
              </a:rPr>
              <a:t>RBIS</a:t>
            </a:r>
            <a:br>
              <a:rPr sz="6600"/>
            </a:br>
            <a:r>
              <a:rPr b="0" lang="en-US" sz="3600" spc="-1" strike="noStrike">
                <a:solidFill>
                  <a:srgbClr val="ccecff"/>
                </a:solidFill>
                <a:latin typeface="Broadway"/>
              </a:rPr>
              <a:t>Research-Based Instructional Strategies</a:t>
            </a: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Broadway"/>
              </a:rPr>
              <a:t>Day 2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tarpoi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pecial Area Teacher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and Scienc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2009-201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z Fisher and Monica Daig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fisher@e1b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daigler@e1b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1-7385   821-70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Cues, and Advance Organize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Lear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izing and Note-tak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ce Organiz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tory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students to skim (SQ3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ight this look like in your classroom/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-T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Heidi Hayes Jacob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Learning – 4 grou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ooperative Learning and look like in your classroom/content area? AND how do you group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scobedotechtalk.edublogs.org/2009/03/18/using-flip-cameras-in-your-class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escobedotechtalk.edublogs.org/files/2009/03/pulling-videos-from-flip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Strate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therpad.com/rbis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and C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-wait time, higher level requiring students to think (inferential questions) – pgs 270-2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es – tapping into background and prior knowledge, helps establishes expectations for students – pgs 267-2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02T19:10:57Z</dcterms:modified>
  <cp:revision>46</cp:revision>
  <dc:subject/>
  <dc:title>Slide 1</dc:title>
</cp:coreProperties>
</file>