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58A-B4D7-49AB-8266-B62C4054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606-85C7-4C79-86FF-A19831B0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C06-EE0A-49E2-B117-CBBC137A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07C-26B6-4BD0-83B5-09E6C731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BA4D-1528-4E5D-ABED-A2157A98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1A89-61C4-4F51-B915-57AED359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C805-05D5-4E8C-B582-2327DBC8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E457-95CF-4026-9F18-BD2A2A23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A7E9-3894-4815-9024-834AF26B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1711-0DD6-41B0-877B-1BA80125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DF71-5094-4AC5-961B-7E714718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2A2-EDC0-4227-BCD4-385EC470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8851-9DAF-4868-867A-2E63CC3B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680D-BF6A-4E41-8009-994E86C3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6AC7-35A2-4827-9178-9A6798AB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B411-A815-49A5-B6AC-2BA82627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F41F-E5CC-48B0-8536-BF9C0629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33E-FAE8-48C9-A6B2-F728EB79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9DE-2C30-48BD-9D6E-FC2C7EC3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006-39D0-42C1-8FF1-1B4BD906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DC3-4636-40EB-AB87-DDC164FD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157-9AAF-4825-BE42-3FC9F878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956-EA75-41B2-A833-26DB44C8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471F-B07B-4893-AA96-DABEB5F2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147B-4559-4118-B192-2294065F8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FDC3-A99F-41F1-8EA1-05FF2161B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fisher@e1b.org" TargetMode="External"/><Relationship Id="rId2" Type="http://schemas.openxmlformats.org/officeDocument/2006/relationships/hyperlink" Target="mailto:mdaigler@e1b.org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scobedotechtalk.edublogs.org/2009/03/18/using-flip-cameras-in-your-classroom/" TargetMode="External"/><Relationship Id="rId2" Type="http://schemas.openxmlformats.org/officeDocument/2006/relationships/hyperlink" Target="http://escobedotechtalk.edublogs.org/files/2009/03/pulling-videos-from-flip.pdf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therpad.com/rbisms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Broadway"/>
              </a:rPr>
              <a:t>RBIS</a:t>
            </a:r>
            <a:br>
              <a:rPr sz="6600"/>
            </a:br>
            <a:r>
              <a:rPr b="0" lang="en-US" sz="3600" spc="-1" strike="noStrike">
                <a:solidFill>
                  <a:srgbClr val="ccecff"/>
                </a:solidFill>
                <a:latin typeface="Broadway"/>
              </a:rPr>
              <a:t>Research-Based Instructional Strategies</a:t>
            </a:r>
            <a:br>
              <a:rPr sz="3600"/>
            </a:br>
            <a:r>
              <a:rPr b="1" lang="en-US" sz="4000" spc="-1" strike="noStrike">
                <a:solidFill>
                  <a:srgbClr val="ccecff"/>
                </a:solidFill>
                <a:latin typeface="Broadway"/>
              </a:rPr>
              <a:t>Day 2</a:t>
            </a:r>
            <a:br>
              <a:rPr sz="40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Starpoi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Special Area Teachers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and Science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2009-2010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724280" y="487656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z Fisher and Monica Daig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efisher@e1b.org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; </a:t>
            </a:r>
            <a:r>
              <a:rPr b="0" lang="en-US" sz="16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mdaigler@e1b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21-7385   821-705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 was taken from presentations done by Debra Pickering (Spring 2005 Classroom Instruction That Works)and Bea McGarvey (Fall 2006 What Works in Schoo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room Instruction That Works – Robert J. Marzano, Debra J. Pickering, Jane E. Pollu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andbook for Classroom Instruction That Works – Robert J. Marzano, Jennifer S. Norford, Diane E. Paynter, Debra J. Pickering, Barbara B. Gadd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rks in Schools – Robert J. Marz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, Cues, and Advance Organizer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operative Lear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otivational Strate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izing and Note-tak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ance Organiz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 representation of what students will learn (given BEFORE the lear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 essential information not unusual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sitory Organiz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 Organiz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students to skim (SQ3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might this look like in your classroom/content are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te-Tak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ied Cornell Notes (right and left bra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ion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-Pair-Share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83 in purple book and rubric on pg 9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Heidi Hayes Jacobs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operative Learning – 4 group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groups (outline, web, picture no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“What is Cooperative Learning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poster paper, create the assigned notes based on the artic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Group -- “Grouping Students”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(pros/c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Cooperative Learning and look like in your classroom/content area? AND how do you group your stud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perative Learning Activ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FU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ady to share in __________ min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nstruct activity and use rubr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ip Camer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escobedotechtalk.edublogs.org/2009/03/18/using-flip-cameras-in-your-classro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escobedotechtalk.edublogs.org/files/2009/03/pulling-videos-from-flip.p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s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ienc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eign Languag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perative Learning Strateg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article and brainstorm ways you could use any of them in your classroom/content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etherpad.com/rbism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and share your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and C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-wait time, higher level requiring students to think (inferential questions) – pgs 270-27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es – tapping into background and prior knowledge, helps establishes expectations for students – pgs 267-26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4:28:50Z</dcterms:created>
  <dc:creator>Elizabeth Fisher</dc:creator>
  <dc:description/>
  <dc:language>en-US</dc:language>
  <cp:lastModifiedBy>Monica Burgio Daigler</cp:lastModifiedBy>
  <dcterms:modified xsi:type="dcterms:W3CDTF">2009-10-02T19:10:57Z</dcterms:modified>
  <cp:revision>46</cp:revision>
  <dc:subject/>
  <dc:title>Slide 1</dc:title>
</cp:coreProperties>
</file>