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A4C-1331-43A4-8EFE-BB35A884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DA0-3458-4676-957A-A230EF38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D11-235A-4276-85C0-A59FA22A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E91-745F-4B10-9450-58305EAF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3E5F5-903C-4FC9-B391-41BC8A04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CE6B9-2DE8-41F1-AC11-BE5DC979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91D45-A8BB-4519-A0FD-84164421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F8F80-F849-4368-B3A4-557E0FCE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B0B99-7D60-46AB-9468-D0078913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2CC33-6EF3-4A87-8C85-ED195D75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0BA12-1E8B-4C41-81D9-E53FFC32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E61-2F7F-4E83-8897-B8FE8003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7A699-524F-43D9-80BD-984DB113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794CD-0934-4AE9-A63B-07B1B9F6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244B0-8397-41BF-9DBB-D5EA863D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A130B-A736-4AF7-8267-09D92360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7D754-91E3-4010-B617-74FA2B46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E24-DA31-4A37-B4D9-B3701B4B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886-CCC4-4CEC-993D-72B5BB6A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DB8-4B89-4160-8A73-33E11BD4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43D-76FC-49C1-A021-64D673F1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D31-0A47-48E4-A515-BE86073E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B64-69B1-41F7-9033-A1EB0404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94C-07AC-4C04-A23F-0270D1E9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0900-27B7-47A4-8C16-3D984137A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5060-7E90-4935-B3BB-F2B7FF785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therpad.com/rbish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RBIS</a:t>
            </a:r>
            <a:br>
              <a:rPr sz="5400"/>
            </a:b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Research-Based Instructional Strategies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Day 2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tarpoi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ci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2009-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ica Daig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daigler@e1b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21-70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, Cues,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vance Organiz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operative Learning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mmarizing and Note-taking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vance Organiz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 students to skim (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Q3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e-Ta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operative Learning – 4 grou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Cooperative Learning look like in your classroom? AND how do you group your stud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ve Learning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ready to share in __________ minu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onstruct activity and use rubr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ip Camer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ve Learning Strateg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article and brainstorm ways you could use any of them in your classroom/content 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etherpad.com/rbish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nd share your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 Daigler</cp:lastModifiedBy>
  <dcterms:modified xsi:type="dcterms:W3CDTF">2009-10-21T18:58:49Z</dcterms:modified>
  <cp:revision>50</cp:revision>
  <dc:subject/>
  <dc:title>Slide 1</dc:title>
</cp:coreProperties>
</file>