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B8C0-A4A3-441B-8A4E-FFC72B6F8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A0B7-1C6D-49A3-AFD9-22B9169B0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0B3B-64E6-4B2D-BB42-0897AD952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C28F-9DB0-4F8E-A1C9-3FDD5B8AC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F1FAC4-F463-4E11-8BA8-636CC4A8A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35FF8D-8E07-4843-9BC9-DF0F22D3E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FE6A45-8863-4A2A-A594-FFCF9BC9A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D07456-34FD-4240-AC74-6832EBB88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1DF97B-192B-4202-A31E-C87E77108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5B15C6-CBD0-454A-AC2D-3C094F7BA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0F2417-20D4-4E25-8BEE-2C2CCF97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7734-04A0-4A06-9C6C-155EA49A2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B22EEC-3548-4AF2-87B4-3A1C43579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342620-9AE0-4C74-B7DC-19CFAADF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1160DD-AC5C-454D-A3A0-2F685EC26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F5D6A8-35A0-4C29-9021-8D124D8DF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D5E769-6566-4FF3-950F-0087B070B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4A2A-B256-4A5C-BAE7-B98F06AF5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1CA9-C6A0-443E-B85B-29F7F00BC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4514-B59B-439E-968E-C1480678C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F0EC-1A74-49A5-9BC9-57FE10BE5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C0BC-D30D-4679-8820-E557FB601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8DB2-BDD9-4072-8778-C22E2C66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BB32-0A20-40F9-9964-5C5CEA54E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24C4D-FFBC-4209-9C63-3183273AD5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005B8-90B0-4175-A3AD-FFCD61869C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mdaigler@e1b.org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therpad.com/rbishs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3581280"/>
            <a:ext cx="8839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roadway"/>
              </a:rPr>
              <a:t>RBIS</a:t>
            </a:r>
            <a:br>
              <a:rPr sz="5400"/>
            </a:br>
            <a:r>
              <a:rPr b="0" lang="en-US" sz="2800" spc="-1" strike="noStrike">
                <a:solidFill>
                  <a:srgbClr val="ffffff"/>
                </a:solidFill>
                <a:latin typeface="Broadway"/>
              </a:rPr>
              <a:t>Research-Based Instructional Strategies</a:t>
            </a:r>
            <a:br>
              <a:rPr sz="2800"/>
            </a:br>
            <a:r>
              <a:rPr b="1" lang="en-US" sz="3200" spc="-1" strike="noStrike">
                <a:solidFill>
                  <a:srgbClr val="ffffff"/>
                </a:solidFill>
                <a:latin typeface="Broadway"/>
              </a:rPr>
              <a:t>Day 2</a:t>
            </a:r>
            <a:br>
              <a:rPr sz="3200"/>
            </a:b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Starpoin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Scienc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2009-201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724280" y="4876560"/>
            <a:ext cx="4114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onica Daigl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mdaigler@e1b.or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821-705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oda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uestions, Cues, and 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Advance Organizers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Academic Strategy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ooperative Learning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(Motivational Strategy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Summarizing and Note-taking 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(Academic Strategy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dvance Organiz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aphic representation of what students will learn (given BEFORE the learning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cludes essential information not unusual inform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ach students to skim (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Q3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ote-Tak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1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dified Cornell Notes (right and left brai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flection Ques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nk-Pair-Share Activ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g 83 in purple book and rubric on pg 90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operative Learning – 4 group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 groups (outline, web, picture not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ad “What is Cooperative Learning?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 poster paper, create the assigned notes based on the articl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Group -- “Grouping Students” activ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are (pros/con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es Cooperative Learning look like in your classroom? AND how do you group your student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operative Learning Activ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VE FUN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 ready to share in __________ minut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construct activity and use rubri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lip Camera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operative Learning Strategi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ad article and brainstorm ways you could use any of them in your classroom/content are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 to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http://etherpad.com/rbishs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and share your ide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cknowledgemen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terial was taken from presentations done by Debra Pickering (Spring 2005 Classroom Instruction That Works)and Bea McGarvey (Fall 2006 What Works in School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assroom Instruction That Works – Robert J. Marzano, Debra J. Pickering, Jane E. Pollu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Handbook for Classroom Instruction That Works – Robert J. Marzano, Jennifer S. Norford, Diane E. Paynter, Debra J. Pickering, Barbara B. Gadd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Works in Schools – Robert J. Marza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7T14:28:50Z</dcterms:created>
  <dc:creator>Elizabeth Fisher</dc:creator>
  <dc:description/>
  <dc:language>en-US</dc:language>
  <cp:lastModifiedBy>Monica Burgio Daigler</cp:lastModifiedBy>
  <dcterms:modified xsi:type="dcterms:W3CDTF">2009-10-21T18:58:49Z</dcterms:modified>
  <cp:revision>50</cp:revision>
  <dc:subject/>
  <dc:title>Slide 1</dc:title>
</cp:coreProperties>
</file>