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066-93EC-458F-893F-03F49EE9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8AC-24A7-4F2A-95CA-B9BB5AEC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7B2-760D-44C9-92C0-B0EC58EE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1B6-F6C0-4AD3-8CB3-62B42F74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28459-6A99-4E12-BA52-6B2EE007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0C2CC-361C-4DA7-AB2F-AFB95F6A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0F1F0-29FD-4BA4-B5C2-489EF24F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1F9C3-5B9E-45DC-AC1E-8B0E5E48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414A8-CDFC-4591-8999-5B416DC3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632DB-E42C-4F1F-A4DC-95906DB6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FEB1B-DE9F-44D6-A38C-C55FA64D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7F1-DDA6-4D0B-90A5-D0646976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29DA8-D388-4B63-9FD3-D0D8C3D5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2FF64-75CC-48DF-B4CB-CA0EBD7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FBD44-13C4-42D0-8AE2-B3A239D4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565A7-4E89-4B43-929C-AB5AEDAA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67C17-9CD4-4B5E-849D-5526C4D1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88D-28A4-4E4F-A609-7F37A6DC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061-E246-4210-B81B-8BE2615D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5AC-E0E8-470B-BFCF-D7E932CE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EBA-2EB3-4D84-A87E-F5ED9F2E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A19-C545-4283-BD32-57BACA5C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4EB-DD8E-40AD-94DF-D4AD20B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ACB-157F-4AA7-B12B-4FEFD3CE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2ECE-D3F7-44D6-9F5D-69207650E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D8BA-EB59-4EF8-B9E9-5222202FD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therpad.com/rbish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RBIS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Research-Based Instructional Strategies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Day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tarpoi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ci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009-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ca Daig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daigler@e1b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21-70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, Cues,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vance Organiz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operative Learning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izing and Note-taking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 students to skim (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Q3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-Ta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ve Learning – 4 grou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ooperative Learning look like in your classroom? AND how do you group your stud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ip Came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Strateg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etherpad.com/rbish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21T18:58:49Z</dcterms:modified>
  <cp:revision>50</cp:revision>
  <dc:subject/>
  <dc:title>Slide 1</dc:title>
</cp:coreProperties>
</file>