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E35-DF73-439A-87CF-E9C0C085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D6B-27B2-4C4A-96A9-45C6B05C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794-2557-48D3-9581-DECDA120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B1BF-3519-416F-8790-56B64F1D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42418-AB03-4BE7-AE7F-B729584D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8C62D-AB4F-4097-8C57-E680A909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CB806-2BB4-40DC-9531-0AA725A1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E604C-62CA-4B77-B633-E62B88E6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3EFD4-4365-4C1A-BDB3-D8E5B8ED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D1CD0-905C-4997-A862-3C8F9240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8F6B4-90CB-455D-BE29-21892172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B0CD-904B-4506-9314-7B8A6561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5F378-E2CA-4285-BF2A-F8729504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6F3C4-06C0-4625-BDA7-B5675D81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50478-6AF0-43F5-9217-C3EC416B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D9F8D-52E2-4F09-AEB2-F523CC8E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B5A09-05D8-49F4-AA8D-EB3216CC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F8A-9837-4834-86F8-0B4D44BC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A28-8D4A-46D1-B786-C8E893CA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6D8-B085-4F83-9972-D3EE77D1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4C3-C7E6-489D-A329-0D609FA2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39A-21C8-4549-8BF3-85D68009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041-9C27-4E38-8895-51219335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59E-CF4C-4384-9002-96CD5ED3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2AAD-1B27-415D-8421-9A4D0C074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A55B-CD4D-40F8-A2E1-147E61F61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daigler@e1b.org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therpad.com/rbishs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oadway"/>
              </a:rPr>
              <a:t>RBIS</a:t>
            </a:r>
            <a:br>
              <a:rPr sz="5400"/>
            </a:b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Research-Based Instructional Strategies</a:t>
            </a: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Broadway"/>
              </a:rPr>
              <a:t>Day 2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tarpoi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cien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2009-20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724280" y="487656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ica Daigl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mdaigler@e1b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21-705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, Cues, and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vance Organize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operative Learning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Motivational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mmarizing and Note-taking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vance Organiz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phic representation of what students will learn (given BEFORE the learn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s essential information not unusual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 students to skim (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Q3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te-Tak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1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ed Cornell Notes (right and left brai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ion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-Pair-Share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g 83 in purple book and rubric on pg 9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operative Learning – 4 group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groups (outline, web, picture no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“What is Cooperative Learning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poster paper, create the assigned notes based on the artic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Group -- “Grouping Students”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(pros/c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Cooperative Learning look like in your classroom? AND how do you group your stud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operative Learning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FU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ready to share in __________ minu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onstruct activity and use rubr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ip Camer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operative Learning Strateg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article and brainstorm ways you could use any of them in your classroom/content a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etherpad.com/rbish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nd share your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 was taken from presentations done by Debra Pickering (Spring 2005 Classroom Instruction That Works)and Bea McGarvey (Fall 2006 What Works in School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room Instruction That Works – Robert J. Marzano, Debra J. Pickering, Jane E. Pollu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andbook for Classroom Instruction That Works – Robert J. Marzano, Jennifer S. Norford, Diane E. Paynter, Debra J. Pickering, Barbara B. Gadd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orks in Schools – Robert J. Marz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4:28:50Z</dcterms:created>
  <dc:creator>Elizabeth Fisher</dc:creator>
  <dc:description/>
  <dc:language>en-US</dc:language>
  <cp:lastModifiedBy>Monica Burgio Daigler</cp:lastModifiedBy>
  <dcterms:modified xsi:type="dcterms:W3CDTF">2009-10-21T18:58:49Z</dcterms:modified>
  <cp:revision>50</cp:revision>
  <dc:subject/>
  <dc:title>Slide 1</dc:title>
</cp:coreProperties>
</file>