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39C-301E-47BB-A52A-0600D197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AB4-44FD-439E-A7F6-CAA2C1C9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B50-BED0-48EC-9DC9-CD160B6D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188-923F-4C4E-93D9-EF62B9F7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8010-61CD-4528-A717-5E1FEE6C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922B-F828-4408-83DC-A96544C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FFF4-D977-4EF4-B6C9-EE6401FF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2CC1-A3A4-4802-9219-ABA6B2B2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B34-47D9-460F-8526-FADDB10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7C74-5586-492B-B426-02691CAA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F82-8BD9-42FF-8BBE-868CD03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FF2-DD52-4D24-85B7-87B459AF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AF1-4B46-4437-B33C-005ABDE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7E47-AC0D-4C44-B88E-D3372DA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BBF8-FEBE-4E38-AF5E-358FB81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B05-FD99-4B60-ABFE-46E30B96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5BC-B73C-4900-982A-8F0A588C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BA5-0553-4242-A354-553C6054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A9E-C5EE-418A-90BC-D523088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C24-FB79-4C6B-BC50-AA004C6A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A16-4D54-498C-B875-FD64D4BB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A12-AA11-4E58-8093-7A05C28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322-0EA7-4A1E-A75A-05D3160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9AC-F5AA-4CFC-B124-0ACA38C7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46C1-C868-4530-9860-88DD1A509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8C7-01E3-473A-B0D4-6AF51DB5C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fisher@e1b.org" TargetMode="External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cobedotechtalk.edublogs.org/2009/03/18/using-flip-cameras-in-your-classroom/" TargetMode="External"/><Relationship Id="rId2" Type="http://schemas.openxmlformats.org/officeDocument/2006/relationships/hyperlink" Target="http://escobedotechtalk.edublogs.org/files/2009/03/pulling-videos-from-flip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therpad.com/rbism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Broadway"/>
              </a:rPr>
              <a:t>RBIS</a:t>
            </a:r>
            <a:br>
              <a:rPr sz="6600"/>
            </a:br>
            <a:r>
              <a:rPr b="0" lang="en-US" sz="3600" spc="-1" strike="noStrike">
                <a:solidFill>
                  <a:srgbClr val="ccecff"/>
                </a:solidFill>
                <a:latin typeface="Broadway"/>
              </a:rPr>
              <a:t>Research-Based Instructional Strategies</a:t>
            </a: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Broadway"/>
              </a:rPr>
              <a:t>Day 2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tarpoi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Special Area Teachers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and Scienc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Franklin Gothic Book"/>
              </a:rPr>
              <a:t>2009-201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z Fisher and Monica Daig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fisher@e1b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daigler@e1b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21-7385   821-70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Cues, and Advance Organize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operative Lear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izing and Note-tak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ance Organiz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itory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students to skim (SQ3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ight this look like in your classroom/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-T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Heidi Hayes Jacob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Learning – 4 grou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Cooperative Learning and look like in your classroom/content area? AND how do you group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Activ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to share in __________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 activity and use rubr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scobedotechtalk.edublogs.org/2009/03/18/using-flip-cameras-in-your-classro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escobedotechtalk.edublogs.org/files/2009/03/pulling-videos-from-flip.p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Languag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perative Learning Strate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article and brainstorm ways you could use any of them in your classroom/conten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therpad.com/rbism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nd share your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and C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-wait time, higher level requiring students to think (inferential questions) – pgs 270-2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es – tapping into background and prior knowledge, helps establishes expectations for students – pgs 267-2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 Daigler</cp:lastModifiedBy>
  <dcterms:modified xsi:type="dcterms:W3CDTF">2009-10-02T19:10:57Z</dcterms:modified>
  <cp:revision>46</cp:revision>
  <dc:subject/>
  <dc:title>Slide 1</dc:title>
</cp:coreProperties>
</file>