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10C-1A2C-4B9B-A339-80AAA8BF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3DE-636D-40E6-85BB-E2E27006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5DA-83DE-45A9-B7A3-589543DB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D9B-DEFC-4AEA-8600-48925A21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93B26-DE80-45FD-A1AA-518F0EFF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DDB9-CA83-4957-9BB0-F8E6909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33F5A-1160-4884-8AFD-EECE9F8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FE69A-51AF-4679-AF71-053E792E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5D88-EDAE-4B8C-9AFB-0D912E00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37593-E8DE-4C88-A1B3-87280540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D2899-9F8A-465F-93EE-40EB7AD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2D0-E136-4B2D-A5F1-C91EBA90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EF625-6C0A-41DE-B4B0-2DB387C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B095C-12D7-48A2-87CA-3608E03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29D5E-003F-4742-9E0D-A2512C2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04372-5E03-4344-819C-905B9912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FC921-DB54-4D0E-9FE3-6481890F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CC2-FF3A-4CE6-BF28-3411AAA3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E45-582D-456F-AB8A-42E7E15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FBA-1730-48A7-9162-D7ED39DD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9C3-591D-4F14-9920-5749EBF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03F-989B-4346-8C42-2B6D6A51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95D-6399-4634-8725-3EAD39E0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7C3-3608-4F20-A940-2097C9A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9CF-D985-496E-85F9-C149B96E4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38D-7CDD-4C06-99A7-DE3E9857C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therpad.com/rbish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ci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09-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ip Came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perative Learning Strateg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etherpad.com/rbish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21T18:58:49Z</dcterms:modified>
  <cp:revision>50</cp:revision>
  <dc:subject/>
  <dc:title>Slide 1</dc:title>
</cp:coreProperties>
</file>