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C96-B6BF-47C4-B614-2C46FBD2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9C3-BC56-414A-B2EA-C9F0658F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F2A-EDFF-4428-ADDF-C2CFC660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573-45A7-4CAB-A8F8-C6295667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750-45EA-41B9-ACAC-7BF69B2C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202-8BC4-4336-92C6-3B551949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AAE-786B-4690-95F6-D799C859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1C2-B1B0-47E7-BEF4-41B50E8B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AF3-E955-45C4-8758-3B986288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CDC-F639-4663-9818-D354F68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FFB-C70E-4564-9B14-BE634CE0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74A-B179-4940-848A-3DFF35E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3BE1-187E-49B9-8974-52A2FFBF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67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acro-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105520" cy="501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Look at 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icro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6714"/>
            </a:gs>
            <a:gs pos="50000">
              <a:srgbClr val="ffff00"/>
            </a:gs>
            <a:gs pos="100000">
              <a:srgbClr val="fc67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873000"/>
            <a:ext cx="5867640" cy="521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rite on Post It and Stick to the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nk (k-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(3-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llow (6-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en (9-1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Use Map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GRADE AND SPORT/ACTIVITY on post-it notes and length of time to 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post-its on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sequence of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and Sequence/every oth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"/>
              </a:rPr>
              <a:t>Fitness Unit K-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als/vis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E pro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should commencement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affold backward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Goals Next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8:29:30Z</dcterms:created>
  <dc:creator>Monica Daigler</dc:creator>
  <dc:description/>
  <dc:language>en-US</dc:language>
  <cp:lastModifiedBy>Monica Daigler</cp:lastModifiedBy>
  <dcterms:modified xsi:type="dcterms:W3CDTF">2009-03-13T15:10:55Z</dcterms:modified>
  <cp:revision>4</cp:revision>
  <dc:subject/>
  <dc:title>Look at Microview</dc:title>
</cp:coreProperties>
</file>