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0CD-FD6A-46C0-8366-FC0AE934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66E-C75B-47E3-B8D5-84577184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3A5-6FF5-4013-A8BA-ECF46FA6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EDA-94CF-4800-8880-CDD6A4E1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2C1-3BB8-449B-A748-B5781E75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9C0-62CF-406D-9496-E918F679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6D0-044F-46A4-A764-BE50026B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BEA-5736-433C-9BB2-13442F21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B97-D00D-4C74-BD0D-DEB379FF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3ED-FF4F-4D21-8BCB-689E92B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BC5-A99B-4F7A-B63F-23D6A1F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737-2C9A-4E0E-9385-D154BC9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96F0-C088-4F84-924D-CB9A9D30D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67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acro-re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105520" cy="501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Look at 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icro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6714"/>
            </a:gs>
            <a:gs pos="50000">
              <a:srgbClr val="ffff00"/>
            </a:gs>
            <a:gs pos="100000">
              <a:srgbClr val="fc67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873000"/>
            <a:ext cx="5867640" cy="521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rite on Post It and Stick to the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nk (k-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(3-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llow (6-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en (9-1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Use Map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down GRADE AND SPORT/ACTIVITY on post-it notes and length of time to 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post-its on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at sequence of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and Sequence/every oth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Arial"/>
              </a:rPr>
              <a:t>Fitness Unit K-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als/vis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E pro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should commencement look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affold backward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…Goals Next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8:29:30Z</dcterms:created>
  <dc:creator>Monica Daigler</dc:creator>
  <dc:description/>
  <dc:language>en-US</dc:language>
  <cp:lastModifiedBy>Monica Daigler</cp:lastModifiedBy>
  <dcterms:modified xsi:type="dcterms:W3CDTF">2009-03-13T15:10:55Z</dcterms:modified>
  <cp:revision>4</cp:revision>
  <dc:subject/>
  <dc:title>Look at Microview</dc:title>
</cp:coreProperties>
</file>