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495-4C1B-401E-898F-7CF5C128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865-70AD-4797-9B90-D2C644BC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7BB-829B-496F-8122-FD10433A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702C-B5C0-4A45-A046-8D0E7886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91F-28DB-43E9-829B-AE5913CB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82E-0564-40DC-B471-DF488F8D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285-EC33-49E0-BC50-0D74F6A6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62C-6DD1-4C0D-A68D-35BD7C3B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F515-283A-4215-A64A-03BA0B0D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A228-83D9-4D7B-BC46-891BAA33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03D9-B8B3-42B9-8734-A8DC431C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3AC-3C63-4109-BA16-A3B7F406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4306-E8D2-4DA5-9273-98A0BE1F9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67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600"/>
            </a:b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Macro-review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5105520" cy="5019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Look at </a:t>
            </a:r>
            <a:br>
              <a:rPr sz="10600"/>
            </a:b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Microview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6714"/>
            </a:gs>
            <a:gs pos="50000">
              <a:srgbClr val="ffff00"/>
            </a:gs>
            <a:gs pos="100000">
              <a:srgbClr val="fc67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873000"/>
            <a:ext cx="5867640" cy="5211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Write on Post It and Stick to the P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ink (k-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ue (3-5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Yellow (6-8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een (9-1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Use Map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41044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e down GRADE AND SPORT/ACTIVITY on post-it notes and length of time to 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t post-its on poster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 at sequence of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ve unneeded repe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pe and Sequence/every other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Arial"/>
              </a:rPr>
              <a:t>Fitness Unit K-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oals/vis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ok at PE profi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should commencement look lik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caffold backward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…Goals Next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8:29:30Z</dcterms:created>
  <dc:creator>Monica Daigler</dc:creator>
  <dc:description/>
  <dc:language>en-US</dc:language>
  <cp:lastModifiedBy>Monica Daigler</cp:lastModifiedBy>
  <dcterms:modified xsi:type="dcterms:W3CDTF">2009-03-13T15:10:55Z</dcterms:modified>
  <cp:revision>4</cp:revision>
  <dc:subject/>
  <dc:title>Look at Microview</dc:title>
</cp:coreProperties>
</file>