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7C6-6481-43C7-AA1C-F6DD6080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0BF-DC09-4CDE-8789-13699F12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22F-0D50-42FE-BABE-96E1CAD2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693-3A05-4834-ABD7-99D550D2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B06-73F5-494F-AE39-54850A9F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7D6-B67C-4713-BE85-0FC41645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E3E-4B64-45EC-8511-ABE10CBE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85C-F7E1-4376-BA1A-51D8EBF8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329-C3B7-43DC-B9A6-51A84755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426-B28C-44BD-9ECE-1EBBE48D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781-972C-4705-953D-D93EE639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1F2-F43F-4C38-ADD4-661ED8B9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99BE-BD5B-4518-A921-E45BBE966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67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acro-re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105520" cy="5019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Look at 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icro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6714"/>
            </a:gs>
            <a:gs pos="50000">
              <a:srgbClr val="ffff00"/>
            </a:gs>
            <a:gs pos="100000">
              <a:srgbClr val="fc67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873000"/>
            <a:ext cx="5867640" cy="521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rite on Post It and Stick to the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ink (k-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(3-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ellow (6-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een (9-1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Use Map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down GRADE AND SPORT/ACTIVITY on post-it notes and length of time to 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post-its on poste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at sequence of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and Sequence/every other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Arial"/>
              </a:rPr>
              <a:t>Fitness Unit K-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als/vis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PE prof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should commencement look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caffold backward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…Goals Next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8:29:30Z</dcterms:created>
  <dc:creator>Monica Daigler</dc:creator>
  <dc:description/>
  <dc:language>en-US</dc:language>
  <cp:lastModifiedBy>Monica Daigler</cp:lastModifiedBy>
  <dcterms:modified xsi:type="dcterms:W3CDTF">2009-03-13T15:10:55Z</dcterms:modified>
  <cp:revision>4</cp:revision>
  <dc:subject/>
  <dc:title>Look at Microview</dc:title>
</cp:coreProperties>
</file>