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D5C1-2359-4B6F-8CD5-E9FE10EF1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C821-9D31-4DA6-9314-E4A1F82D3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5310-12E1-4C28-8309-6AE265533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9A94-796A-4E90-9AF0-3259ED58F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EF71-C21A-466C-AB15-23EE63A0F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D89E-9EA7-409F-9045-6EFA4F0D7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80B9-0E1D-4ECC-B650-9BF4A0345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0064-27B2-489C-8F6B-268D0880D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EE26-5CB9-42B3-A4E8-1AD0EC01E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152D-9379-4852-9CA6-141A94B7A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98AD-0161-48C8-9561-90AA4C4A2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ED61-9FB6-4F6F-A8D3-A0D6E8D1D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4C616-EAA3-4B9E-90CB-177DE986B0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671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676520" y="304920"/>
            <a:ext cx="5715000" cy="56196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212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600"/>
            </a:br>
            <a:r>
              <a:rPr b="0" lang="en-US" sz="10600" spc="-1" strike="noStrike">
                <a:solidFill>
                  <a:srgbClr val="ffffff"/>
                </a:solidFill>
                <a:latin typeface="Arial"/>
              </a:rPr>
              <a:t>Macro-review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286000" y="304920"/>
            <a:ext cx="5105520" cy="50194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212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ffff"/>
                </a:solidFill>
                <a:latin typeface="Arial"/>
              </a:rPr>
              <a:t>Look at </a:t>
            </a:r>
            <a:br>
              <a:rPr sz="10600"/>
            </a:br>
            <a:r>
              <a:rPr b="0" lang="en-US" sz="10600" spc="-1" strike="noStrike">
                <a:solidFill>
                  <a:srgbClr val="ffffff"/>
                </a:solidFill>
                <a:latin typeface="Arial"/>
              </a:rPr>
              <a:t>Microview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6714"/>
            </a:gs>
            <a:gs pos="50000">
              <a:srgbClr val="ffff00"/>
            </a:gs>
            <a:gs pos="100000">
              <a:srgbClr val="fc671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52480" y="873000"/>
            <a:ext cx="5867640" cy="52117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Write on Post It and Stick to the Po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Pink (k-2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lue (3-5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Yellow (6-8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Green (9-12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Arial"/>
              </a:rPr>
              <a:t>Use Maps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752480" y="1219320"/>
            <a:ext cx="5410440" cy="54100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rite down GRADE AND SPORT/ACTIVITY on post-it notes and length of time to 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ut post-its on poster 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ook at sequence of un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move unneeded repet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d un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cope and Sequence/every other yea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ff"/>
                </a:solidFill>
                <a:latin typeface="Arial"/>
              </a:rPr>
              <a:t>Fitness Unit K-1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Goals/vision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ook at PE profi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hat should commencement look like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caffold backwards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 Steps…Goals Next Ye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18:29:30Z</dcterms:created>
  <dc:creator>Monica Daigler</dc:creator>
  <dc:description/>
  <dc:language>en-US</dc:language>
  <cp:lastModifiedBy>Monica Daigler</cp:lastModifiedBy>
  <dcterms:modified xsi:type="dcterms:W3CDTF">2009-03-13T15:10:55Z</dcterms:modified>
  <cp:revision>4</cp:revision>
  <dc:subject/>
  <dc:title>Look at Microview</dc:title>
</cp:coreProperties>
</file>