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B7B1-35E0-49BF-BA2B-13CE2785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7B9-3F41-4712-99EB-4D4B8E76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4135-2B9A-421F-8591-58CC9EC2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7B0D-AD58-4A7C-86AF-62B064EF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224A-6AD4-4A6F-B256-25D1C900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575-4BDC-4D30-9EB9-1C441C9F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2D38-A6B1-4C32-829E-E16A6B34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B16-C7CF-4492-A842-7C81A607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2D8-32F0-4061-B6E3-F9D7A51D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F6D-4DDD-4FEA-959E-98EF77C1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C330-AAEA-4B20-9F47-08B919CD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72C-1FF9-4E8C-96D9-C50BDF84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82D7-08AA-4BED-89E4-1792DFC7B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67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600"/>
            </a:b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Macro-review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5105520" cy="5019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Look at </a:t>
            </a:r>
            <a:br>
              <a:rPr sz="10600"/>
            </a:b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Microview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6714"/>
            </a:gs>
            <a:gs pos="50000">
              <a:srgbClr val="ffff00"/>
            </a:gs>
            <a:gs pos="100000">
              <a:srgbClr val="fc67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873000"/>
            <a:ext cx="5867640" cy="5211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Write on Post It and Stick to the P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ink (k-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ue (3-5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Yellow (6-8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een (9-1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Use Map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41044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e down GRADE AND SPORT/ACTIVITY on post-it notes and length of time to tea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t post-its on poster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 at sequence of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ve unneeded repet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ope and Sequence/every other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Arial"/>
              </a:rPr>
              <a:t>Fitness Unit K-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oals/vis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ok at PE profi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should commencement look lik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caffold backwards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…Goals Next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8:29:30Z</dcterms:created>
  <dc:creator>Monica Daigler</dc:creator>
  <dc:description/>
  <dc:language>en-US</dc:language>
  <cp:lastModifiedBy>Monica Daigler</cp:lastModifiedBy>
  <dcterms:modified xsi:type="dcterms:W3CDTF">2009-03-13T15:10:55Z</dcterms:modified>
  <cp:revision>4</cp:revision>
  <dc:subject/>
  <dc:title>Look at Microview</dc:title>
</cp:coreProperties>
</file>