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2D5-EE73-4402-BFEB-2689DB57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BC9-B8C9-466A-86A9-14F8E54E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C71-7DDC-4DB0-8583-1589C28B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78C-89D3-4C9E-88E2-B8403F5F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D23-B7D3-4B77-A234-F3520B47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422-6AA5-4574-96B5-A4BF2400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9B4-A09D-4B3A-8B95-FA8ED12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E2D-C7E1-407C-892D-3DCC687C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215-B889-4D47-BD71-31669730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1B2-F5B2-4ABF-9AC4-B561138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C2B-CD1A-46C2-B897-3F0495A3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C2A-DCD2-4CA9-B132-F727EA1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4990-383B-43ED-8FCA-7EC0E4FBA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CreditRecovery/cr_video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login/" TargetMode="External"/><Relationship Id="rId2" Type="http://schemas.openxmlformats.org/officeDocument/2006/relationships/hyperlink" Target="http://www.aventalearning.com/login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exlearning.com/demo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Lin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crease the Drop Out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8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nts Review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/ACT P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7925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 and Infor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On Jump Dr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YS alignment (600 p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ample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try i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in and password are the s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Needed?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for teachers,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s for summer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chools (for each Program – Aventa, Apex, F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aNet already a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ser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ecovery (Year around Summ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School (High School, Summer Schoo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en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In Class (Students re-enrolled after dropping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omore (Pre-Voc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(2nd Semester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8.5 (Socially Promoted 8th Gra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School (6th-8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ulsion School (In Lieu of Expulsion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bound Tutor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/Drug Rehab/Juvenile De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60958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of NovaNet/Pearson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685800"/>
            <a:ext cx="76960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skills of those in MS and HS so they can succ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nother option for Credit Recovery that is flexible and may help some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er electives that interest students that they might not offer under current schoo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v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0020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look yourself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Courses – includes Algebra I, Biology, Chemistry, Chinese I, Civics, English III, French III, Health, Spanish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aventademo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R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demoaccount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320" y="47242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or your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784520"/>
            <a:ext cx="46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ida Virtual Schoo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152388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34:51Z</dcterms:created>
  <dc:creator>Monica Daigler</dc:creator>
  <dc:description/>
  <dc:language>en-US</dc:language>
  <cp:lastModifiedBy>Monica Daigler</cp:lastModifiedBy>
  <dcterms:modified xsi:type="dcterms:W3CDTF">2009-05-19T19:35:22Z</dcterms:modified>
  <cp:revision>7</cp:revision>
  <dc:subject/>
  <dc:title>On-Line Learning</dc:title>
</cp:coreProperties>
</file>