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721-2B0D-404B-BCEF-5350144C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2F6-7037-48DA-8C9A-36494F0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D32-F6CF-4039-B0DC-BC8F2260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C7C-307F-4CA3-AE93-8F3F019F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532-9A59-4AD1-B953-3F6084B4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33B-4C8B-4F74-A291-B26367C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F14-61E7-48A8-A9B8-F8A17FE2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9D3-680E-4E56-B593-44966DB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7DE-A2BA-4EF3-8496-F41D26E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1D5-9E07-4EDC-9764-ACABED4B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E92-418C-458B-A7FF-11981737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9F9-1EA5-41AD-8899-39FB88B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DED6-7ED7-41A8-8BCD-D45FB795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CreditRecovery/cr_video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ventalearning.com/login/" TargetMode="External"/><Relationship Id="rId2" Type="http://schemas.openxmlformats.org/officeDocument/2006/relationships/hyperlink" Target="http://www.aventalearning.com/logi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pexlearning.com/demo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Lin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crease the Drop Out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nts Review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/ACT P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7925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 and Infor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n Jump Dr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YS alignment (600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ampl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try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in and password are the s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Needed?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for teachers,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s for summe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chools (for each Program – Aventa, Apex, FV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Net already a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erv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ecovery (Year around Summ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hool (High School, Summer Schoo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In Class (Students re-enrolled after dropping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omore (Pre-Voc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(2nd Semester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8.5 (Socially Promoted 8th Gra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School (6th-8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ulsion School (In Lieu of Expulsion 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bound Tu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/Drug Rehab/Juvenile De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60958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NovaNet/Pearson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685800"/>
            <a:ext cx="76960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skills of those in MS and HS so they can succ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nother option for Credit Recovery that is flexible and may help some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fer electives that interest students that they might not offer under current schoo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ve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0020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L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look yourself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ourses – includes Algebra I, Biology, Chemistry, Chinese I, Civics, English III, French III, Health, Spanish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aventademo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R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ventalearning.com/logi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D:  demoaccount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aventa1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0932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r your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784520"/>
            <a:ext cx="46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ida Virtual Schoo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52388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34:51Z</dcterms:created>
  <dc:creator>Monica Daigler</dc:creator>
  <dc:description/>
  <dc:language>en-US</dc:language>
  <cp:lastModifiedBy>Monica Daigler</cp:lastModifiedBy>
  <dcterms:modified xsi:type="dcterms:W3CDTF">2009-05-19T19:35:22Z</dcterms:modified>
  <cp:revision>7</cp:revision>
  <dc:subject/>
  <dc:title>On-Line Learning</dc:title>
</cp:coreProperties>
</file>