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065-E387-4CD2-B548-10A58140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91BE-56A2-4C7E-BD05-58F5151E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1B7D-5E3C-4800-81BB-A3549991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BAFB-DBD1-4192-82C7-151AA3F6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5A46-B4B3-41BA-9EA4-FE039891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817D-400A-457B-9771-8BD3C783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8701-061C-4F83-BF31-1DF3022E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CEDC-E51B-45E0-803F-9B933144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10C-947B-4AF4-942C-34AE63C1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3A51-F049-42FD-B711-97409BF4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6BD9-0DB9-4149-9CBF-F0EA90C7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440-2D9A-421D-BF98-D0B551C7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916F-6460-4BB2-B4F6-7FFD32EB9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ventalearning.com/CreditRecovery/cr_video.html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ventalearning.com/login/" TargetMode="External"/><Relationship Id="rId2" Type="http://schemas.openxmlformats.org/officeDocument/2006/relationships/hyperlink" Target="http://www.aventalearning.com/login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pexlearning.com/demo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n-Line Lear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Decrease the Drop Out 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48520" y="4191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9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61048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2" descr=""/>
          <p:cNvPicPr/>
          <p:nvPr/>
        </p:nvPicPr>
        <p:blipFill>
          <a:blip r:embed="rId1"/>
          <a:stretch/>
        </p:blipFill>
        <p:spPr>
          <a:xfrm>
            <a:off x="304920" y="0"/>
            <a:ext cx="868680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8" descr="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a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nts Review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D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/ACT Pr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79250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 and Informa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On Jump Dr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YS alignment (600 pa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ample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35053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ant to try i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 in and password are the s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Needed?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for teachers, and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s for summer scho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chools (for each Program – Aventa, Apex, FV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aNet already a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serv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Recovery (Year around Summer Sch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School (High School, Summer Schoo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en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-In Class (Students re-enrolled after dropping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phomore (Pre-Voca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men (2nd Semester Plac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8.5 (Socially Promoted 8th Grad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School (6th-8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ulsion School (In Lieu of Expulsion Plac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bound Tutor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/Drug Rehab/Juvenile Deten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60958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of NovaNet/Pearson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685800"/>
            <a:ext cx="769608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 skills of those in MS and HS so they can succ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ing another option for Credit Recovery that is flexible and may help some learning sty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fer electives that interest students that they might not offer under current school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ven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600200"/>
            <a:ext cx="6705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 clas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redit Recov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L sup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ectiv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 a look yourself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Courses – includes Algebra I, Biology, Chemistry, Chinese I, Civics, English III, French III, Health, Spanish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ventalearning.com/logi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D:  aventademo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:  aventa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CR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ventalearning.com/logi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D:  demoaccount1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:  aventa1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pex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09320" y="4724280"/>
            <a:ext cx="4876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for yourself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1784520"/>
            <a:ext cx="466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dit Reco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rida Virtual Schoo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240" y="1523880"/>
            <a:ext cx="4419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6868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3:34:51Z</dcterms:created>
  <dc:creator>Monica Daigler</dc:creator>
  <dc:description/>
  <dc:language>en-US</dc:language>
  <cp:lastModifiedBy>Monica Daigler</cp:lastModifiedBy>
  <dcterms:modified xsi:type="dcterms:W3CDTF">2009-05-19T19:35:22Z</dcterms:modified>
  <cp:revision>7</cp:revision>
  <dc:subject/>
  <dc:title>On-Line Learning</dc:title>
</cp:coreProperties>
</file>