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3871-E6DB-4187-87C0-42353C30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416B-551D-4685-B850-E273C526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F589-5B79-4152-BDD5-0A30A857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E069-391D-4443-9E8D-49B86909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CD0C-22A1-4FE6-90F4-A131EA97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F89B-9B0C-46BC-86BE-6ACCD7EE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F091-E48E-474A-A051-52A55081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7258-78E3-48DD-8BF7-CA7091D8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41B3-116A-4304-A70B-0654D6AF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D2B7-6252-48EF-933E-47909177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5154-16DD-47DB-B920-A6561E98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1E4B-7A76-4782-B099-7B3E2088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39F8-323C-4DBE-9C5A-83A204C10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ventalearning.com/CreditRecovery/cr_video.html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ventalearning.com/login/" TargetMode="External"/><Relationship Id="rId2" Type="http://schemas.openxmlformats.org/officeDocument/2006/relationships/hyperlink" Target="http://www.aventalearning.com/login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pexlearning.com/demo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n-Line Lear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Decrease the Drop Out 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48520" y="41911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9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61048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2" descr=""/>
          <p:cNvPicPr/>
          <p:nvPr/>
        </p:nvPicPr>
        <p:blipFill>
          <a:blip r:embed="rId1"/>
          <a:stretch/>
        </p:blipFill>
        <p:spPr>
          <a:xfrm>
            <a:off x="304920" y="0"/>
            <a:ext cx="868680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8" descr=""/>
          <p:cNvPicPr/>
          <p:nvPr/>
        </p:nvPicPr>
        <p:blipFill>
          <a:blip r:embed="rId1"/>
          <a:stretch/>
        </p:blipFill>
        <p:spPr>
          <a:xfrm>
            <a:off x="228600" y="0"/>
            <a:ext cx="876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a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ents Review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 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D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/ACT Pr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79250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 and Informa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On Jump Dr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NYS alignment (600 pag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ample 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350532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ant to try i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 in and password are the s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Needed?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for teachers, and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s for summer scho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schools (for each Program – Aventa, Apex, FV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aNet already a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serv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Recovery (Year around Summer Sch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School (High School, Summer Schoo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en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-In Class (Students re-enrolled after dropping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phomore (Pre-Voca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men (2nd Semester Plac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8.5 (Socially Promoted 8th Grad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School (6th-8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ulsion School (In Lieu of Expulsion Plac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bound Tutor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/Drug Rehab/Juvenile Deten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60958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of NovaNet/Pearson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685800"/>
            <a:ext cx="769608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 skills of those in MS and HS so they can succ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ing another option for Credit Recovery that is flexible and may help some learning sty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fer electives that interest students that they might not offer under current school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ven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600200"/>
            <a:ext cx="6705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 clas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redit Recov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L sup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ectiv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e a look yourself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Courses – includes Algebra I, Biology, Chemistry, Chinese I, Civics, English III, French III, Health, Spanish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ventalearning.com/logi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D:  aventademo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word:  aventa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CR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ventalearning.com/logi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D:  demoaccount1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word:  aventa1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pex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09320" y="4724280"/>
            <a:ext cx="4876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for yourself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1784520"/>
            <a:ext cx="466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dit Reco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i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rida Virtual Schoo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240" y="1523880"/>
            <a:ext cx="4419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 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6868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3:34:51Z</dcterms:created>
  <dc:creator>Monica Daigler</dc:creator>
  <dc:description/>
  <dc:language>en-US</dc:language>
  <cp:lastModifiedBy>Monica Daigler</cp:lastModifiedBy>
  <dcterms:modified xsi:type="dcterms:W3CDTF">2009-05-19T19:35:22Z</dcterms:modified>
  <cp:revision>7</cp:revision>
  <dc:subject/>
  <dc:title>On-Line Learning</dc:title>
</cp:coreProperties>
</file>