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FF8-B38F-457E-9F6A-472C12C3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D63-5B0B-4BA7-8230-9384A09A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8250-A2ED-4934-8E68-92298F8D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DC9-A644-4F9F-ACAD-193CA39A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CAEF-6FFF-45F2-A4A8-5AB2FCBE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1563-1474-45B1-9BDB-A2459B0B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266-685E-4115-948D-3D995B44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C936-1FCC-46F4-A245-4AC843A3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B1D-214B-421F-A167-551748C5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A04-2ADD-4BA4-A9F6-514A29E3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AB7-00F6-4263-BB09-87A0D66B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E9E-D418-455D-9B4C-B24AB7F8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58DA-FE0C-47E7-AFF4-A17F283F8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entalearning.com/CreditRecovery/cr_video.html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ventalearning.com/login/" TargetMode="External"/><Relationship Id="rId2" Type="http://schemas.openxmlformats.org/officeDocument/2006/relationships/hyperlink" Target="http://www.aventalearning.com/login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pexlearning.com/demo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-Line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Decrease the Drop Out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48520" y="4191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9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1048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2" descr=""/>
          <p:cNvPicPr/>
          <p:nvPr/>
        </p:nvPicPr>
        <p:blipFill>
          <a:blip r:embed="rId1"/>
          <a:stretch/>
        </p:blipFill>
        <p:spPr>
          <a:xfrm>
            <a:off x="304920" y="0"/>
            <a:ext cx="86868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8" descr="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nts Review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D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/ACT Pr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79250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 and Inform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On Jump Dr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YS alignment (600 pa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ample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35053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to try i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in and password are the s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Needed?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for teachers, and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s for summer sch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chools (for each Program – Aventa, Apex, FV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aNet already a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serv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Recovery (Year around Summer 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School (High School, Summer Schoo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en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-In Class (Students re-enrolled after dropping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phomore (Pre-Voca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men (2nd Semester Pla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8.5 (Socially Promoted 8th Gra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School (6th-8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ulsion School (In Lieu of Expulsion Pla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bound Tutor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/Drug Rehab/Juvenile Det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60958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of NovaNet/Pearson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685800"/>
            <a:ext cx="769608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 skills of those in MS and HS so they can succ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ing another option for Credit Recovery that is flexible and may help some learning 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fer electives that interest students that they might not offer under current schoo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ven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600200"/>
            <a:ext cx="6705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 clas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L sup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ectiv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a look yourself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Courses – includes Algebra I, Biology, Chemistry, Chinese I, Civics, English III, French III, Health, Spanish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ventalearning.com/logi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D:  aventademo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:  aventa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R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ventalearning.com/logi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D:  demoaccount1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:  aventa1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pex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09320" y="47242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for yourself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1784520"/>
            <a:ext cx="46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rida Virtual Schoo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240" y="1523880"/>
            <a:ext cx="4419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868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3:34:51Z</dcterms:created>
  <dc:creator>Monica Daigler</dc:creator>
  <dc:description/>
  <dc:language>en-US</dc:language>
  <cp:lastModifiedBy>Monica Daigler</cp:lastModifiedBy>
  <dcterms:modified xsi:type="dcterms:W3CDTF">2009-05-19T19:35:22Z</dcterms:modified>
  <cp:revision>7</cp:revision>
  <dc:subject/>
  <dc:title>On-Line Learning</dc:title>
</cp:coreProperties>
</file>