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024-7D12-4C53-AE19-0CF3342D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EF3-79C5-476E-ACB0-63DAF349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326-B9EF-4F58-A8E8-E3410C7C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D53-5DA2-476F-BA69-6A2CAB84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FE8C-C82A-4D01-897C-668B410C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EDE-C7C8-469B-B15C-BC437EA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82A-0DC3-4445-97E0-B75EDB8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8257-0830-4253-91D7-D60A2A6C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B211-631F-4C21-954E-03A74E55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EEA3-C035-483A-AE78-104919B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566-5C0B-4461-9751-E903735F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7FA-8BAD-4D6F-BDAA-E0E976B3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4DBA-3AC1-437F-AC77-E9AB280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44B-E88D-4FC2-B206-BAE1AEF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520-3444-4AA6-A44A-F1E9D90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AC0E-DFB7-445D-BBC4-CAF92ACC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3AEC-0D2F-4936-92AB-048F954F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C19-50F8-4D40-9340-6A6183A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0C9-EC95-4CC2-9E3E-D58ACDDB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0B8-5169-4909-854B-A4CAEBE5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75C-2A82-4720-A593-5E771FA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581-C07A-449F-8CAE-55570C4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0FF-CBEA-464D-912E-6EA4ACD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F5A-C02A-4147-8151-3C53C3B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9189-560C-4381-803E-EFEAB3AB61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8D74-BB21-4177-BCCC-01596C83B3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YSHES- The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Education Curricul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ional Learning Comm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 Plans and Less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 Standards for content and skills can be taught through-in and throughout many different uni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skills may be taught and practiced on a daily basis, such as communic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ealth Litera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he capacity of an individual to obtain, interpret, and understand basic health information and services and the competence to use such information and services in ways that are health enhanc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Literacy is the most important idea to keep in mind when teaching the Skills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It’s about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o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e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know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…not just about knowing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pping Skills – Group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ide into groups: K-2, 3-5, and 6-1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 will work together to align the skills with the health content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 skills in units where you feel they can most easily be taught at your grade leve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w York State Standards in Health Education- Skil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Goal Se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Self-Management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monstrates the ability to practice strategies and skills to enhance personal health and saf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lationship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interpersonal and intra-personal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stress management strategies and skills to enhance personal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communication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decision mak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lanning and Goal Sett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planning and goal sett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advocacy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8:21:49Z</dcterms:created>
  <dc:creator>HP-PC</dc:creator>
  <dc:description/>
  <dc:language>en-US</dc:language>
  <cp:lastModifiedBy>Monica Burgio Daigler</cp:lastModifiedBy>
  <dcterms:modified xsi:type="dcterms:W3CDTF">2010-01-12T20:19:14Z</dcterms:modified>
  <cp:revision>6</cp:revision>
  <dc:subject/>
  <dc:title>NYSHES- The SKILLS</dc:title>
</cp:coreProperties>
</file>