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A764-D194-419E-9ECE-39CA67635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3142-B147-4E54-B64C-464F24AE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4B9F-856E-46A8-9D4C-07E2193B8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D806-4983-48CC-9A21-5EF3874F7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C76A-1DA3-4CF0-BACE-2307625B9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CC038-76B9-4605-8EF7-36520EC0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D9E8E-AB1E-4798-AC52-FC0302B8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F89A-E463-443F-8AC5-E76C0254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76D6B-5671-45FE-ADAC-C8327161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C169-D086-4AB4-B996-62FC7253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90A3-E185-41C6-8DF8-A81D6D93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80CB-748E-472F-B9E4-8FD2497D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6F64-6219-4746-96A3-5624C2BE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5FED-A228-4852-B2D2-3224454C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9E05-5ECB-4905-8F42-DF9E0F9C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AEA2-4E38-4013-908B-617FF4C75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84E0-5A8A-4A4A-A5CD-5A0682EBC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2AE4-C7DC-4323-A941-297FDD25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69AF-099C-426D-9553-DB94BA6C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19E5-A4EB-4F42-982A-F155F3B4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0307-7AD8-464A-9ED6-D4350E8A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86D5-F7BD-480C-AF9A-C9DEAB22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8BB7-8779-4C4E-B9AC-6DB74121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FC2C-8A3A-4423-ADC4-2767F31E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600A-7E12-4A55-9527-F2D332C31E8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8A2E-2C1B-4345-8580-1967A27D01C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NYSHES- The SKILL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ealth Education Curriculu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fessional Learning Commun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ay 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Unit Plans and Lesson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ate Standards for content and skills can be taught through-in and throughout many different unit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me skills may be taught and practiced on a daily basis, such as communic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Why are the skills important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Health Literac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- the capacity of an individual to obtain, interpret, and understand basic health information and services and the competence to use such information and services in ways that are health enhancing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Why are the skills important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ealth Literacy is the most important idea to keep in mind when teaching the Skills Standard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6666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It’s about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doing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being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, and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knowing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…not just about knowing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apping Skills – Group Activit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ivide into groups: K-2, 3-5, and 6-12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roups will work together to align the skills with the health content standard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lace skills in units where you feel they can most easily be taught at your grade level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New York State Standards in Health Education- Skill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lf-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ationship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res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Goal Set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cision Mak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c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66"/>
                </a:solidFill>
                <a:latin typeface="Arial"/>
              </a:rPr>
              <a:t>Self-Management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emonstrates the ability to practice strategies and skills to enhance personal health and safety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Relationship Managemen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emonstrates the ability to apply interpersonal and intra-personal strategies and skills to enhance personal, family, and community health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Stress Managemen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emonstrates the ability to apply stress management strategies and skills to enhance personal health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ommunication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emonstrates the ability to apply communication strategies and skills to enhance personal, family, and community health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Decision Making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emonstrates the ability to apply decision making strategies and skills to enhance personal, family, and community health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Planning and Goal Setting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emonstrates the ability to apply planning and goal setting strategies and skills to enhance personal, family, and community health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Advocacy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emonstrates the ability to apply advocacy strategies and skills to enhance personal, family, and community health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18:21:49Z</dcterms:created>
  <dc:creator>HP-PC</dc:creator>
  <dc:description/>
  <dc:language>en-US</dc:language>
  <cp:lastModifiedBy>Monica Burgio Daigler</cp:lastModifiedBy>
  <dcterms:modified xsi:type="dcterms:W3CDTF">2010-01-12T20:19:14Z</dcterms:modified>
  <cp:revision>6</cp:revision>
  <dc:subject/>
  <dc:title>NYSHES- The SKILLS</dc:title>
</cp:coreProperties>
</file>