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06C-BC55-408F-AF17-E64EC429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FB7-A6C1-4068-A2E5-03272E8C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ADF-1C72-4B79-B10A-29B06ADD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AE7-5DEA-4AA8-A304-26AFFB84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6C90-9277-4EE2-B620-67E975C3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F00E-C225-4217-90B5-FF81CD6C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EC6D-0BD1-4958-A55E-595D2D82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87D0-0315-418A-BAB4-68F8D5DF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D451-5DDC-45BD-B87F-3218D757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CF27-0C0F-4140-B464-A8281BAE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975A-FAAC-4CFD-A483-DAA3DBB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4D8-2D09-46A1-8995-D4E46EC6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90B2-184E-467B-ADCF-152156EE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624B-769F-4C3B-9558-9F895B6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51B8-3C92-410F-8D6A-D359072C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87E1-3911-4953-9CC5-533AB79E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DD03-DBB4-49BB-B52A-55BF51C7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39B-D9CF-4CAE-A9F1-1AA8A421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574-3F7D-44F1-A292-FD056B97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04A-20A0-49F2-8087-80EE68FE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45B-2B3A-4542-BAFB-15FC96E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54B-F6FB-4C69-B015-39E7F2D3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0D3-72C5-431B-B525-A5676FE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AA1-6D25-4590-B559-E23DF830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1B8E-4025-4BA4-B0F2-076B56D8EC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4262-F9C4-4707-A85B-09CCA1F0AE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YSHES- The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Education Curricul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ional Learning Commun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y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 Plans and Less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 Standards for content and skills can be taught through-in and throughout many different uni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skills may be taught and practiced on a daily basis, such as communic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Health Litera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the capacity of an individual to obtain, interpret, and understand basic health information and services and the competence to use such information and services in ways that are health enhanc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Literacy is the most important idea to keep in mind when teaching the Skills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It’s about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do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e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know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…not just about knowing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pping Skills – Group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vide into groups: K-2, 3-5, and 6-12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 will work together to align the skills with the health content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ce skills in units where you feel they can most easily be taught at your grade leve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w York State Standards in Health Education- Skil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s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Goal Set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Self-Management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emonstrates the ability to practice strategies and skills to enhance personal health and saf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lationship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interpersonal and intra-personal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ress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stress management strategies and skills to enhance personal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communication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decision mak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lanning and Goal Sett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planning and goal sett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dvocac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advocacy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8:21:49Z</dcterms:created>
  <dc:creator>HP-PC</dc:creator>
  <dc:description/>
  <dc:language>en-US</dc:language>
  <cp:lastModifiedBy>Monica Burgio Daigler</cp:lastModifiedBy>
  <dcterms:modified xsi:type="dcterms:W3CDTF">2010-01-12T20:19:14Z</dcterms:modified>
  <cp:revision>6</cp:revision>
  <dc:subject/>
  <dc:title>NYSHES- The SKILLS</dc:title>
</cp:coreProperties>
</file>