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0237-824E-4182-BB34-DB5869DD4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8AE6-1352-47B0-80C7-D8814096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6B16-DAB9-4688-BFC5-BB0E05799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BCEC-77E9-43E1-BD39-5DF432B6C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A2A2-37E0-4D53-BCCB-1EE93BA2A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EAC9-EA44-4818-9EBD-128D540D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8762-F29F-4772-A5BB-91D5539D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2FD8-E3F1-49C4-A4B6-8DD2A5AF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AEC7-BC1D-40FD-85AB-AA1E6BB2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954C-D108-45B2-84C9-8DAF48C1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83E8A-4B1E-4A5A-8C7E-5C924B0A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5112-B278-4997-8FDB-2DA9B663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C15F-F713-44E1-9B56-21A1E6FC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BB0A-E819-45FD-A6D9-8627B6C9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75CB-8210-4BBA-B125-F63AA827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975E-DAAA-4A9F-BA16-6BE0A9CD1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F380-494E-4098-A843-DB3DABFC3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693E-D6F5-4792-B0DD-DBEB58DA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DD4E-3260-4F30-B3F1-922D8185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14D5-04A2-4340-AAF4-ED0D93E5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F8F0-5BFA-45FC-9AD4-642A9D1B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F8E1-7EF0-4A0B-91C0-99EC80E2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D186-2663-4DD6-9CAA-8B6DD2C5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5920-E570-425D-B4C1-90E6A1F9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C049-16ED-4008-8AB2-2AF749A24FD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79AA-86D3-4CD9-94E2-6920F110ECF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NYSHES- The SKILL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ealth Education Curriculu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fessional Learning Commun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ay 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Unit Plans and Lesson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ate Standards for content and skills can be taught through-in and throughout many different unit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me skills may be taught and practiced on a daily basis, such as communic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Why are the skills important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Health Literac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- the capacity of an individual to obtain, interpret, and understand basic health information and services and the competence to use such information and services in ways that are health enhancing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Why are the skills important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ealth Literacy is the most important idea to keep in mind when teaching the Skills Standard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66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It’s about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doing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being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knowing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…not just about knowing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apping Skills – Group Activit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vide into groups: K-2, 3-5, and 6-12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roups will work together to align the skills with the health content standard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lace skills in units where you feel they can most easily be taught at your grade level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ew York State Standards in Health Education- Skill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lf-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ationship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res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Goal Set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cision Mak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c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Arial"/>
              </a:rPr>
              <a:t>Self-Management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emonstrates the ability to practice strategies and skills to enhance personal health and safety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Relationship Managemen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monstrates the ability to apply interpersonal and intra-personal strategies and skills to enhance personal, family, and community health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Stress Managemen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monstrates the ability to apply stress management strategies and skills to enhance personal health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ommunication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monstrates the ability to apply communication strategies and skills to enhance personal, family, and community health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Decision Making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monstrates the ability to apply decision making strategies and skills to enhance personal, family, and community health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Planning and Goal Setting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monstrates the ability to apply planning and goal setting strategies and skills to enhance personal, family, and community health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Advocacy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monstrates the ability to apply advocacy strategies and skills to enhance personal, family, and community health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8:21:49Z</dcterms:created>
  <dc:creator>HP-PC</dc:creator>
  <dc:description/>
  <dc:language>en-US</dc:language>
  <cp:lastModifiedBy>Monica Burgio Daigler</cp:lastModifiedBy>
  <dcterms:modified xsi:type="dcterms:W3CDTF">2010-01-12T20:19:14Z</dcterms:modified>
  <cp:revision>6</cp:revision>
  <dc:subject/>
  <dc:title>NYSHES- The SKILLS</dc:title>
</cp:coreProperties>
</file>