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E4E7-A888-472A-B32D-3D222D7CA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4186-7090-4707-B4B7-CD814C3C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C3F7-7D23-4E80-B72D-388790F7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D87B-B903-46AF-92A0-92EC7D980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DF82-FD81-4092-A227-6A009654E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EE41-FEBC-4937-8713-EB814277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1BFB-BED4-459C-A40B-0F393EF7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9FC4-0784-4C75-9863-A18D47B1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AED7-EC99-4B20-87FC-7002143E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E568-C393-4C48-8B20-CA5B3A10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BFCD6-2AF9-4043-B62D-4ABBC0F2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0B30-2B27-448D-98BA-10FFF8AC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1F1B-D750-48A5-8B83-7891EF8C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3378-4B32-4DB3-BFEE-B594765F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43373-C647-4F3C-B169-137EEF4D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5F60-6F7F-4A00-8341-22C3128D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081A-66BD-44AB-9A17-2A261DF27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C730-E245-469F-ADD6-13578DDE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CC1D-EDB5-46A6-989B-846222C4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D462-6546-486E-AEFB-0B4ECBDA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7BD4-E36D-40D4-8AAC-A0541BCD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B6E0-2189-42C6-8F8B-D198E3E5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960C-D663-473B-A500-26588D09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D4A9-973F-4F2F-AF89-EA60AA92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5D82-6637-4B71-B50E-95DCE79EE9F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06EF-7691-4DE1-9617-B7B99648785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NYSHES- The SKILL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ealth Education Curriculu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fessional Learning Commun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ay 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Unit Plans and Lesson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ate Standards for content and skills can be taught through-in and throughout many different unit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me skills may be taught and practiced on a daily basis, such as communic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Why are the skills important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Health Literac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- the capacity of an individual to obtain, interpret, and understand basic health information and services and the competence to use such information and services in ways that are health enhancing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Why are the skills important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ealth Literacy is the most important idea to keep in mind when teaching the Skills Standard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66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It’s about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doing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being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knowing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…not just about knowing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apping Skills – Group Activit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vide into groups: K-2, 3-5, and 6-12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roups will work together to align the skills with the health content standard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lace skills in units where you feel they can most easily be taught at your grade level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ew York State Standards in Health Education- Skill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lf-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ationship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res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Goal Set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cision Mak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c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Arial"/>
              </a:rPr>
              <a:t>Self-Management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emonstrates the ability to practice strategies and skills to enhance personal health and safety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Relationship Managemen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monstrates the ability to apply interpersonal and intra-personal strategies and skills to enhance personal, family, and community health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Stress Managemen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monstrates the ability to apply stress management strategies and skills to enhance personal health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ommunication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monstrates the ability to apply communication strategies and skills to enhance personal, family, and community health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Decision Making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monstrates the ability to apply decision making strategies and skills to enhance personal, family, and community health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Planning and Goal Setting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monstrates the ability to apply planning and goal setting strategies and skills to enhance personal, family, and community health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Advocacy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monstrates the ability to apply advocacy strategies and skills to enhance personal, family, and community health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8:21:49Z</dcterms:created>
  <dc:creator>HP-PC</dc:creator>
  <dc:description/>
  <dc:language>en-US</dc:language>
  <cp:lastModifiedBy>Monica Burgio Daigler</cp:lastModifiedBy>
  <dcterms:modified xsi:type="dcterms:W3CDTF">2010-01-12T20:19:14Z</dcterms:modified>
  <cp:revision>6</cp:revision>
  <dc:subject/>
  <dc:title>NYSHES- The SKILLS</dc:title>
</cp:coreProperties>
</file>