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34.gif" ContentType="image/gif"/>
  <Override PartName="/ppt/media/image22.png" ContentType="image/png"/>
  <Override PartName="/ppt/media/image24.jpeg" ContentType="image/jpeg"/>
  <Override PartName="/ppt/media/image21.jpeg" ContentType="image/jpeg"/>
  <Override PartName="/ppt/media/image36.gif" ContentType="image/gif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39.gif" ContentType="image/gif"/>
  <Override PartName="/ppt/media/image28.jpeg" ContentType="image/jpeg"/>
  <Override PartName="/ppt/media/image7.jpeg" ContentType="image/jpeg"/>
  <Override PartName="/ppt/media/image35.gif" ContentType="image/gif"/>
  <Override PartName="/ppt/media/image11.png" ContentType="image/png"/>
  <Override PartName="/ppt/media/image8.jpeg" ContentType="image/jpeg"/>
  <Override PartName="/ppt/media/image9.png" ContentType="image/png"/>
  <Override PartName="/ppt/media/image29.gif" ContentType="image/gif"/>
  <Override PartName="/ppt/media/image30.gif" ContentType="image/gif"/>
  <Override PartName="/ppt/media/image37.gif" ContentType="image/gif"/>
  <Override PartName="/ppt/media/image20.png" ContentType="image/png"/>
  <Override PartName="/ppt/media/image2.jpeg" ContentType="image/jpeg"/>
  <Override PartName="/ppt/media/image40.gif" ContentType="image/gif"/>
  <Override PartName="/ppt/media/image38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15.png" ContentType="image/pn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EF7-C934-450E-81F4-7434E0A7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FF0-6F25-441D-B3B8-05068143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5CA-7966-477F-BD34-833A4E7F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B5E-56C0-43E2-963D-1B2357BF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2C4-4483-4263-98C3-87272D68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FCCC-A3F0-4F2F-BBA3-88755F9E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98E-5A1B-44C4-8B44-2E8887A1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65A-CF3C-4EE9-9EEF-D03E7236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473-44CF-450D-A04A-05BFB09C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0DB-CA94-462D-8FF7-EE868FEB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AC0-D60A-42F7-A964-C93A89F7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56E-CE32-4C51-BD94-BD705FFD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C7C2-5C5B-4DC1-915F-945894408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5D1A9FED91689934&amp;sid=1E941AFED91689934&amp;o=0&amp;qid=EFA84EE418E76212A9D88F9252F88B6C&amp;io=14&amp;sv=0a300511&amp;ask=muscle+flex&amp;uip=a8a95ab3&amp;en=pi&amp;eo=&amp;pt=&amp;ac=18&amp;qs=31&amp;pg=1&amp;u=http%3A%2F%2Fwww.ask.com%2Ffr%3Fq%3Dmuscle%2Bflex%26desturi%3Dhttp%253A%252F%252Fwww.cbc.ca%252Fstories%252F2003%252F06%252F26%252Fmuscle_scell030626%26fm%3Di%26ac%3D18%26ftURI%3Dhttp%253A%252F%252Fpictures.ask.com%253A80%252Ffr%253Fq%253Dmuscle%252Bflex%2526desturi%253Dhttp%25253A%25252F%25252Fwww.cbc.ca%25252Fstories%25252F2003%25252F06%25252F26%25252Fmuscle_scell030626%2526imagesrc%253Dhttp%25253A%25252F%25252Fwww.cbc.ca%25252Fgfx%25252Fphotos%25252Fmuscle_flex010102.jpg%2526thumbsrc%253Dhttp%25253A%25252F%25252F65.214.37.88%25252Fts%25253Ft%25253D5763158655939024956%2526fn%253Dmuscle_flex010102.jpg%2526f%253D2%2526fm%253Di%2526ftbURI%253Dhttp%25253A%25252F%25252Fpictures.ask.com%25252Fpictures%25253Fq%25253Dmuscle%25252Bflex%252526page%25253D1%26qt%3D0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ntmusc2" descr="Superficial muscles of thorax and abdomen"/>
          <p:cNvPicPr/>
          <p:nvPr/>
        </p:nvPicPr>
        <p:blipFill>
          <a:blip r:embed="rId1"/>
          <a:stretch/>
        </p:blipFill>
        <p:spPr>
          <a:xfrm>
            <a:off x="838080" y="762120"/>
            <a:ext cx="3922920" cy="5433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H="1">
            <a:off x="3657600" y="9907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505320" y="388620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733560" y="29718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90560" y="44956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09480" y="41911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962160" y="205740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0"/>
            <a:ext cx="3810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ctoralis Maj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Clavicle, Sternum; ribs 1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Humerus (greater tuberc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3657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Ob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ratus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4191120"/>
            <a:ext cx="28954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us Abdomi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Pubic Crest/symph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Xiphoid process; rib cartilage 5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800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Ob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1371600"/>
            <a:ext cx="2895480" cy="16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issimus Dor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Lumbar spine and iliac c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ackmusc" descr="Superficial muscles of back"/>
          <p:cNvPicPr/>
          <p:nvPr/>
        </p:nvPicPr>
        <p:blipFill>
          <a:blip r:embed="rId1"/>
          <a:stretch/>
        </p:blipFill>
        <p:spPr>
          <a:xfrm>
            <a:off x="914400" y="380880"/>
            <a:ext cx="3851280" cy="6191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>
            <a:off x="3505320" y="114300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505320" y="3886200"/>
            <a:ext cx="3047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429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ssimus Dor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hubibo25" descr="Superficial muscles of anterior arm"/>
          <p:cNvPicPr/>
          <p:nvPr/>
        </p:nvPicPr>
        <p:blipFill>
          <a:blip r:embed="rId1"/>
          <a:stretch/>
        </p:blipFill>
        <p:spPr>
          <a:xfrm>
            <a:off x="609480" y="609480"/>
            <a:ext cx="2389320" cy="4537080"/>
          </a:xfrm>
          <a:prstGeom prst="rect">
            <a:avLst/>
          </a:prstGeom>
          <a:ln w="0">
            <a:noFill/>
          </a:ln>
        </p:spPr>
      </p:pic>
      <p:pic>
        <p:nvPicPr>
          <p:cNvPr id="97" name="hubibo24" descr="Brachialis and coracobrachialis"/>
          <p:cNvPicPr/>
          <p:nvPr/>
        </p:nvPicPr>
        <p:blipFill>
          <a:blip r:embed="rId2"/>
          <a:stretch/>
        </p:blipFill>
        <p:spPr>
          <a:xfrm>
            <a:off x="6019920" y="609480"/>
            <a:ext cx="2663640" cy="4537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>
            <a:off x="1752480" y="1066680"/>
            <a:ext cx="19814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30492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t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: clavicle, sp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: Deltoid tuberocity of hum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362320" y="289548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057400"/>
            <a:ext cx="17528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ceps brach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: scapula, hum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: olecrano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486400" y="32767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4038480"/>
            <a:ext cx="2133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ceps brach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: scapula (anterior) humer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: radial tubero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Fig418" descr="Posterior surface of the forearm-Superficial muscles"/>
          <p:cNvPicPr/>
          <p:nvPr/>
        </p:nvPicPr>
        <p:blipFill>
          <a:blip r:embed="rId1"/>
          <a:stretch/>
        </p:blipFill>
        <p:spPr>
          <a:xfrm>
            <a:off x="762120" y="152280"/>
            <a:ext cx="2119320" cy="6477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1904760" y="2666880"/>
            <a:ext cx="2895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2438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 digit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09680" y="1828800"/>
            <a:ext cx="1524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 carpi uln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 carpi radi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23880" y="609480"/>
            <a:ext cx="335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3120" y="-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vesalius_arm_muscle_inner" descr="vesalius_arm_muscle_inner"/>
          <p:cNvPicPr/>
          <p:nvPr/>
        </p:nvPicPr>
        <p:blipFill>
          <a:blip r:embed="rId1"/>
          <a:stretch/>
        </p:blipFill>
        <p:spPr>
          <a:xfrm>
            <a:off x="609480" y="533520"/>
            <a:ext cx="3380040" cy="5562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>
            <a:off x="3124080" y="175248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144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maris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048120" y="83808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6094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 carpi radi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819520" y="2895480"/>
            <a:ext cx="3657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590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 carpi uln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980720" y="2819160"/>
            <a:ext cx="35053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4495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chioradi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liopspo" descr="Iliacus, psoas major, diaphragm and anterior superficial thigh muscles"/>
          <p:cNvPicPr/>
          <p:nvPr/>
        </p:nvPicPr>
        <p:blipFill>
          <a:blip r:embed="rId1"/>
          <a:stretch/>
        </p:blipFill>
        <p:spPr>
          <a:xfrm>
            <a:off x="1676520" y="457200"/>
            <a:ext cx="2841480" cy="5810400"/>
          </a:xfrm>
          <a:prstGeom prst="rect">
            <a:avLst/>
          </a:prstGeom>
          <a:ln w="0">
            <a:noFill/>
          </a:ln>
        </p:spPr>
      </p:pic>
      <p:pic>
        <p:nvPicPr>
          <p:cNvPr id="122" name="adductlg" descr="Rectus femoris, patellar ligament and medial adductors of thigh"/>
          <p:cNvPicPr/>
          <p:nvPr/>
        </p:nvPicPr>
        <p:blipFill>
          <a:blip r:embed="rId2"/>
          <a:stretch/>
        </p:blipFill>
        <p:spPr>
          <a:xfrm>
            <a:off x="6553080" y="380880"/>
            <a:ext cx="2092320" cy="6248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23880" y="320040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opso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505320" y="464832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otr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066680"/>
            <a:ext cx="19051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685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uctor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696080" y="990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457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ctin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358128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2971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us interme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quads" descr="Anterior superficial muscles of the thigh"/>
          <p:cNvPicPr/>
          <p:nvPr/>
        </p:nvPicPr>
        <p:blipFill>
          <a:blip r:embed="rId1"/>
          <a:stretch/>
        </p:blipFill>
        <p:spPr>
          <a:xfrm>
            <a:off x="1600200" y="533520"/>
            <a:ext cx="2735280" cy="5867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>
            <a:off x="2514600" y="1981080"/>
            <a:ext cx="2362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1600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us femo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219320" y="1752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6002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or Faciae 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657600" y="3505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3276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c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123720" y="4114800"/>
            <a:ext cx="3429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267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us medi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572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us later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219320" y="32767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047760" y="99072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ctin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legpostm" descr="Posterior superficial muscles of thigh"/>
          <p:cNvPicPr/>
          <p:nvPr/>
        </p:nvPicPr>
        <p:blipFill>
          <a:blip r:embed="rId1"/>
          <a:stretch/>
        </p:blipFill>
        <p:spPr>
          <a:xfrm>
            <a:off x="1141560" y="228600"/>
            <a:ext cx="2127240" cy="6477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437920" y="175248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990720"/>
            <a:ext cx="35053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teus Maxi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: ilium, sacrum, coccy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Fem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1904760" y="4800600"/>
            <a:ext cx="2438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58672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membra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752480" y="3352680"/>
            <a:ext cx="3200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3124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tendi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680" y="4191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3809880"/>
            <a:ext cx="33530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ceps femo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: isch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fibula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dorsiflex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3276360" cy="318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685800" y="2971800"/>
            <a:ext cx="18763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rsifle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1600200"/>
            <a:ext cx="1066680" cy="5335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8162545"/>
                <a:lnTo>
                  <a:pt x="3026" y="3303"/>
                </a:lnTo>
                <a:arcTo wR="10800" hR="10800" stAng="-8162545" swAng="816254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419720" y="2209680"/>
            <a:ext cx="18763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antar Fle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eronmu" descr="Laterial muscles of leg"/>
          <p:cNvPicPr/>
          <p:nvPr/>
        </p:nvPicPr>
        <p:blipFill>
          <a:blip r:embed="rId1"/>
          <a:stretch/>
        </p:blipFill>
        <p:spPr>
          <a:xfrm>
            <a:off x="2743200" y="228600"/>
            <a:ext cx="3282840" cy="6191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1828800" y="2514600"/>
            <a:ext cx="1447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505320"/>
            <a:ext cx="2133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trocnem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Calcaneal tne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828800" y="3657600"/>
            <a:ext cx="17524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5257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e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809520" y="2514600"/>
            <a:ext cx="2667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20574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neus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587760" y="1662120"/>
            <a:ext cx="1969920" cy="3675240"/>
            <a:chOff x="3587760" y="1662120"/>
            <a:chExt cx="1969920" cy="3675240"/>
          </a:xfrm>
        </p:grpSpPr>
        <p:sp>
          <p:nvSpPr>
            <p:cNvPr id="167" name=""/>
            <p:cNvSpPr/>
            <p:nvPr/>
          </p:nvSpPr>
          <p:spPr>
            <a:xfrm>
              <a:off x="3587760" y="1662120"/>
              <a:ext cx="178596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87760" y="1662120"/>
              <a:ext cx="1969920" cy="36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33"/>
                  </a:solidFill>
                  <a:latin typeface="Verdana"/>
                </a:rPr>
                <a:t>  </a:t>
              </a:r>
              <a:r>
                <a:rPr b="0" lang="en-US" sz="20800" spc="-1" strike="noStrike">
                  <a:solidFill>
                    <a:srgbClr val="333333"/>
                  </a:solidFill>
                  <a:latin typeface="Verdana"/>
                </a:rPr>
                <a:t> </a:t>
              </a:r>
              <a:r>
                <a:rPr b="0" lang="en-US" sz="900" spc="-1" strike="noStrike">
                  <a:solidFill>
                    <a:srgbClr val="333333"/>
                  </a:solidFill>
                  <a:latin typeface="Verdana"/>
                </a:rPr>
                <a:t>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" name="peroneusbrevis" descr="Peroneus brevis muscle"/>
          <p:cNvPicPr/>
          <p:nvPr/>
        </p:nvPicPr>
        <p:blipFill>
          <a:blip r:embed="rId2"/>
          <a:stretch/>
        </p:blipFill>
        <p:spPr>
          <a:xfrm>
            <a:off x="6553080" y="2971800"/>
            <a:ext cx="1714680" cy="3314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9920" y="44956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4038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neus Bre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67080" y="914400"/>
            <a:ext cx="19051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304920"/>
            <a:ext cx="28954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bialis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medial cuneiform, I Metata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2438280" cy="1812960"/>
          </a:xfrm>
          <a:prstGeom prst="rect">
            <a:avLst/>
          </a:prstGeom>
          <a:ln w="0">
            <a:noFill/>
          </a:ln>
        </p:spPr>
      </p:pic>
      <p:pic>
        <p:nvPicPr>
          <p:cNvPr id="43" name="ts" descr=""/>
          <p:cNvPicPr/>
          <p:nvPr/>
        </p:nvPicPr>
        <p:blipFill>
          <a:blip r:embed="rId3"/>
          <a:stretch/>
        </p:blipFill>
        <p:spPr>
          <a:xfrm>
            <a:off x="678168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joint_%20motion" descr=""/>
          <p:cNvPicPr/>
          <p:nvPr/>
        </p:nvPicPr>
        <p:blipFill>
          <a:blip r:embed="rId4"/>
          <a:stretch/>
        </p:blipFill>
        <p:spPr>
          <a:xfrm>
            <a:off x="3200400" y="533520"/>
            <a:ext cx="3711600" cy="510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2590920"/>
            <a:ext cx="2514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Flex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Decreasing the angle between body par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Exten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Increasing the angle between body par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8769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3679920" y="2111400"/>
            <a:ext cx="1785960" cy="2775960"/>
            <a:chOff x="3679920" y="2111400"/>
            <a:chExt cx="1785960" cy="2775960"/>
          </a:xfrm>
        </p:grpSpPr>
        <p:sp>
          <p:nvSpPr>
            <p:cNvPr id="176" name=""/>
            <p:cNvSpPr/>
            <p:nvPr/>
          </p:nvSpPr>
          <p:spPr>
            <a:xfrm>
              <a:off x="3679920" y="2111400"/>
              <a:ext cx="17859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79920" y="2111400"/>
              <a:ext cx="161280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33"/>
                  </a:solidFill>
                  <a:latin typeface="Verdana"/>
                </a:rPr>
                <a:t>  </a:t>
              </a:r>
              <a:r>
                <a:rPr b="0" lang="en-US" sz="14900" spc="-1" strike="noStrike">
                  <a:solidFill>
                    <a:srgbClr val="333333"/>
                  </a:solidFill>
                  <a:latin typeface="Verdana"/>
                </a:rPr>
                <a:t> </a:t>
              </a:r>
              <a:r>
                <a:rPr b="0" lang="en-US" sz="900" spc="-1" strike="noStrike">
                  <a:solidFill>
                    <a:srgbClr val="333333"/>
                  </a:solidFill>
                  <a:latin typeface="Verdana"/>
                </a:rPr>
                <a:t>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flexor_digitorum_longus_muscle" descr="Flexor digitorum longus muscle"/>
          <p:cNvPicPr/>
          <p:nvPr/>
        </p:nvPicPr>
        <p:blipFill>
          <a:blip r:embed="rId2"/>
          <a:stretch/>
        </p:blipFill>
        <p:spPr>
          <a:xfrm>
            <a:off x="6172200" y="1600200"/>
            <a:ext cx="2549520" cy="4419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352680" y="51055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 Digitorum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791320" y="48765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8776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687760" y="2103480"/>
            <a:ext cx="3768480" cy="2652840"/>
            <a:chOff x="2687760" y="2103480"/>
            <a:chExt cx="3768480" cy="2652840"/>
          </a:xfrm>
        </p:grpSpPr>
        <p:sp>
          <p:nvSpPr>
            <p:cNvPr id="183" name=""/>
            <p:cNvSpPr/>
            <p:nvPr/>
          </p:nvSpPr>
          <p:spPr>
            <a:xfrm>
              <a:off x="2687760" y="2103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7760" y="2103480"/>
              <a:ext cx="3768480" cy="26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2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lowerlegmusclesok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6095880" cy="548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6248160" y="2666880"/>
            <a:ext cx="9903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tr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476760" y="3581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74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715000" y="464832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43434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 Digitorum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533520"/>
            <a:ext cx="281916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895480" y="251424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2895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neus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1905120"/>
            <a:ext cx="2133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4479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bialis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438280" y="365760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44956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 Digitorum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295280" y="3352320"/>
            <a:ext cx="2971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6576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neus Bre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744480" y="16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744480" y="16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Image411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477120" cy="484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791320" y="426708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3048120"/>
            <a:ext cx="1676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137160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hand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971800" cy="3828960"/>
          </a:xfrm>
          <a:prstGeom prst="rect">
            <a:avLst/>
          </a:prstGeom>
          <a:ln w="0">
            <a:noFill/>
          </a:ln>
        </p:spPr>
      </p:pic>
      <p:pic>
        <p:nvPicPr>
          <p:cNvPr id="208" name="depress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09" name="elbex" descr=""/>
          <p:cNvPicPr/>
          <p:nvPr/>
        </p:nvPicPr>
        <p:blipFill>
          <a:blip r:embed="rId3"/>
          <a:stretch/>
        </p:blipFill>
        <p:spPr>
          <a:xfrm>
            <a:off x="3962520" y="3200400"/>
            <a:ext cx="35049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ronation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474560" cy="2136600"/>
          </a:xfrm>
          <a:prstGeom prst="rect">
            <a:avLst/>
          </a:prstGeom>
          <a:ln w="0">
            <a:noFill/>
          </a:ln>
        </p:spPr>
      </p:pic>
      <p:pic>
        <p:nvPicPr>
          <p:cNvPr id="211" name="handabd" descr=""/>
          <p:cNvPicPr/>
          <p:nvPr/>
        </p:nvPicPr>
        <p:blipFill>
          <a:blip r:embed="rId2"/>
          <a:stretch/>
        </p:blipFill>
        <p:spPr>
          <a:xfrm>
            <a:off x="3505320" y="304920"/>
            <a:ext cx="3276360" cy="1969920"/>
          </a:xfrm>
          <a:prstGeom prst="rect">
            <a:avLst/>
          </a:prstGeom>
          <a:ln w="0">
            <a:noFill/>
          </a:ln>
        </p:spPr>
      </p:pic>
      <p:pic>
        <p:nvPicPr>
          <p:cNvPr id="212" name="abd" descr=""/>
          <p:cNvPicPr/>
          <p:nvPr/>
        </p:nvPicPr>
        <p:blipFill>
          <a:blip r:embed="rId3"/>
          <a:stretch/>
        </p:blipFill>
        <p:spPr>
          <a:xfrm>
            <a:off x="1295280" y="2743200"/>
            <a:ext cx="2286000" cy="3578400"/>
          </a:xfrm>
          <a:prstGeom prst="rect">
            <a:avLst/>
          </a:prstGeom>
          <a:ln w="0">
            <a:noFill/>
          </a:ln>
        </p:spPr>
      </p:pic>
      <p:pic>
        <p:nvPicPr>
          <p:cNvPr id="213" name="hipflx" descr=""/>
          <p:cNvPicPr/>
          <p:nvPr/>
        </p:nvPicPr>
        <p:blipFill>
          <a:blip r:embed="rId4"/>
          <a:stretch/>
        </p:blipFill>
        <p:spPr>
          <a:xfrm>
            <a:off x="4724280" y="3048120"/>
            <a:ext cx="30099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hiphyext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3143160" cy="2368800"/>
          </a:xfrm>
          <a:prstGeom prst="rect">
            <a:avLst/>
          </a:prstGeom>
          <a:ln w="0">
            <a:noFill/>
          </a:ln>
        </p:spPr>
      </p:pic>
      <p:pic>
        <p:nvPicPr>
          <p:cNvPr id="215" name="kneeext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810240" cy="2872080"/>
          </a:xfrm>
          <a:prstGeom prst="rect">
            <a:avLst/>
          </a:prstGeom>
          <a:ln w="0">
            <a:noFill/>
          </a:ln>
        </p:spPr>
      </p:pic>
      <p:pic>
        <p:nvPicPr>
          <p:cNvPr id="216" name="shoabd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3828960" cy="2886120"/>
          </a:xfrm>
          <a:prstGeom prst="rect">
            <a:avLst/>
          </a:prstGeom>
          <a:ln w="0">
            <a:noFill/>
          </a:ln>
        </p:spPr>
      </p:pic>
      <p:pic>
        <p:nvPicPr>
          <p:cNvPr id="217" name="sup" descr=""/>
          <p:cNvPicPr/>
          <p:nvPr/>
        </p:nvPicPr>
        <p:blipFill>
          <a:blip r:embed="rId4"/>
          <a:stretch/>
        </p:blipFill>
        <p:spPr>
          <a:xfrm>
            <a:off x="5105520" y="3657600"/>
            <a:ext cx="33526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rkext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4057560" cy="3057480"/>
          </a:xfrm>
          <a:prstGeom prst="rect">
            <a:avLst/>
          </a:prstGeom>
          <a:ln w="0">
            <a:noFill/>
          </a:ln>
        </p:spPr>
      </p:pic>
      <p:pic>
        <p:nvPicPr>
          <p:cNvPr id="219" name="trkhyext" descr=""/>
          <p:cNvPicPr/>
          <p:nvPr/>
        </p:nvPicPr>
        <p:blipFill>
          <a:blip r:embed="rId2"/>
          <a:stretch/>
        </p:blipFill>
        <p:spPr>
          <a:xfrm>
            <a:off x="5257800" y="3809880"/>
            <a:ext cx="33148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antmusc" descr="Superficial human muscles anterior supinated view"/>
          <p:cNvPicPr/>
          <p:nvPr/>
        </p:nvPicPr>
        <p:blipFill>
          <a:blip r:embed="rId1"/>
          <a:stretch/>
        </p:blipFill>
        <p:spPr>
          <a:xfrm>
            <a:off x="2819520" y="304920"/>
            <a:ext cx="305280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jointmo_AB_rotate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352680" cy="4724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7600" y="1066680"/>
            <a:ext cx="5181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Abduc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moving away from the mid-line) vers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uc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moving toward the middle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figure to the left is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ab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ucting the arm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leg AWAY from the mid-line of the body an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ad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ucting or coming toward the mid-line of the body.  see arrows.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ointmo_ev.inv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2519280" cy="312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86200" y="1447920"/>
            <a:ext cx="4876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moving the sole of the foot lateral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or AWAY from the big toe and medial side of the foo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moving the sole of the f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OWAR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medial border or big toe side of the fo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jointmo.pronate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294360" cy="3886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4800" y="914400"/>
            <a:ext cx="3962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Supin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(rotating the forearm &amp; hand laterally) 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extend you arm to the front with your palm facing toward the cei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...the thumb is on the lateral side of the hand....this is supination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onation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(rotating the forearm &amp; hand medially) 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extend your arm to the front with your palm facing toward the floor...The thumb is on the medial side of the hand now ....this is pr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jointmo.elev.dep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876920" cy="3610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52880" y="1447920"/>
            <a:ext cx="38102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levatio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aising or moving a part superio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lif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houl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Depress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lowering or moving a part inferior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dropping the shoul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ircumduction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217152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14800" y="1981080"/>
            <a:ext cx="4343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Circum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- a circular movement that combines flexion/extension with abduction/addu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circling the leg in the hip sock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facemusc" descr="Human head anterior muscles"/>
          <p:cNvPicPr/>
          <p:nvPr/>
        </p:nvPicPr>
        <p:blipFill>
          <a:blip r:embed="rId1"/>
          <a:stretch/>
        </p:blipFill>
        <p:spPr>
          <a:xfrm>
            <a:off x="1447920" y="762120"/>
            <a:ext cx="3554280" cy="5154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3733920" y="6094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038480" y="2057400"/>
            <a:ext cx="2286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990720" y="2971800"/>
            <a:ext cx="2209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038120" y="3276720"/>
            <a:ext cx="2057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733560" y="4343040"/>
            <a:ext cx="2361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66680" y="3657240"/>
            <a:ext cx="10670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419360" y="137160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380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1295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cularis oc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2767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ygomaticus major and mi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41911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or anguli o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809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neckmusc" descr="Left lateral neck muscles"/>
          <p:cNvPicPr/>
          <p:nvPr/>
        </p:nvPicPr>
        <p:blipFill>
          <a:blip r:embed="rId1"/>
          <a:stretch/>
        </p:blipFill>
        <p:spPr>
          <a:xfrm>
            <a:off x="838080" y="762120"/>
            <a:ext cx="4378320" cy="4136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2514240" y="2666880"/>
            <a:ext cx="2590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114800" y="4038480"/>
            <a:ext cx="22860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733920" y="13716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762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ipit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2438280"/>
            <a:ext cx="2971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nocleidomast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: sternum/clav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mastoid process of temporal 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5334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3:31:56Z</dcterms:created>
  <dc:creator>TCSD</dc:creator>
  <dc:description/>
  <dc:language>en-US</dc:language>
  <cp:lastModifiedBy>TCSD</cp:lastModifiedBy>
  <dcterms:modified xsi:type="dcterms:W3CDTF">2005-12-14T19:57:12Z</dcterms:modified>
  <cp:revision>20</cp:revision>
  <dc:subject/>
  <dc:title>Muscles</dc:title>
</cp:coreProperties>
</file>