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34.gif" ContentType="image/gif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39.gif" ContentType="image/gif"/>
  <Override PartName="/ppt/media/image28.jpeg" ContentType="image/jpeg"/>
  <Override PartName="/ppt/media/image7.jpeg" ContentType="image/jpeg"/>
  <Override PartName="/ppt/media/image35.gif" ContentType="image/gif"/>
  <Override PartName="/ppt/media/image11.png" ContentType="image/png"/>
  <Override PartName="/ppt/media/image8.jpeg" ContentType="image/jpeg"/>
  <Override PartName="/ppt/media/image9.png" ContentType="image/png"/>
  <Override PartName="/ppt/media/image29.gif" ContentType="image/gif"/>
  <Override PartName="/ppt/media/image30.gif" ContentType="image/gif"/>
  <Override PartName="/ppt/media/image37.gif" ContentType="image/gif"/>
  <Override PartName="/ppt/media/image20.png" ContentType="image/png"/>
  <Override PartName="/ppt/media/image2.jpeg" ContentType="image/jpeg"/>
  <Override PartName="/ppt/media/image40.gif" ContentType="image/gif"/>
  <Override PartName="/ppt/media/image38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8A0-693A-43B4-9EF3-02901857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1FF-93C5-4B4F-B6F7-0F7D0E77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48C-750C-4961-A093-A45D60FD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A78-AA85-4D89-AF5C-EFEC25CF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9A6-8AAE-49BA-8421-08B93ED7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707-56D6-4F88-82A0-35359AB6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5BB-4AAC-4FC4-A31E-850FF167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069-D8F1-453E-B397-35CD065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693-0968-4D06-8FB7-82CBA85A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3C6-21F9-44D3-8739-489A9074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1B8-9B90-4022-9ED4-A98DE92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6AA-B5EB-4EE7-AF40-D53149E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186-76EA-4CE7-B7A5-0B06FCB5F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D1A9FED91689934&amp;sid=1E941AFED91689934&amp;o=0&amp;qid=EFA84EE418E76212A9D88F9252F88B6C&amp;io=14&amp;sv=0a300511&amp;ask=muscle+flex&amp;uip=a8a95ab3&amp;en=pi&amp;eo=&amp;pt=&amp;ac=18&amp;qs=31&amp;pg=1&amp;u=http%3A%2F%2Fwww.ask.com%2Ffr%3Fq%3Dmuscle%2Bflex%26desturi%3Dhttp%253A%252F%252Fwww.cbc.ca%252Fstories%252F2003%252F06%252F26%252Fmuscle_scell030626%26fm%3Di%26ac%3D18%26ftURI%3Dhttp%253A%252F%252Fpictures.ask.com%253A80%252Ffr%253Fq%253Dmuscle%252Bflex%2526desturi%253Dhttp%25253A%25252F%25252Fwww.cbc.ca%25252Fstories%25252F2003%25252F06%25252F26%25252Fmuscle_scell030626%2526imagesrc%253Dhttp%25253A%25252F%25252Fwww.cbc.ca%25252Fgfx%25252Fphotos%25252Fmuscle_flex010102.jpg%2526thumbsrc%253Dhttp%25253A%25252F%25252F65.214.37.88%25252Fts%25253Ft%25253D5763158655939024956%2526fn%253Dmuscle_flex010102.jpg%2526f%253D2%2526fm%253Di%2526ftbURI%253Dhttp%25253A%25252F%25252Fpictures.ask.com%25252Fpictures%25253Fq%25253Dmuscle%25252Bflex%252526page%25253D1%26qt%3D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ntmusc2" descr="Superficial muscles of thorax and abdomen"/>
          <p:cNvPicPr/>
          <p:nvPr/>
        </p:nvPicPr>
        <p:blipFill>
          <a:blip r:embed="rId1"/>
          <a:stretch/>
        </p:blipFill>
        <p:spPr>
          <a:xfrm>
            <a:off x="838080" y="762120"/>
            <a:ext cx="3922920" cy="543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3657600" y="9907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05320" y="38862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733560" y="2971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560" y="44956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9480" y="41911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962160" y="20574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0"/>
            <a:ext cx="3810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ctoralis Maj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Clavicle, Sternum; ribs 1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 (greater tube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ratu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191120"/>
            <a:ext cx="28954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us Abdomi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Pubic Crest/symph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Xiphoid process; rib cartilage 5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371600"/>
            <a:ext cx="2895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Lumbar spine and iliac c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ackmusc" descr="Superficial muscles of back"/>
          <p:cNvPicPr/>
          <p:nvPr/>
        </p:nvPicPr>
        <p:blipFill>
          <a:blip r:embed="rId1"/>
          <a:stretch/>
        </p:blipFill>
        <p:spPr>
          <a:xfrm>
            <a:off x="914400" y="380880"/>
            <a:ext cx="3851280" cy="619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3505320" y="114300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505320" y="3886200"/>
            <a:ext cx="3047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429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hubibo25" descr="Superficial muscles of anterior arm"/>
          <p:cNvPicPr/>
          <p:nvPr/>
        </p:nvPicPr>
        <p:blipFill>
          <a:blip r:embed="rId1"/>
          <a:stretch/>
        </p:blipFill>
        <p:spPr>
          <a:xfrm>
            <a:off x="609480" y="609480"/>
            <a:ext cx="238932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hubibo24" descr="Brachialis and coracobrachialis"/>
          <p:cNvPicPr/>
          <p:nvPr/>
        </p:nvPicPr>
        <p:blipFill>
          <a:blip r:embed="rId2"/>
          <a:stretch/>
        </p:blipFill>
        <p:spPr>
          <a:xfrm>
            <a:off x="6019920" y="609480"/>
            <a:ext cx="2663640" cy="453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1752480" y="1066680"/>
            <a:ext cx="1981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0492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clavicle, sp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Deltoid tuberocity of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62320" y="2895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057400"/>
            <a:ext cx="1752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,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olecran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486400" y="32767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038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 (anterior) hum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radial tuber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Fig418" descr="Posterior surface of the forearm-Superficial muscles"/>
          <p:cNvPicPr/>
          <p:nvPr/>
        </p:nvPicPr>
        <p:blipFill>
          <a:blip r:embed="rId1"/>
          <a:stretch/>
        </p:blipFill>
        <p:spPr>
          <a:xfrm>
            <a:off x="762120" y="152280"/>
            <a:ext cx="2119320" cy="647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1904760" y="2666880"/>
            <a:ext cx="2895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09680" y="182880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23880" y="609480"/>
            <a:ext cx="335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3120" y="-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vesalius_arm_muscle_inner" descr="vesalius_arm_muscle_inner"/>
          <p:cNvPicPr/>
          <p:nvPr/>
        </p:nvPicPr>
        <p:blipFill>
          <a:blip r:embed="rId1"/>
          <a:stretch/>
        </p:blipFill>
        <p:spPr>
          <a:xfrm>
            <a:off x="609480" y="533520"/>
            <a:ext cx="3380040" cy="556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3124080" y="17524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mari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048120" y="83808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609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19520" y="289548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90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980720" y="2819160"/>
            <a:ext cx="35053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495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chio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liopspo" descr="Iliacus, psoas major, diaphragm and anterior superficial thigh muscles"/>
          <p:cNvPicPr/>
          <p:nvPr/>
        </p:nvPicPr>
        <p:blipFill>
          <a:blip r:embed="rId1"/>
          <a:stretch/>
        </p:blipFill>
        <p:spPr>
          <a:xfrm>
            <a:off x="1676520" y="457200"/>
            <a:ext cx="2841480" cy="5810400"/>
          </a:xfrm>
          <a:prstGeom prst="rect">
            <a:avLst/>
          </a:prstGeom>
          <a:ln w="0">
            <a:noFill/>
          </a:ln>
        </p:spPr>
      </p:pic>
      <p:pic>
        <p:nvPicPr>
          <p:cNvPr id="122" name="adductlg" descr="Rectus femoris, patellar ligament and medial adductors of thigh"/>
          <p:cNvPicPr/>
          <p:nvPr/>
        </p:nvPicPr>
        <p:blipFill>
          <a:blip r:embed="rId2"/>
          <a:stretch/>
        </p:blipFill>
        <p:spPr>
          <a:xfrm>
            <a:off x="6553080" y="380880"/>
            <a:ext cx="2092320" cy="624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32004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05320" y="46483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otr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066680"/>
            <a:ext cx="19051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85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uctor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96080" y="990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57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971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interme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quads" descr="Anterior superficial muscles of the thigh"/>
          <p:cNvPicPr/>
          <p:nvPr/>
        </p:nvPicPr>
        <p:blipFill>
          <a:blip r:embed="rId1"/>
          <a:stretch/>
        </p:blipFill>
        <p:spPr>
          <a:xfrm>
            <a:off x="1600200" y="533520"/>
            <a:ext cx="273528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2514600" y="1981080"/>
            <a:ext cx="2362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us fem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19320" y="1752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002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or Faciae 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65760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276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c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123720" y="41148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267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me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late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219320" y="32767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47760" y="99072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legpostm" descr="Posterior superficial muscles of thigh"/>
          <p:cNvPicPr/>
          <p:nvPr/>
        </p:nvPicPr>
        <p:blipFill>
          <a:blip r:embed="rId1"/>
          <a:stretch/>
        </p:blipFill>
        <p:spPr>
          <a:xfrm>
            <a:off x="1141560" y="228600"/>
            <a:ext cx="2127240" cy="6477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437920" y="175248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990720"/>
            <a:ext cx="35053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eus Maxi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lium, sacrum,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e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4760" y="480060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8672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752480" y="3352680"/>
            <a:ext cx="3200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3124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tendi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4191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809880"/>
            <a:ext cx="33530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sch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ibula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dorsiflex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276360" cy="318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85800" y="297180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si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60020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162545"/>
                <a:lnTo>
                  <a:pt x="3026" y="3303"/>
                </a:lnTo>
                <a:arcTo wR="10800" hR="10800" stAng="-8162545" swAng="816254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19720" y="220968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tar 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eronmu" descr="Laterial muscles of leg"/>
          <p:cNvPicPr/>
          <p:nvPr/>
        </p:nvPicPr>
        <p:blipFill>
          <a:blip r:embed="rId1"/>
          <a:stretch/>
        </p:blipFill>
        <p:spPr>
          <a:xfrm>
            <a:off x="2743200" y="228600"/>
            <a:ext cx="3282840" cy="619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1828800" y="251460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05320"/>
            <a:ext cx="2133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nem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Calcaneal tne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828800" y="3657600"/>
            <a:ext cx="1752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09520" y="2514600"/>
            <a:ext cx="2667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20574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587760" y="1662120"/>
            <a:ext cx="1969920" cy="3675240"/>
            <a:chOff x="3587760" y="1662120"/>
            <a:chExt cx="1969920" cy="3675240"/>
          </a:xfrm>
        </p:grpSpPr>
        <p:sp>
          <p:nvSpPr>
            <p:cNvPr id="167" name=""/>
            <p:cNvSpPr/>
            <p:nvPr/>
          </p:nvSpPr>
          <p:spPr>
            <a:xfrm>
              <a:off x="3587760" y="1662120"/>
              <a:ext cx="17859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7760" y="1662120"/>
              <a:ext cx="1969920" cy="36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208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peroneusbrevis" descr="Peroneus brevis muscle"/>
          <p:cNvPicPr/>
          <p:nvPr/>
        </p:nvPicPr>
        <p:blipFill>
          <a:blip r:embed="rId2"/>
          <a:stretch/>
        </p:blipFill>
        <p:spPr>
          <a:xfrm>
            <a:off x="6553080" y="2971800"/>
            <a:ext cx="1714680" cy="331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44956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38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7080" y="91440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0492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medial cuneiform, I Metata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243828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ts" descr=""/>
          <p:cNvPicPr/>
          <p:nvPr/>
        </p:nvPicPr>
        <p:blipFill>
          <a:blip r:embed="rId3"/>
          <a:stretch/>
        </p:blipFill>
        <p:spPr>
          <a:xfrm>
            <a:off x="67816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joint_%20motion" descr=""/>
          <p:cNvPicPr/>
          <p:nvPr/>
        </p:nvPicPr>
        <p:blipFill>
          <a:blip r:embed="rId4"/>
          <a:stretch/>
        </p:blipFill>
        <p:spPr>
          <a:xfrm>
            <a:off x="3200400" y="533520"/>
            <a:ext cx="3711600" cy="510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590920"/>
            <a:ext cx="2514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Flex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e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In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3679920" y="2111400"/>
            <a:ext cx="1785960" cy="2775960"/>
            <a:chOff x="3679920" y="2111400"/>
            <a:chExt cx="1785960" cy="2775960"/>
          </a:xfrm>
        </p:grpSpPr>
        <p:sp>
          <p:nvSpPr>
            <p:cNvPr id="176" name=""/>
            <p:cNvSpPr/>
            <p:nvPr/>
          </p:nvSpPr>
          <p:spPr>
            <a:xfrm>
              <a:off x="3679920" y="2111400"/>
              <a:ext cx="17859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79920" y="2111400"/>
              <a:ext cx="161280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149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flexor_digitorum_longus_muscle" descr="Flexor digitorum longus muscle"/>
          <p:cNvPicPr/>
          <p:nvPr/>
        </p:nvPicPr>
        <p:blipFill>
          <a:blip r:embed="rId2"/>
          <a:stretch/>
        </p:blipFill>
        <p:spPr>
          <a:xfrm>
            <a:off x="6172200" y="1600200"/>
            <a:ext cx="2549520" cy="4419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791320" y="48765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877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687760" y="2103480"/>
            <a:ext cx="3768480" cy="2652840"/>
            <a:chOff x="2687760" y="2103480"/>
            <a:chExt cx="3768480" cy="2652840"/>
          </a:xfrm>
        </p:grpSpPr>
        <p:sp>
          <p:nvSpPr>
            <p:cNvPr id="183" name=""/>
            <p:cNvSpPr/>
            <p:nvPr/>
          </p:nvSpPr>
          <p:spPr>
            <a:xfrm>
              <a:off x="2687760" y="2103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7760" y="2103480"/>
              <a:ext cx="376848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lowerlegmusclesok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09588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6248160" y="26668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47676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15000" y="46483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43434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33520"/>
            <a:ext cx="28191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895480" y="25142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905120"/>
            <a:ext cx="2133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4479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38280" y="365760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4495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95280" y="3352320"/>
            <a:ext cx="2971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6576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mage411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477120" cy="484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91320" y="426708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0481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37160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hand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971800" cy="3828960"/>
          </a:xfrm>
          <a:prstGeom prst="rect">
            <a:avLst/>
          </a:prstGeom>
          <a:ln w="0">
            <a:noFill/>
          </a:ln>
        </p:spPr>
      </p:pic>
      <p:pic>
        <p:nvPicPr>
          <p:cNvPr id="208" name="depress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elbex" descr=""/>
          <p:cNvPicPr/>
          <p:nvPr/>
        </p:nvPicPr>
        <p:blipFill>
          <a:blip r:embed="rId3"/>
          <a:stretch/>
        </p:blipFill>
        <p:spPr>
          <a:xfrm>
            <a:off x="3962520" y="3200400"/>
            <a:ext cx="35049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ronation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74560" cy="2136600"/>
          </a:xfrm>
          <a:prstGeom prst="rect">
            <a:avLst/>
          </a:prstGeom>
          <a:ln w="0">
            <a:noFill/>
          </a:ln>
        </p:spPr>
      </p:pic>
      <p:pic>
        <p:nvPicPr>
          <p:cNvPr id="211" name="handabd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3276360" cy="1969920"/>
          </a:xfrm>
          <a:prstGeom prst="rect">
            <a:avLst/>
          </a:prstGeom>
          <a:ln w="0">
            <a:noFill/>
          </a:ln>
        </p:spPr>
      </p:pic>
      <p:pic>
        <p:nvPicPr>
          <p:cNvPr id="212" name="abd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286000" cy="3578400"/>
          </a:xfrm>
          <a:prstGeom prst="rect">
            <a:avLst/>
          </a:prstGeom>
          <a:ln w="0">
            <a:noFill/>
          </a:ln>
        </p:spPr>
      </p:pic>
      <p:pic>
        <p:nvPicPr>
          <p:cNvPr id="213" name="hipflx" descr=""/>
          <p:cNvPicPr/>
          <p:nvPr/>
        </p:nvPicPr>
        <p:blipFill>
          <a:blip r:embed="rId4"/>
          <a:stretch/>
        </p:blipFill>
        <p:spPr>
          <a:xfrm>
            <a:off x="4724280" y="3048120"/>
            <a:ext cx="30099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hiphyext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143160" cy="2368800"/>
          </a:xfrm>
          <a:prstGeom prst="rect">
            <a:avLst/>
          </a:prstGeom>
          <a:ln w="0">
            <a:noFill/>
          </a:ln>
        </p:spPr>
      </p:pic>
      <p:pic>
        <p:nvPicPr>
          <p:cNvPr id="215" name="kneeext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10240" cy="2872080"/>
          </a:xfrm>
          <a:prstGeom prst="rect">
            <a:avLst/>
          </a:prstGeom>
          <a:ln w="0">
            <a:noFill/>
          </a:ln>
        </p:spPr>
      </p:pic>
      <p:pic>
        <p:nvPicPr>
          <p:cNvPr id="216" name="shoabd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3828960" cy="2886120"/>
          </a:xfrm>
          <a:prstGeom prst="rect">
            <a:avLst/>
          </a:prstGeom>
          <a:ln w="0">
            <a:noFill/>
          </a:ln>
        </p:spPr>
      </p:pic>
      <p:pic>
        <p:nvPicPr>
          <p:cNvPr id="217" name="sup" descr=""/>
          <p:cNvPicPr/>
          <p:nvPr/>
        </p:nvPicPr>
        <p:blipFill>
          <a:blip r:embed="rId4"/>
          <a:stretch/>
        </p:blipFill>
        <p:spPr>
          <a:xfrm>
            <a:off x="5105520" y="3657600"/>
            <a:ext cx="33526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rkext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4057560" cy="3057480"/>
          </a:xfrm>
          <a:prstGeom prst="rect">
            <a:avLst/>
          </a:prstGeom>
          <a:ln w="0">
            <a:noFill/>
          </a:ln>
        </p:spPr>
      </p:pic>
      <p:pic>
        <p:nvPicPr>
          <p:cNvPr id="219" name="trkhyext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3148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antmusc" descr="Superficial human muscles anterior supinated view"/>
          <p:cNvPicPr/>
          <p:nvPr/>
        </p:nvPicPr>
        <p:blipFill>
          <a:blip r:embed="rId1"/>
          <a:stretch/>
        </p:blipFill>
        <p:spPr>
          <a:xfrm>
            <a:off x="2819520" y="304920"/>
            <a:ext cx="305280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ointmo_AB_rotate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352680" cy="4724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106668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b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away from the mid-line) ver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oward the middl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figure to the lef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b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the ar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g AWAY from the mid-line of the body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d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or coming toward the mid-line of the body.  see arrows.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ointmo_ev.inv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51928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1447920"/>
            <a:ext cx="4876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 later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or AWAY from the big toe and medial side of the foo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OWA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medial border or big toe side of the fo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ointmo.pronate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9436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914400"/>
            <a:ext cx="3962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upin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laterally) 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 arm to the front with your palm facing toward the cei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..the thumb is on the lateral side of the hand....this is supinatio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nation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medially)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r arm to the front with your palm facing toward the floor...The thumb is on the medial side of the hand now ....this is pr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ointmo.elev.dep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87692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1447920"/>
            <a:ext cx="3810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evatio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aising or moving a part superio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lif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press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lowering or moving a part inferior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ropping 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ircumduction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21715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1981080"/>
            <a:ext cx="4343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Circum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- a circular movement that combines flexion/extension with abduction/addu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ircling the leg in the hip so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acemusc" descr="Human head anterior muscles"/>
          <p:cNvPicPr/>
          <p:nvPr/>
        </p:nvPicPr>
        <p:blipFill>
          <a:blip r:embed="rId1"/>
          <a:stretch/>
        </p:blipFill>
        <p:spPr>
          <a:xfrm>
            <a:off x="1447920" y="762120"/>
            <a:ext cx="3554280" cy="515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733920" y="6094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8480" y="205740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990720" y="29718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38120" y="3276720"/>
            <a:ext cx="2057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733560" y="4343040"/>
            <a:ext cx="2361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66680" y="365724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419360" y="13716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cularis oc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2767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ygomaticus major and mi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191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or anguli 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neckmusc" descr="Left lateral neck muscles"/>
          <p:cNvPicPr/>
          <p:nvPr/>
        </p:nvPicPr>
        <p:blipFill>
          <a:blip r:embed="rId1"/>
          <a:stretch/>
        </p:blipFill>
        <p:spPr>
          <a:xfrm>
            <a:off x="838080" y="762120"/>
            <a:ext cx="4378320" cy="4136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514240" y="2666880"/>
            <a:ext cx="2590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114800" y="4038480"/>
            <a:ext cx="2286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33920" y="13716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762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ipi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43828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nocleidomast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sternum/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mastoid process of temporal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3:31:56Z</dcterms:created>
  <dc:creator>TCSD</dc:creator>
  <dc:description/>
  <dc:language>en-US</dc:language>
  <cp:lastModifiedBy>TCSD</cp:lastModifiedBy>
  <dcterms:modified xsi:type="dcterms:W3CDTF">2005-12-14T19:57:12Z</dcterms:modified>
  <cp:revision>20</cp:revision>
  <dc:subject/>
  <dc:title>Muscles</dc:title>
</cp:coreProperties>
</file>