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035-22A9-4974-9325-7DBE878E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20A-551C-413B-B69E-BB5F74CE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C8C-BC3B-44B8-8079-A3813922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336-47B1-4AE4-A923-1DC1D9E2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4CBD-9A2C-49A2-ABE2-681A60F6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359E-E4FC-43D9-AB29-AA99C31D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7BE4-1FF7-4FCE-B9B3-C0851B1C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CDE4-2147-4B46-A063-24EB823E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B0E5-8908-4EF2-B1A0-7B8DF81C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5855-B8CE-46F3-8F9E-F74871E1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8DBA-379F-42EB-94F9-6B5950A0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39C-FC3B-42BD-A0EA-7017F069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3868-19E8-4FC0-9076-EF98ECE1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0DDB-D9EA-4E85-BC69-A8E14A51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098D-5D55-43E7-A666-1249EAD1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4F6C-54D1-44D8-807A-25CC143A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4E19-7D7E-4C6F-87BF-39F5F90F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F48-6A33-4DC3-83A0-EB71966B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087F-4073-4DC3-B5FA-98030A3B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124-C9D0-4A33-BCE3-E621ECD9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A258-2B61-4E45-96AE-2108612B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FDA-8A3B-448F-B8FB-2C494A08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940-292B-4711-87A5-7A4B319C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23C1-E28B-4A20-B10A-5EB474CC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7DCE-F260-4F03-B6E6-73B963E6F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DF67-8BAC-47BE-B034-58D50377EB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Maryvale M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1752480" y="6095880"/>
            <a:ext cx="5658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e any the same as last yea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Discussion 5-8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oals for Day 2 based on gap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y 2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1/19/10 )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 Develop at least one more CFA with scoring guid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oose gapped area; bring CFA materials from last y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aryvale</cp:lastModifiedBy>
  <dcterms:modified xsi:type="dcterms:W3CDTF">2009-09-15T11:46:19Z</dcterms:modified>
  <cp:revision>13</cp:revision>
  <dc:subject/>
  <dc:title>Starpoint PD Science</dc:title>
</cp:coreProperties>
</file>