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DF1-FF31-4449-B8AD-8FAF01CD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CA2-2E1C-4C02-9BE2-21D3C2AD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F6C-7576-4344-AAFB-FE881E5C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F64-8695-4E3A-9FD1-17CB6CDA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042F-DE54-417D-9014-3C963240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F04E-4E23-494B-A007-6124FC5E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85F9-44B7-41CE-BC32-B7F4CB6A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945D-82F3-4FE8-A6C1-0B3DA43A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E106-3FFE-41AE-BC43-71B9C249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0527-395F-470F-AD01-9AA75D46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ABE9-A8D5-4B20-B070-D8D8926D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083-C5AB-4AE1-8AA5-A60FE93B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46B1-70D8-4151-807D-A8BD6F6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4DB9-487E-48F4-97A8-312A7D11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6C2C-92FB-4EFA-8606-4FA8E41C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08DE-C207-493C-B980-DDEDB06B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E382-D8FB-42A2-8162-248F1931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FF0-98C5-4B8F-8649-84A4BB1B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1FF-7F66-439B-91E6-0C9C78B4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40A-25C3-42C3-B76F-E6283419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8AE-896C-4250-AB63-75D1F546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7AB-6C5C-4178-A85B-89221DDF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411-AFCB-49D8-B5EA-4B9A8DE8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58D-7428-4938-A39B-8129D20C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DD9B-2B19-4F21-9339-5C23EC753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8490-BF69-438A-9B7F-A04B59B1F3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Maryvale MS PD</a:t>
            </a:r>
            <a:br>
              <a:rPr sz="7200"/>
            </a:b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Science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elcome Back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bbd71"/>
                </a:solidFill>
                <a:latin typeface="Arial"/>
              </a:rPr>
              <a:t>Icebreaker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We Last Me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-1857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we last met, life has been like what book, movie or song title?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ke 2 minutes to think and write on note-car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742680" indent="-148320">
              <a:spcBef>
                <a:spcPts val="9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 why this choice captures your experiences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82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Warm-U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the Power PI’s in your content are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? 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352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here do they struggle the mo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s Perception Real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Power PI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requently asked over time? Most important? Endu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r students’ biggest gap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itize top 3-5 improvement points based on gaps in trended (power PI) areas fir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1752480" y="6095880"/>
            <a:ext cx="5658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e any the same as last yea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construct Top 3 Gap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905120" y="4343400"/>
            <a:ext cx="5105160" cy="1523880"/>
          </a:xfrm>
          <a:custGeom>
            <a:avLst/>
            <a:gdLst>
              <a:gd name="textAreaLeft" fmla="*/ 893160 w 5105160"/>
              <a:gd name="textAreaRight" fmla="*/ 3701160 w 510516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648320" y="304812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Create Annual Improvement Go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Discussion 5-8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ls for Day 2 based on gap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y 2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/19/10 )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Develop at least one more CFA with scoring guid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0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oose gapped area; bring CFA materials from last y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5:30Z</dcterms:created>
  <dc:creator>Monica Burgio Daigler</dc:creator>
  <dc:description/>
  <dc:language>en-US</dc:language>
  <cp:lastModifiedBy>Maryvale</cp:lastModifiedBy>
  <dcterms:modified xsi:type="dcterms:W3CDTF">2009-09-15T11:46:19Z</dcterms:modified>
  <cp:revision>13</cp:revision>
  <dc:subject/>
  <dc:title>Starpoint PD Science</dc:title>
</cp:coreProperties>
</file>