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3C3-D875-4D62-B7D8-2F9FF1D0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8D3-9EF2-4ABF-B18E-59BB1809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242-EF19-4C48-8EEF-440F3644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FE7-4A07-42AA-B580-72BA9207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FDC9-F75B-48A9-9E6B-48139C9C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3789-CE6E-4E0C-8DAD-09C2A5DF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782E-43AA-4A82-85BF-6DFFD62D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732F-A033-4B23-B994-384B4DC4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70D5-6D2B-4150-9626-C2B4F27D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85BB-711D-4223-9FA4-665ECC71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9B0D-41EF-4422-A3ED-EE74F71C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D40-5D10-4F3A-8491-4F71609A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8331-4D4E-46CC-97E7-8F1EC040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DD99-6584-47D6-9139-4CC38532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AB23-EA7B-41BE-95E9-36467B8E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EF4E-1139-4684-A69C-5A6207FC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D000-75AB-4FEB-AD36-4573582F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9AC-1A4E-483F-9CDC-CEC02BCB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09A-9B28-48AC-9629-D42DACF2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EF16-486B-4300-9F2C-A695113C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A4F-3B59-4C9F-AC53-BE51C2B4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A2A-4F94-449A-A82B-3649212B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AB0-FE88-4599-86E8-37021FDE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058-668A-49B2-890E-1105306C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FD8D-5558-4109-8DC3-4F8E195AE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9764-5FF6-49A7-AB3B-10EF2A2140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Maryvale M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 5-8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ls for Day 2 based on gap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y 2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/19/10 )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 Develop at least one more CFA with scoring guid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oose gapped area; bring CFA materials from last y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aryvale</cp:lastModifiedBy>
  <dcterms:modified xsi:type="dcterms:W3CDTF">2009-09-15T11:46:19Z</dcterms:modified>
  <cp:revision>13</cp:revision>
  <dc:subject/>
  <dc:title>Starpoint PD Science</dc:title>
</cp:coreProperties>
</file>