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DD3A-0BD3-441B-ACCF-FF27D1B9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4721-88BD-4D45-AB90-C7CF0F42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54E2-C922-4909-B504-F6CFB67E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9C1D-7DDD-456C-999E-0EE6511D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B692-2E95-4B6F-A144-A3D081E1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677D-28E5-4772-94FD-A6357689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2957-4739-40AA-8355-85D47F16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842B-8B2A-4D92-ACD6-C033D7B3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1E65-0BDE-45BE-A65A-67AD854D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EE19-C707-4727-9B0B-B12C0340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1777-3854-4652-8701-ACE5021B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2164-1267-4574-9028-8B3768DC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A624-8A5D-48D0-9AB7-A0239BF6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F5D6-541F-4670-883A-A5074020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AE9B-A816-476B-A522-521A62AE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66D0-C781-4945-99BA-A8B69E39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2295-5CA9-4205-A7DB-6710E5742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8671-D700-450C-B84A-DA0499A7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5309-AE71-4B19-8D1A-C5C14326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E891-0904-4ACF-A35B-5F2E11B8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6C32-574A-497C-82CF-457EB64A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181E-FEA2-4235-85EE-1295366D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A8BF-E353-4ED8-B6A3-FFEE1C91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1DE5-A70D-4627-BBBA-4F42DA70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66F0-F4B0-45F6-B7D0-FAC622C51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4792-88D2-42E9-BA32-E3FE1BD199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Maryvale MS PD</a:t>
            </a:r>
            <a:br>
              <a:rPr sz="7200"/>
            </a:b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cience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479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Welcome Back!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Icebreaker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nce We Last Met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-18576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nce we last met, life has been like what book, movie or song title?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ake 2 minutes to think and write on note-car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plain why this choice captures your experiences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Warm-Up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the Power PI’s in your content are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? 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53352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your students’ biggest gap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Where do they struggle the mos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s Perception Realit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Power PI’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 over time?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533520" y="3657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your students’ biggest gap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itize top 3-5 improvement points based on gaps in trended (power PI) areas first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1752480" y="6095880"/>
            <a:ext cx="5658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re any the same as last year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nstruct Top 3 Gap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1905120" y="4343400"/>
            <a:ext cx="5105160" cy="1523880"/>
          </a:xfrm>
          <a:custGeom>
            <a:avLst/>
            <a:gdLst>
              <a:gd name="textAreaLeft" fmla="*/ 893160 w 5105160"/>
              <a:gd name="textAreaRight" fmla="*/ 3701160 w 5105160"/>
              <a:gd name="textAreaTop" fmla="*/ 204120 h 1523880"/>
              <a:gd name="textAreaBottom" fmla="*/ 13197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4648320" y="304812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Create Annual Improvement Go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Discussion 5-8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oals for Day 2 based on gap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y 2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1/19/10 )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: Develop at least one more CFA with scoring guid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hoose gapped area; bring CFA materials from last ye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7:55:30Z</dcterms:created>
  <dc:creator>Monica Burgio Daigler</dc:creator>
  <dc:description/>
  <dc:language>en-US</dc:language>
  <cp:lastModifiedBy>Maryvale</cp:lastModifiedBy>
  <dcterms:modified xsi:type="dcterms:W3CDTF">2009-09-15T11:46:19Z</dcterms:modified>
  <cp:revision>13</cp:revision>
  <dc:subject/>
  <dc:title>Starpoint PD Science</dc:title>
</cp:coreProperties>
</file>