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309-8AF2-426B-A895-AEC4E86C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627-CE53-42A8-9309-FF27DD78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404-A97D-4684-B21E-F7876F5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3DE-5513-45A8-8550-3EE57C01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68BD-0890-4195-B9B5-4DBC04DB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7707-70A8-41F4-848F-DC64CE7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04E-4E67-4003-85C2-51947C4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76CF-DC6E-4A6A-8C8D-9CEA210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9C61-84EA-4098-A782-28489FE2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55F-53FD-494D-BFD1-BB03587D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CF4A-D757-45A3-8F10-3B97E735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ADF-22BF-4E03-B633-81B3CE3F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053-AB24-4BBF-8BE7-2E0CF40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25D6-3761-424E-AEB5-DEDEA64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C2E-9EFD-4B4C-AFB6-9AD40870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982A-6F23-401C-A128-E659999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28B-B59E-4646-8536-BE827521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2AC-B763-48B7-823C-5F6FCB1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BBA-818A-42A5-891A-618E7326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203-D7F3-4E93-9C9B-83879A2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F96-B916-43FB-AF67-B2AE612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35D-32DD-4C7B-9251-D5A64CF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0D0-4D21-4925-BB58-A2284A5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6E4-ABF7-4697-AB9A-90B6731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153-EA8F-46FE-83C7-2DFE92F94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A757-7EE1-42FA-A0A1-4E6BEA20D2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H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: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-4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26/10 Monica – HS Science – Build resources for remediation and DI  (focus to raise levels, especially numbers at the mastery lev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3/31/10 KRISTEN– HS Science – 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4/07/10 JILL – HS Science - Coaching for practice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onica Burgio Daigler</cp:lastModifiedBy>
  <dcterms:modified xsi:type="dcterms:W3CDTF">2009-09-09T16:33:17Z</dcterms:modified>
  <cp:revision>12</cp:revision>
  <dc:subject/>
  <dc:title>Starpoint PD Science</dc:title>
</cp:coreProperties>
</file>