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D9E-25B6-4CB8-9B75-63E3FE3B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C46-55EB-4408-9831-40FBF04D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E26-D81A-4923-BD45-7C1E9BBF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876-0E2E-4A48-B9BE-170FE73C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AC97-D75E-4C25-AA30-A345862A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841B-F815-48F3-B385-419D589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D877-02B8-4202-9233-1E59937A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D448-CFA5-4808-8CAE-1C60053F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D08E-1312-471A-AA4A-9EE8EFE6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A7AC-8E5A-44CF-A82F-6B78CF0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1588-2DEE-4DAB-A395-39ACB37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D58-30DB-4966-BD0B-3D1A6E30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5975-FE54-4946-BEF5-08DAF8A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8B4F-C36A-4E96-9C0F-D77B111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B2FD-365B-4CD2-A204-D9DAFCD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DD76-EFB3-4117-9440-66C62D9A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4607-D727-4BCF-AF8C-70162DB1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84F-F83D-47A5-A03E-F0687FBB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1B9-23EA-4F67-84AB-D16CC46D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974-2E5D-4D70-AC71-40126A09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EB8-2715-43A1-BB11-AC7CCA28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7AC-409B-4E87-AC99-38774CF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F88-C6CF-4336-9D33-447C202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A00-87B2-471E-9087-CD5F4470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3FE6-2AA4-4065-977A-98609F6B5B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0CC4-6DFE-4654-9425-FB904B3C19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-4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26/10 Monica – HS Science – Build resources for remediation and DI  (focus to raise levels, especially numbers at the mastery lev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3/31/10 KRISTEN– HS Science – 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4/07/10 JILL – HS Science - Coaching for practice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6:33:17Z</dcterms:modified>
  <cp:revision>12</cp:revision>
  <dc:subject/>
  <dc:title>Starpoint PD Science</dc:title>
</cp:coreProperties>
</file>