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C0C7-F104-491C-9FB9-C5B6A2765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5928-0BAC-4DC4-A77B-F2387AA8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7ED6-55FD-4937-8337-9DE61D144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1034-8284-4170-8174-14DC49A14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77CF-0B8A-4F57-86BF-6F4DB7104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74BE-6577-4365-881F-B23A05AA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6880-10A4-450E-AC80-C1120F3C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2709-B74C-480E-B313-83312473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C4B2-0AA9-4EC1-96C7-B4B22DC0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EF47-4CF6-482E-8473-790AE3D9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BF63-0BFC-414B-A8D1-E7EB4D64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8490-A563-477E-AA45-6C90FF1A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194F-7B15-476A-8D8B-99D45D62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9567-8305-41A9-95D6-C30239D9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74EA-05C7-46B7-9FC2-352D11FB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197A-ADEE-42AC-AF5E-0BF02EFF7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4F3A-C74B-46FA-94A2-9F1CA4F25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0B77-1073-4563-874E-B66616D7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76E4-D1D9-40FD-92C7-276EEBF3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B033-6087-49A5-B07E-B7EDA273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035D-85B1-4690-8295-23E65FC7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05B5-17E3-439E-A121-18C88388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C458-7186-4666-BCFC-155E5BFC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4FAB-5D98-440E-816A-1F41700B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4E13-0A53-4841-A88B-E74F539A502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B2F7-E596-4EA6-8EEC-8846D9A1890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Maryvale HS PD</a:t>
            </a:r>
            <a:br>
              <a:rPr sz="7200"/>
            </a:b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cience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4792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Welcome Back!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Icebreaker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ince We Last Met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-185760">
              <a:spcBef>
                <a:spcPts val="1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ince we last met, life has been like what book, movie or song title?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ake 2 minutes to think and write on note-car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plain why this choice captures your experiences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Warm-Up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the Power PI’s in your content are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? 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38098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your students’ biggest g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do they struggle the mo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s Perception Reality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Power PI’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 over time?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36576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your students’ biggest g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4956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oritize top 3-5 improvement points based on gaps in trended (power PI) areas firs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752480" y="6095880"/>
            <a:ext cx="5658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re any the same as last year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construct Top 3 Gap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4343400"/>
            <a:ext cx="5105160" cy="1523880"/>
          </a:xfrm>
          <a:custGeom>
            <a:avLst/>
            <a:gdLst>
              <a:gd name="textAreaLeft" fmla="*/ 893160 w 5105160"/>
              <a:gd name="textAreaRight" fmla="*/ 3701160 w 5105160"/>
              <a:gd name="textAreaTop" fmla="*/ 204120 h 1523880"/>
              <a:gd name="textAreaBottom" fmla="*/ 13197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3048120"/>
            <a:ext cx="39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Create Annual Improvement Go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bbd71"/>
                </a:solidFill>
                <a:latin typeface="Arial"/>
              </a:rPr>
              <a:t>Discussion: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oals for Day 2-4 based on gap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1/26/10 Monica – HS Science – Build resources for remediation and DI  (focus to raise levels, especially numbers at the mastery leve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3/31/10 KRISTEN– HS Science – D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4/07/10 JILL – HS Science - Coaching for practice develop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7:55:30Z</dcterms:created>
  <dc:creator>Monica Burgio Daigler</dc:creator>
  <dc:description/>
  <dc:language>en-US</dc:language>
  <cp:lastModifiedBy>Monica Burgio Daigler</cp:lastModifiedBy>
  <dcterms:modified xsi:type="dcterms:W3CDTF">2009-09-09T16:33:17Z</dcterms:modified>
  <cp:revision>12</cp:revision>
  <dc:subject/>
  <dc:title>Starpoint PD Science</dc:title>
</cp:coreProperties>
</file>