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B9F3-973A-45D0-BB8E-05E70ECCD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55D5-240D-475B-A8AC-426936FFD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A26E-7023-48D2-919C-0A8CD6FFA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4C43-B908-4343-A8A0-49F6C0984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EB0E9-B16C-4D33-AD01-6371BDAD8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87602-84BF-4E0A-90DC-6482DE3FE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25E8B-555D-48AF-B3F0-EF8B75F91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87F87-FC57-4F7E-A480-873BDF951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D0287-2F37-4F01-BED5-2E1BB727A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6E3A5-9DA3-44FB-BBB1-6ACF399A8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1F8E0-C231-4C63-9930-33EC2261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BA9B-050C-48E5-8377-8D1EB0BF7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E4AD4-69BD-47AD-A8E5-431A43BC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BABC7-4F35-4886-A996-C7A8A121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70911-07F0-48D9-8547-8C447C497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EECDB-EDE1-442E-BC35-B41565B3A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D685F-34B3-4355-BE3D-09CFCB632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8883-B388-47AE-9CEB-5FACB0CB4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C18D-B9D3-430E-99E2-3C45C4C4C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3153-2B20-4D75-AB3C-0D9086CCA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C4FB-7AED-4F34-81E7-6271670F2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D52E-C11D-4724-A7AB-47494F34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2C3A-F457-4C18-BAA1-75A6A1F5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5BF5-ACD2-47B3-80FE-56796760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B4AA7-D9F9-4B51-BEF2-D5560AFDC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712F9-8335-4EFC-B36B-57296FF0CFE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Maryvale MS PD</a:t>
            </a:r>
            <a:br>
              <a:rPr sz="7200"/>
            </a:b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Science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4792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Welcome Back!!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Icebreaker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ince We Last Met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482760" indent="-185760">
              <a:spcBef>
                <a:spcPts val="10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ince we last met, life has been like what book, movie or song title?”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2" marL="742680" indent="-148320">
              <a:spcBef>
                <a:spcPts val="9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ake 2 minutes to think and write on note-car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742680" indent="-148320">
              <a:spcBef>
                <a:spcPts val="9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xplain why this choice captures your experiences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482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bbd71"/>
                </a:solidFill>
                <a:uFillTx/>
                <a:latin typeface="Arial"/>
              </a:rPr>
              <a:t>Warm-Up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 you think are the Power PI’s in your content are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frequently asked?  Most Important? Enduri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533520" y="38098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 you think are your students’ biggest gap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Where do they struggle the mos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Is Perception Reality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the Power PI’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frequently asked over time? Most important? Enduri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533520" y="365760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your students’ biggest gap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380880" y="44956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oritize top 3-5 improvement points based on gaps in trended (power PI) areas first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1752480" y="6095880"/>
            <a:ext cx="5658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re any the same as last year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econstruct Top 3 Gap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ki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oo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u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AutoShape 5"/>
          <p:cNvSpPr/>
          <p:nvPr/>
        </p:nvSpPr>
        <p:spPr>
          <a:xfrm>
            <a:off x="1905120" y="4343400"/>
            <a:ext cx="5105160" cy="1523880"/>
          </a:xfrm>
          <a:custGeom>
            <a:avLst/>
            <a:gdLst>
              <a:gd name="textAreaLeft" fmla="*/ 893160 w 5105160"/>
              <a:gd name="textAreaRight" fmla="*/ 3701160 w 5105160"/>
              <a:gd name="textAreaTop" fmla="*/ 204120 h 1523880"/>
              <a:gd name="textAreaBottom" fmla="*/ 131976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4648320" y="3048120"/>
            <a:ext cx="396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a500"/>
                </a:solidFill>
                <a:latin typeface="Tahoma"/>
              </a:rPr>
              <a:t>Create Annual Improvement Go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bbd71"/>
                </a:solidFill>
                <a:latin typeface="Arial"/>
              </a:rPr>
              <a:t>Discussion 5-8</a:t>
            </a:r>
            <a:endParaRPr b="0" lang="en-US" sz="6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oals for Day 2 based on gap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ay 2 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01/19/10 )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: Develop at least one more CFA with scoring guide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10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hoose gapped area; bring CFA materials from last yea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1T17:55:30Z</dcterms:created>
  <dc:creator>Monica Burgio Daigler</dc:creator>
  <dc:description/>
  <dc:language>en-US</dc:language>
  <cp:lastModifiedBy>Maryvale</cp:lastModifiedBy>
  <dcterms:modified xsi:type="dcterms:W3CDTF">2009-09-15T11:46:19Z</dcterms:modified>
  <cp:revision>13</cp:revision>
  <dc:subject/>
  <dc:title>Starpoint PD Science</dc:title>
</cp:coreProperties>
</file>