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040C-9533-4839-9FDD-D4B7C42AF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895F-3FF2-43C4-AEE4-D826BFDB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E54C-027F-4145-BE1D-51DF8CD0B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51A1-0D7B-46E7-AF04-F840106B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29B5-E61C-4E0D-8C7B-3ED37EA3D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E54C-7373-4198-967B-3CEE8952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058A-6A16-4930-8077-6D5C0E2F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9029-2501-48DC-8CE8-D637579C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0702-D11B-4D96-A47E-6E2E2764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B8A2-E745-4D19-AA15-C7FC9A28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96D0-F7BE-4F9C-BF0A-597EABD3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D6CA-07D1-47EB-8675-26455418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4ABD-5D72-48DD-ADF2-FA8D9A04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5106-12DB-4407-9747-9913E0C8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9C81-D916-4E34-A977-DCF05434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DA42-B7F0-478E-A8ED-BB2639596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EFEE-7706-4A3F-A129-2C82A6E7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94B5-A430-4414-A9B3-74A2653F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4421-6345-4A87-9630-8D61455B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0ABF-BA8C-4D6A-B248-85112C5C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9A3C-28C6-49EB-B86F-423351FD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D21C-9A18-4306-9E39-F9572A43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CD9F-106F-4E2C-8592-168A1940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3BD4-598D-4D06-87BF-25EB945B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4185-B793-4815-B97B-1FB538175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C13A-2471-48DD-BCA4-B54E7BD605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Maryvale MS PD</a:t>
            </a:r>
            <a:br>
              <a:rPr sz="7200"/>
            </a:b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cience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479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Welcome Back!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Icebreaker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nce We Last Met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-18576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nce we last met, life has been like what book, movie or song title?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ake 2 minutes to think and write on note-car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plain why this choice captures your experiences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Warm-Up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the Power PI’s in your content are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? 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53352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your students’ biggest gap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Where do they struggle the mos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s Perception Realit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Power PI’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 over time?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533520" y="3657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your students’ biggest gap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oritize top 3-5 improvement points based on gaps in trended (power PI) areas first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1752480" y="6095880"/>
            <a:ext cx="5658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re any the same as last year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construct Top 3 Gap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1905120" y="4343400"/>
            <a:ext cx="5105160" cy="1523880"/>
          </a:xfrm>
          <a:custGeom>
            <a:avLst/>
            <a:gdLst>
              <a:gd name="textAreaLeft" fmla="*/ 893160 w 5105160"/>
              <a:gd name="textAreaRight" fmla="*/ 3701160 w 5105160"/>
              <a:gd name="textAreaTop" fmla="*/ 204120 h 1523880"/>
              <a:gd name="textAreaBottom" fmla="*/ 13197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4648320" y="304812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Create Annual Improvement Go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Discussion 5-8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oals for Day 2 based on gap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ay 2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1/19/10 )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: Develop at least one more CFA with scoring guid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hoose gapped area; bring CFA materials from last ye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7:55:30Z</dcterms:created>
  <dc:creator>Monica Burgio Daigler</dc:creator>
  <dc:description/>
  <dc:language>en-US</dc:language>
  <cp:lastModifiedBy>Maryvale</cp:lastModifiedBy>
  <dcterms:modified xsi:type="dcterms:W3CDTF">2009-09-15T11:46:19Z</dcterms:modified>
  <cp:revision>13</cp:revision>
  <dc:subject/>
  <dc:title>Starpoint PD Science</dc:title>
</cp:coreProperties>
</file>