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C52-A34F-47D2-9C79-E8CDE578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952-7A29-4A35-9EC2-A618559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628-CE5B-4238-A94F-A18A980D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E8D-673F-4E58-90BD-0EDDC90F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70B-576C-493D-B46B-6CFC8AF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DB4-756E-4E02-AD7E-1C5BC1FE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5353-2045-4773-97E8-115734A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B2C1-B831-403E-84A5-E7882332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EF7-3E4C-4394-89D6-EF497AE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0939-71FD-4CFB-BFDD-9052DCD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E35C-46F1-4A41-B02C-9A8AE2C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2CB-07DF-4B9E-BF1A-2B31E9A3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5667-27BA-4CE2-9D6E-8350363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8AF-20F6-419C-89D8-CB2EDA57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1232-8228-4D11-8475-8CEA504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A038-BC8C-4687-B0C1-18D84B7B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DA3-D5AC-4A6E-875E-9E2CD821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A84-5FCF-4C49-AD73-3F4A9F23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43B-973E-451D-AD47-3D5EA51F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726-FB89-4267-8931-B116DF7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FFB-BECB-45DC-BB6C-006DC5E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C28-7FBD-45C7-8EBA-24B9568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60D-FC7E-4D9B-9377-AF7A4E5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853-9F6E-4AA2-8091-2A93628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B2F-28F1-4DC2-9EF5-8897B09F18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724-C363-4DE4-B8F1-AF34196BE1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-4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26/10 Monica – HS Science – Build resources for remediation and DI  (focus to raise levels, especially numbers at the mastery lev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3/31/10 KRISTEN– HS Science – 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4/07/10 JILL – HS Science - Coaching for practice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6:33:17Z</dcterms:modified>
  <cp:revision>12</cp:revision>
  <dc:subject/>
  <dc:title>Starpoint PD Science</dc:title>
</cp:coreProperties>
</file>