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601-BBFE-4ED5-B7C7-F4A00544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D53-1651-4F5C-AE6D-C9EB7418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292-BD4F-4DD5-A16C-155EF768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3B4-2EE4-419A-9FB1-C86525A5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711C-37E0-47FE-9E22-38F2D106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A5AF-9786-4A3B-86AD-A2803881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7103-F79D-4230-88FE-B86677D4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C88E-B355-46D8-9AB1-F0FE559C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8004-F62E-4C59-B1AD-EB101A0D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5469-7C26-4D04-8F69-EDEAA5D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B461-92A2-4ED8-9F19-89FB856A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0E5-1884-4ECD-A71C-AF29D7D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FE96-BF35-439A-B66A-1AFFF39C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366B-2243-4221-9315-5B61863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8870-A2E2-4931-935E-ABD76BB4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CE1D-4716-4C15-9095-17CEFAB9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A07A-66EB-479B-8586-75DB3F4F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A2C-3663-462F-B11C-61EAA4F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66A-0421-4302-AD3E-7AA79C94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16B-65BC-4CF8-A29B-814267D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331-F1B5-4F83-9187-31B68539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F65-3807-4274-ABE8-447C993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508-7BC2-432D-B1D8-410F219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A6C-7985-4C65-AFB9-39B0F73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9D04-3BC3-49A0-B2F2-0C9758E787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E07E-44DF-439A-B25C-8BF660C2AD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-4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26/10 Monica – HS Science – Build resources for remediation and DI  (focus to raise levels, especially numbers at the mastery lev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3/31/10 KRISTEN– HS Science – 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4/07/10 JILL – HS Science - Coaching for practice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6:33:17Z</dcterms:modified>
  <cp:revision>12</cp:revision>
  <dc:subject/>
  <dc:title>Starpoint PD Science</dc:title>
</cp:coreProperties>
</file>