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6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7.gif" ContentType="image/gif"/>
  <Override PartName="/ppt/media/image8.gif" ContentType="image/gi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CE63-8888-46F0-8F98-888E3FFEA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2415-2B3B-4CA1-87A8-35C0B03B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0E81-AA27-4E20-ABF4-3732C7270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E4D2-7C17-4C5E-8233-BD4300CC9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7FD7-13D6-40E7-BE01-6041FAA9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8C28-4B10-45DD-9715-9E08C635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2A7F-8796-4433-8872-3ABA69BA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61EF-C7E3-492E-9CE6-B2FEFC7B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326A-2F41-4BF5-8C3C-C9D6EB53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B42B-2FDC-4319-BFAE-8B5371A1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40D5-D4F5-4B18-9E1D-F9076294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2D88-1F8F-49C7-A0FD-9D13A8DE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558E-7CBB-49BE-A889-07E4C992D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file:///NEW2Tonawanda%20Intermediate%20PI%20Trend%20Map%202006-2008.xls" TargetMode="Externa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8610480" cy="6553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850680"/>
            <a:ext cx="64008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hort term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ze Master 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e Adjust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e Document with Secure Benchm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1890720" cy="1904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90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-101520"/>
            <a:ext cx="9144000" cy="7721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3160" y="609480"/>
            <a:ext cx="83055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s of energy and transformations (electricity, heat release, interactions between matter and ener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ces (gravity, magnetism, mechanical, simple machines, through solids and liqu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fe processes and living vs. non-living (life cycle and span, evidence, growth and rep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relationships of living things (plants, animals, decomposers, sun, food chains and web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eritance and evolution (traits, characteristics, reproduce, similarities and differen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ynamic Equilibrium (survival, response to outside change) and being healt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mans and ecology (how we have changed the environ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219320" y="1836360"/>
            <a:ext cx="685800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Look at trends…is there “scaffolded” learning in trended area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71600" y="1098720"/>
            <a:ext cx="6132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do we need to make modific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191120" y="3200400"/>
            <a:ext cx="1019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66680" y="425880"/>
            <a:ext cx="7620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tery/Secure/Extension at what grade(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133720" y="1623960"/>
          <a:ext cx="5486400" cy="3481200"/>
        </p:xfrm>
        <a:graphic>
          <a:graphicData uri="http://schemas.openxmlformats.org/drawingml/2006/table">
            <a:tbl>
              <a:tblPr/>
              <a:tblGrid>
                <a:gridCol w="54864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MENTAL  LEV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ginn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first exposed to the skill through heavy teacher mode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have knowledge, begin independent 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ur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practice skill independently and demonstrate security with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nsio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expected to apply skill independently, flexibly, and appropriately, without prompting from teach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challenged to be reflective about their practice and evaluative of their metacognitive practices in order to reinforce grow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276200" y="1426320"/>
            <a:ext cx="6724800" cy="26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Benchmarks – Secur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791320" y="3168720"/>
            <a:ext cx="241920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49080" y="1526760"/>
            <a:ext cx="61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skills and 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19920" y="3581280"/>
            <a:ext cx="17715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76320"/>
            <a:ext cx="8915400" cy="678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371600" y="760680"/>
            <a:ext cx="7010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Long Term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cc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reate Cohesive Curricular Plan 5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cc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cure Concepts/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cc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reate Common Summative Assessments around 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cc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urriculum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cc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dd Core 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cc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Re-visi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2880" y="304920"/>
            <a:ext cx="1362240" cy="1371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934320" y="3581280"/>
            <a:ext cx="15872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2120" y="1981080"/>
            <a:ext cx="6705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view Last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1768320"/>
            <a:ext cx="182880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00200" y="1661760"/>
            <a:ext cx="6753240" cy="34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ile you were teach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 took your chart paper and tallied what you were teaching o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end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219320" y="990720"/>
            <a:ext cx="1047600" cy="10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bright="50000"/>
          </a:blip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76520" y="220860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et’s Look at the MASTER she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248520" y="3276720"/>
            <a:ext cx="17524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219320" y="738720"/>
            <a:ext cx="68580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re there Gaps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Look at trends…is there “scaffolded” learning in trended area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re there unneeded Repet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Order (what is taught 4</a:t>
            </a:r>
            <a:r>
              <a:rPr b="0" lang="en-US" sz="3600" spc="-1" strike="noStrike" baseline="30000">
                <a:solidFill>
                  <a:srgbClr val="660066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 and 9</a:t>
            </a:r>
            <a:r>
              <a:rPr b="0" lang="en-US" sz="3600" spc="-1" strike="noStrike" baseline="30000">
                <a:solidFill>
                  <a:srgbClr val="660066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90720" y="990720"/>
            <a:ext cx="6858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re there Gaps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19320" y="2384640"/>
            <a:ext cx="6858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re there unneeded Repet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152280"/>
            <a:ext cx="9144000" cy="6959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5800" y="533160"/>
            <a:ext cx="79246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rder (what is taught 4</a:t>
            </a:r>
            <a:r>
              <a:rPr b="0" lang="en-US" sz="3200" spc="-1" strike="noStrike" baseline="30000">
                <a:solidFill>
                  <a:srgbClr val="660066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and 9</a:t>
            </a:r>
            <a:r>
              <a:rPr b="0" lang="en-US" sz="3200" spc="-1" strike="noStrike" baseline="30000">
                <a:solidFill>
                  <a:srgbClr val="660066"/>
                </a:solidFill>
                <a:latin typeface="Arial"/>
              </a:rPr>
              <a:t>th—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Living Environment)—accelerated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2209680"/>
            <a:ext cx="838188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ather and tools (temp., wind speed and direction, precipitation and water cycle, erosion and deposition, weathe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terns and seasonal changes (rotation vs. revo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erties of material and chemical and physical changes, states of matter (Matter, mass, space, properties skills, reactivity and reflectiveness, sink/float, conductivity, magnetism, tools, observ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23:25:15Z</dcterms:created>
  <dc:creator>Monica Burgio</dc:creator>
  <dc:description/>
  <dc:language>en-US</dc:language>
  <cp:lastModifiedBy>Monica Daigler</cp:lastModifiedBy>
  <dcterms:modified xsi:type="dcterms:W3CDTF">2008-12-08T19:08:24Z</dcterms:modified>
  <cp:revision>9</cp:revision>
  <dc:subject/>
  <dc:title>Slide 1</dc:title>
</cp:coreProperties>
</file>