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7.gif" ContentType="image/gi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B4B-03E8-43CF-9F05-2E0D1E46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898-A601-424C-82A8-A4D36416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559-9F79-49FD-AC31-A04A05E6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E9D-4082-41AF-A0AF-B606A89F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730-FC13-4AEF-BACC-0E266913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6BB-D912-4E8F-AC3B-39B5AFEF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34B1-FEEB-4EBC-BAED-FD08F68F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193C-DB25-4B85-91CD-E10B78BB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3C0-71BD-4BD6-8B1B-BD2813F1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BCD-59BB-4FD7-807D-060D6A3B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B66-8CBE-4727-9A09-A4158C68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153-50B9-4195-BE00-038F261B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CF8E-819E-4F4B-8F15-39A89FF02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NEW2Tonawanda%20Intermediate%20PI%20Trend%20Map%202006-2008.xls" TargetMode="Externa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61048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850680"/>
            <a:ext cx="6400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hort term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 Master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Adju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Document with Secure Bench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189072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90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-101520"/>
            <a:ext cx="9144000" cy="7721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83055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s of energy and transformations (electricity, heat release, interactions between matter and ener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ces (gravity, magnetism, mechanical, simple machines, through solids and liqu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e processes and living vs. non-living (life cycle and span, evidence, growth and re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elationships of living things (plants, animals, decomposers, sun, food chains and we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and evolution (traits, characteristics, reproduce, similarities and differe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Equilibrium (survival, response to outside change) and being h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s and ecology (how we have changed the environ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19320" y="1836360"/>
            <a:ext cx="68580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1098720"/>
            <a:ext cx="6132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9080" y="1526760"/>
            <a:ext cx="61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skill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17715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8915400" cy="678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1600" y="76068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ong Term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reate Cohesive Curricular Plan 5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ure Concepts/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reate Common Summative Assessments around 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iculum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dd Core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e-visi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2880" y="304920"/>
            <a:ext cx="136224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934320" y="3581280"/>
            <a:ext cx="1587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1981080"/>
            <a:ext cx="670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iew Last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1768320"/>
            <a:ext cx="182880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1661760"/>
            <a:ext cx="675324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le you were teach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took your chart paper and tallied what you were teaching 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nd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104760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76520" y="22086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et’s Look at the MASTER sh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17524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738720"/>
            <a:ext cx="68580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Order (what is taught 4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 and 9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990720"/>
            <a:ext cx="685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9320" y="2384640"/>
            <a:ext cx="6858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152280"/>
            <a:ext cx="9144000" cy="6959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533160"/>
            <a:ext cx="79246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rder (what is taught 4</a:t>
            </a:r>
            <a:r>
              <a:rPr b="0" lang="en-US" sz="32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and 9</a:t>
            </a:r>
            <a:r>
              <a:rPr b="0" lang="en-US" sz="3200" spc="-1" strike="noStrike" baseline="30000">
                <a:solidFill>
                  <a:srgbClr val="660066"/>
                </a:solidFill>
                <a:latin typeface="Arial"/>
              </a:rPr>
              <a:t>th—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Living Environment)—accelerated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09680"/>
            <a:ext cx="838188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ther and tools (temp., wind speed and direction, precipitation and water cycle, erosion and deposition, weath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terns and seasonal changes (rotation vs. rev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ties of material and chemical and physical changes, states of matter (Matter, mass, space, properties skills, reactivity and reflectiveness, sink/float, conductivity, magnetism, tools, observ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3:25:15Z</dcterms:created>
  <dc:creator>Monica Burgio</dc:creator>
  <dc:description/>
  <dc:language>en-US</dc:language>
  <cp:lastModifiedBy>Monica Daigler</cp:lastModifiedBy>
  <dcterms:modified xsi:type="dcterms:W3CDTF">2008-12-08T19:08:24Z</dcterms:modified>
  <cp:revision>9</cp:revision>
  <dc:subject/>
  <dc:title>Slide 1</dc:title>
</cp:coreProperties>
</file>