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CDF-1DB6-4AA9-A4E4-9EFEB7B6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B55-C727-4459-97F0-9C982572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AB2-83B1-455C-89E6-4E200AC7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DA5-87F5-446A-8CD9-CBECC9D2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573-C03E-4CC6-A474-29DEACE0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BDE-C975-446B-95A7-708EA9A0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614-4767-4584-8E2F-32BB16A9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9A4-AA85-4B6F-B523-DDFAE1DF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251-A6D4-470E-A0D1-DA32B835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095-27D0-442C-AD86-CF591E0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7E7-3A58-482D-B8F0-198FE39E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9DC-06A9-415E-BBB2-D572ED4D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F525-7FC1-4F53-973D-D00CC9886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NEW2Tonawanda%20Intermediate%20PI%20Trend%20Map%202006-2008.xls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1048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850680"/>
            <a:ext cx="6400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hort term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 Master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dju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Document with Secure 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-101520"/>
            <a:ext cx="9144000" cy="7721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s of energy and transformations (electricity, heat release, interactions between matter and ener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ces (gravity, magnetism, mechanical, simple machines, through solids and liq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 processes and living vs. non-living (life cycle and span, evidence, growth and re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elationships of living things (plants, animals, decomposers, sun, food chains and we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evolution (traits, characteristics, reproduce, similarities and differ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Equilibrium (survival, response to outside change) and being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 and ecology (how we have changed the 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1836360"/>
            <a:ext cx="6858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1098720"/>
            <a:ext cx="6132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8915400" cy="678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76068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ong Ter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hesive Curricular Plan 5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ure Concepts/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mmon Summative Assessments around 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iculum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dd Core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-visi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2880" y="30492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934320" y="3581280"/>
            <a:ext cx="1587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198108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1661760"/>
            <a:ext cx="675324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le you were teach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took your chart paper and tallied what you were teaching 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6520" y="22086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’s Look at th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738720"/>
            <a:ext cx="6858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990720"/>
            <a:ext cx="685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2384640"/>
            <a:ext cx="685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52280"/>
            <a:ext cx="9144000" cy="6959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33160"/>
            <a:ext cx="7924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—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Living Environment)—accelerate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09680"/>
            <a:ext cx="83818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ther and tools (temp., wind speed and direction, precipitation and water cycle, erosion and deposition, weath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terns and seasonal changes (rotation vs. r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ies of material and chemical and physical changes, states of matter (Matter, mass, space, properties skills, reactivity and reflectiveness, sink/float, conductivity, magnetism, tools, observ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Daigler</cp:lastModifiedBy>
  <dcterms:modified xsi:type="dcterms:W3CDTF">2008-12-08T19:08:24Z</dcterms:modified>
  <cp:revision>9</cp:revision>
  <dc:subject/>
  <dc:title>Slide 1</dc:title>
</cp:coreProperties>
</file>