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3CD-A5B4-4636-8977-85366969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E5C-CBC2-441B-BB8F-76C7A91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FD9-8204-4BCD-8AFB-159AABF7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F88-2328-4234-82CA-AE62E0EA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821-8B74-48D6-9096-4CB99F3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AF1-9323-43AD-BCB3-A23E7055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76D-628E-4479-9B34-1D4ED826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DCE-E92C-4201-9EBB-0DF0E2E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3F1-13C9-44F2-85B5-4AD1E348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F38-228E-4F00-95CD-ABEBD18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E68-7B59-492A-9366-C941ECB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5AE-B349-40D6-ACE0-37C8779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B0FB-6C59-4E53-9CB5-A9CE63AF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NEW2Tonawanda%20Intermediate%20PI%20Trend%20Map%202006-2008.xls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850680"/>
            <a:ext cx="6400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hort ter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 Master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ocument with Secure 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-101520"/>
            <a:ext cx="9144000" cy="7721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s of energy and transformations (electricity, heat release, interactions between matter and ener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s (gravity, magnetism, mechanical, simple machines, through solids and liq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processes and living vs. non-living (life cycle and span, evidence, growth and re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elationships of living things (plants, animals, decomposers, sun, food chains and w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evolution (traits, characteristics, reproduce, similarities and dif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Equilibrium (survival, response to outside change) and being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and ecology (how we have changed the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1836360"/>
            <a:ext cx="685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098720"/>
            <a:ext cx="6132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8915400" cy="678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068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ong 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hesive Curricular Plan 5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ure Concepts/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mmon Summative Assessments around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iculum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dd Core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-visi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2880" y="30492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3581280"/>
            <a:ext cx="1587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9810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661760"/>
            <a:ext cx="67532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le you were teach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took your chart paper and tallied what you were teaching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6520" y="22086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’s Look at th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738720"/>
            <a:ext cx="6858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99072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2384640"/>
            <a:ext cx="685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52280"/>
            <a:ext cx="9144000" cy="695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33160"/>
            <a:ext cx="7924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—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Living Environment)—accelerate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09680"/>
            <a:ext cx="83818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ther and tools (temp., wind speed and direction, precipitation and water cycle, erosion and deposition, weath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s and seasonal changes (rotation vs. r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material and chemical and physical changes, states of matter (Matter, mass, space, properties skills, reactivity and reflectiveness, sink/float, conductivity, magnetism, tools, observ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Daigler</cp:lastModifiedBy>
  <dcterms:modified xsi:type="dcterms:W3CDTF">2008-12-08T19:08:24Z</dcterms:modified>
  <cp:revision>9</cp:revision>
  <dc:subject/>
  <dc:title>Slide 1</dc:title>
</cp:coreProperties>
</file>