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media/image7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9.wmf" ContentType="image/x-wm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B1B6-7D63-4080-BC1C-B203A753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0D6-D7BF-4191-91E2-C3137BE6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9CE5-72EC-4BD4-A181-930B138F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FB22-D393-4088-AC6C-2DE1D4B5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F206-2E61-47CD-926F-CEC4FD26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DAC1-4314-42E0-BB85-DFFEF595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F55A-E028-4C88-BAFB-D25E4F92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830-0619-4FE0-AD7C-486C389E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ECE2-88E2-46C8-85CB-D18559E8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EA0-EE64-453A-B71C-04DB2D7D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4AB5-1968-4360-8365-3E7321E5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5308-1B5E-4F5E-9811-3CDA1A1F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4089-DE1E-4AA3-9C1C-00C95C0BD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19520" y="216252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1890720" cy="1904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553080" y="3124080"/>
            <a:ext cx="1890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76200" y="1426320"/>
            <a:ext cx="672480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Benchmarks – Sec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91320" y="3168720"/>
            <a:ext cx="24192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1067040"/>
            <a:ext cx="67053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view Last Meeting Documents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?  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10280" y="1768320"/>
            <a:ext cx="182880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00200" y="1904760"/>
            <a:ext cx="675324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ke Individual Maps (5-8) and look at Core on Compu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ok at Trend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104760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1141920"/>
            <a:ext cx="604836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ally on Trend Sheet PI’s/MU’s </a:t>
            </a: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currently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tea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1028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52480" y="1142280"/>
            <a:ext cx="38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e MASTER she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48520" y="3276720"/>
            <a:ext cx="17524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19320" y="1287360"/>
            <a:ext cx="68580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45880" y="1905480"/>
            <a:ext cx="69105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 we need to make modifi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191120" y="320040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42588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y/Secure/Extension at what grade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133720" y="1623960"/>
          <a:ext cx="5486400" cy="348120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AL 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first exposed to the skill through heavy teacher mode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have knowledge, begin independent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practice skill independently and demonstrate security with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ns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expected to apply skill independently, flexibly, and appropriately, without prompting from teach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challenged to be reflective about their practice and evaluative of their metacognitive practices in order to reinforce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49080" y="1526760"/>
            <a:ext cx="61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skills and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19920" y="3581280"/>
            <a:ext cx="17715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3:25:15Z</dcterms:created>
  <dc:creator>Monica Burgio</dc:creator>
  <dc:description/>
  <dc:language>en-US</dc:language>
  <cp:lastModifiedBy>Monica Burgio</cp:lastModifiedBy>
  <dcterms:modified xsi:type="dcterms:W3CDTF">2008-10-28T23:48:20Z</dcterms:modified>
  <cp:revision>3</cp:revision>
  <dc:subject/>
  <dc:title>Slide 1</dc:title>
</cp:coreProperties>
</file>