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gif" ContentType="image/gif"/>
  <Override PartName="/ppt/media/image7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9.wmf" ContentType="image/x-wm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1933-E6F7-4DCC-A8B1-286A4024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6A07-7BA8-4802-9CCE-CA02F0F4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DEE3-1E57-4A52-A902-6F3969F6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BC32-DB8C-4D9D-89A1-1A33395F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220C-ABD0-4EAA-8EFA-A607E261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4EC8-D8FD-4849-9166-E730DF46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4E44-2E69-41F1-B25F-13EF666E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A340-2871-483A-A3CC-AB355B2F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92A9-A68E-4BB0-875F-D70F6E76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4226-D18D-4FBD-93AF-38B79704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DE0C-0F66-43C1-9CE4-E9B9494B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A22E-ED4A-49CE-AD90-640183FF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D499-9A5E-4E3E-9ED0-C735DC337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19520" y="216252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143000" y="990720"/>
            <a:ext cx="1890720" cy="1904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553080" y="3124080"/>
            <a:ext cx="1890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276200" y="1426320"/>
            <a:ext cx="672480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Benchmarks – Secu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91320" y="3168720"/>
            <a:ext cx="24192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1067040"/>
            <a:ext cx="67053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view Last Meeting Documents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?  Com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10280" y="1768320"/>
            <a:ext cx="182880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00200" y="1904760"/>
            <a:ext cx="675324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ke Individual Maps (5-8) and look at Core on Compu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ok at Trend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104760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1141920"/>
            <a:ext cx="6048360" cy="33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ally on Trend Sheet PI’s/MU’s </a:t>
            </a: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currently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tea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10288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52480" y="1142280"/>
            <a:ext cx="38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eate MASTER she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48520" y="3276720"/>
            <a:ext cx="17524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19320" y="1287360"/>
            <a:ext cx="68580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Gap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Look at trends…is there “scaffolded” learning in trended are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unneeded Repet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45880" y="1905480"/>
            <a:ext cx="691056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 we need to make modifi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191120" y="320040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66680" y="425880"/>
            <a:ext cx="7620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y/Secure/Extension at what grade(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133720" y="1623960"/>
          <a:ext cx="5486400" cy="348120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MENTAL  LEV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ginn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first exposed to the skill through heavy teacher mode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have knowledge, begin independent 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ur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practice skill independently and demonstrate security with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ns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expected to apply skill independently, flexibly, and appropriately, without prompting from teach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challenged to be reflective about their practice and evaluative of their metacognitive practices in order to reinforce grow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49080" y="1526760"/>
            <a:ext cx="61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skills and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19920" y="3581280"/>
            <a:ext cx="17715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23:25:15Z</dcterms:created>
  <dc:creator>Monica Burgio</dc:creator>
  <dc:description/>
  <dc:language>en-US</dc:language>
  <cp:lastModifiedBy>Monica Burgio</cp:lastModifiedBy>
  <dcterms:modified xsi:type="dcterms:W3CDTF">2008-10-28T23:48:20Z</dcterms:modified>
  <cp:revision>3</cp:revision>
  <dc:subject/>
  <dc:title>Slide 1</dc:title>
</cp:coreProperties>
</file>