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7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9.wmf" ContentType="image/x-wm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33D-6FD4-4243-8520-1FB36ED5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D49-EC5A-4BFD-96AF-213EB665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E95-DA20-4329-A90B-F9E5CFC6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97FD-4952-4B76-8A84-6B8FD367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96D-1796-4034-A6DC-5F58FCC0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695C-614F-440A-A6F7-E749D16E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FB2D-6973-4379-9403-71B579AD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C07-418B-4B4A-8DB0-CA431012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EAE-E970-4990-8A6A-117F287C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1D4-3FCC-4200-A72D-B1502BA9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ADC-00ED-47EA-B6DB-CDFC2800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616-9508-42D7-A7B1-7ED5E7CD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8ABC-6B1B-4C41-8F3A-16362C851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9520" y="216252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1890720" cy="190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53080" y="3124080"/>
            <a:ext cx="1890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1067040"/>
            <a:ext cx="6705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view Last Meeting Documents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  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10280" y="1768320"/>
            <a:ext cx="182880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00200" y="1904760"/>
            <a:ext cx="675324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 Individual Maps (5-8) and look at Core on Compu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ok at Trend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104760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1141920"/>
            <a:ext cx="604836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ally on Trend Sheet PI’s/MU’s 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currently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te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2480" y="114228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e MASTER sh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48520" y="3276720"/>
            <a:ext cx="17524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19320" y="1287360"/>
            <a:ext cx="68580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45880" y="1905480"/>
            <a:ext cx="69105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49080" y="1526760"/>
            <a:ext cx="61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skills an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17715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3:25:15Z</dcterms:created>
  <dc:creator>Monica Burgio</dc:creator>
  <dc:description/>
  <dc:language>en-US</dc:language>
  <cp:lastModifiedBy>Monica Burgio</cp:lastModifiedBy>
  <dcterms:modified xsi:type="dcterms:W3CDTF">2008-10-28T23:48:20Z</dcterms:modified>
  <cp:revision>3</cp:revision>
  <dc:subject/>
  <dc:title>Slide 1</dc:title>
</cp:coreProperties>
</file>