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14E-3873-4DF1-B3DD-CAF72D28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63F-D894-4781-B4FF-40418617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204-CEA5-466B-9088-36D67B58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D05-5B91-437C-A0BD-274C1702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B02-CACE-4450-B7A0-669F0CD2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847-782D-4080-A5F8-C7A7EDFA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9FB-5EEC-4594-A813-7644C644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5A4-3A9E-4E57-B309-532DA888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018-4DDA-46AF-90BC-DCE63E6C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BD8-B03B-433E-A799-658111DA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011-AFAA-49E4-826B-CF953726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2E7-6B8B-42B9-95E8-BB5176A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1572-8BCE-4A02-A75C-9BC8FB708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21625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53080" y="312408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06704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 Documents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 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1904760"/>
            <a:ext cx="675324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Individual Maps (5-8) and look at Core on 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at 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1141920"/>
            <a:ext cx="604836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ally on Trend Sheet PI’s/MU’s 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currently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te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114228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1287360"/>
            <a:ext cx="68580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5880" y="1905480"/>
            <a:ext cx="691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Burgio</cp:lastModifiedBy>
  <dcterms:modified xsi:type="dcterms:W3CDTF">2008-10-28T23:48:20Z</dcterms:modified>
  <cp:revision>3</cp:revision>
  <dc:subject/>
  <dc:title>Slide 1</dc:title>
</cp:coreProperties>
</file>