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2EDE-88E1-4059-AD27-50AEF0711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D52A-7BAF-4A5C-B21B-B3CBA908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0360-7B96-4663-AF69-CA33195F6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7002-9BF3-411B-93CE-7C1EA841B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6A1C-3E95-4005-9AC4-8B93EB9B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1953-4B6B-4169-9DD4-1DDB58CC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627E-56DD-4D51-B92A-21A9F306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AC45-EA0A-4DCA-9448-5C1B8DCC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DEFB-E5CA-4456-8C25-01203E05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E032-6524-4AB6-B074-229A3C41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3515-E046-4A92-AFE1-D61FE113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093C-4CC2-4C69-82FB-C5246E8E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51C1-C99E-4CC0-8A3B-8C3718114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Looking at Skill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skills are students using in the two exercis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3276720" cy="3276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81480" y="22860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et’s review the alignment of content and skills in your CFA’s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ylfaen"/>
              </a:rPr>
              <a:t>Steps to Creating a CF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Identify power standards from longitudin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Determine topics to address with CF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Deconstruct test items to determine skills and big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Write essential questions matched to skills and big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Design CF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3352680"/>
            <a:ext cx="581040" cy="352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80880" y="2209680"/>
            <a:ext cx="581040" cy="352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80880" y="2819520"/>
            <a:ext cx="581040" cy="35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rading CFA’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y grade others’ tes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your scored CFA’s or un-scored CFA’s…and your rubric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Score) Analyze data ...put in organizational 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skills are students struggling wit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there a patter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’s your pl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xt Steps…work sess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0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Finish Creating CFA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10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reate resources for struggling stud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10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reate resources for 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10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Work on other formative assessments in a unit to assess skills (struggling)</a:t>
            </a:r>
            <a:br>
              <a:rPr sz="4000"/>
            </a:b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19:46:29Z</dcterms:created>
  <dc:creator>Monica Daigler</dc:creator>
  <dc:description/>
  <dc:language>en-US</dc:language>
  <cp:lastModifiedBy>Monica Daigler</cp:lastModifiedBy>
  <dcterms:modified xsi:type="dcterms:W3CDTF">2009-03-23T15:38:12Z</dcterms:modified>
  <cp:revision>6</cp:revision>
  <dc:subject/>
  <dc:title>Looking at Skills</dc:title>
</cp:coreProperties>
</file>