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1DE3-EA37-4E3B-8234-9C84C5BE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CDB8-D3F5-462F-8A1F-8012A526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4CD6-85A3-4FF0-89F7-327FAD068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6210-382D-4214-A690-E93A70AEB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42B6-5770-486C-A5B3-00ADF13B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1E31-6465-4462-BF15-3EBD15D6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9A56-2F9D-4F43-B586-EB764295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B36F-4793-41A1-8EBF-88124261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BF71-D7A9-4F9A-B779-3C36557F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F774-ACED-4D24-AB4F-3884DCA4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98B1-EBDA-4D22-AEEC-D30E4DE3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29ED-BBA3-421C-90B1-C1206A9F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84CF-3E1B-4541-B494-6A42E29CB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Looking at Skill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skills are students using in the two exercis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3276720" cy="3276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81480" y="22860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et’s review the alignment of content and skills in your CFA’s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ylfaen"/>
              </a:rPr>
              <a:t>Steps to Creating a CF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Identify power standards from longitudina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Determine topics to address with CF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Deconstruct test items to determine skills and big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Write essential questions matched to skills and big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Design CF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3352680"/>
            <a:ext cx="581040" cy="352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80880" y="2209680"/>
            <a:ext cx="581040" cy="352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80880" y="2819520"/>
            <a:ext cx="581040" cy="35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rading CFA’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y grade others’ tes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your scored CFA’s or un-scored CFA’s…and your rubric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Score) Analyze data ...put in organizational 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skills are students struggling wit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there a patter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’s your pl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xt Steps…work sess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0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Finish Creating CFA’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10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reate resources for struggling stud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10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reate resources for 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10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Work on other formative assessments in a unit to assess skills (struggling)</a:t>
            </a:r>
            <a:br>
              <a:rPr sz="4000"/>
            </a:b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19:46:29Z</dcterms:created>
  <dc:creator>Monica Daigler</dc:creator>
  <dc:description/>
  <dc:language>en-US</dc:language>
  <cp:lastModifiedBy>Monica Daigler</cp:lastModifiedBy>
  <dcterms:modified xsi:type="dcterms:W3CDTF">2009-03-23T15:38:12Z</dcterms:modified>
  <cp:revision>6</cp:revision>
  <dc:subject/>
  <dc:title>Looking at Skills</dc:title>
</cp:coreProperties>
</file>