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956-3EF7-4E01-9045-5923595B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D8C-66D6-4AD5-AAC5-B463AD7A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5FD-C9EF-404B-9C4C-B9977C8E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4E7-5192-43F9-A7D8-FD55C369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34A-E4FE-4875-9509-6AEEC667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4EE-F040-48F2-A01E-415F0091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35C-7F83-4CAB-B49F-50C8CFF8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4BA-54D8-46EF-A848-29A15F88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4D7-F8AE-4960-827B-204FE847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600-ABC8-48EC-9B45-0133016C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83C-BFC3-48CD-A3B1-5BB3A598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B49-C2BC-4602-9BB7-36C5B2B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E560-6878-4D6C-A312-2D75CECDD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ooking at Ski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kills are students using in the two exerci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review the alignment of content and skills in your CFA’s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Steps to Creating a C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dentify power standards from longitudi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termine topics to address with C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construct test items to determine skills and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rite essential questions matched to skills and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sign CF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81040" cy="35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581040" cy="35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581040" cy="3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ding CFA’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grade others’ te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your scored CFA’s or un-scored CFA’s…and your rubric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Score) Analyze data ...put in organizational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kills are students struggling wi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re a patter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’s your pl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xt Steps…work ses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inish Creating CFA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reate resources for struggling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reate resources for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ork on other formative assessments in a unit to assess skills (struggling)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9:46:29Z</dcterms:created>
  <dc:creator>Monica Daigler</dc:creator>
  <dc:description/>
  <dc:language>en-US</dc:language>
  <cp:lastModifiedBy>Monica Daigler</cp:lastModifiedBy>
  <dcterms:modified xsi:type="dcterms:W3CDTF">2009-03-23T15:38:12Z</dcterms:modified>
  <cp:revision>6</cp:revision>
  <dc:subject/>
  <dc:title>Looking at Skills</dc:title>
</cp:coreProperties>
</file>