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BC6-993B-45D7-9C74-37E7AC1E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809-1666-4AEA-9F65-A2D56A59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6CB-8CE8-4BC4-BEFF-A6FD6E18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29F-8A5F-4832-9456-386F03C9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10F-8451-4BE4-B123-106CDCBF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A61-CF24-4F43-9F46-9AEE034A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733-88C0-4EC3-A7B2-7FE1A31A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6CA-E80D-4769-89D5-51AD003E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54C-00AF-43FE-8444-E6C36F4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ECC-FD16-45A5-B13A-8FC0EB4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1C7-721E-4461-AE09-C8C8748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E15-F717-410C-B6D0-42FFB65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DF35-AAD5-4D3C-ACEE-C6931DFC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oking at Ski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kills are students using in the two exerc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review the alignment of content and skills in your CFA’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Steps to Creating a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dentify power standards from longitud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termine topics to address with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construct test items to determine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rite essential questions matched to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sign CF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58104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ding CFA’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grade others’ te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your scored CFA’s or un-scored CFA’s…and your rubr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core) Analyze data ...put in organizationa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kills are students struggling wi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patt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your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xt Steps…work ses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inish Creating CF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struggling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ork on other formative assessments in a unit to assess skills (struggling)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9:46:29Z</dcterms:created>
  <dc:creator>Monica Daigler</dc:creator>
  <dc:description/>
  <dc:language>en-US</dc:language>
  <cp:lastModifiedBy>Monica Daigler</cp:lastModifiedBy>
  <dcterms:modified xsi:type="dcterms:W3CDTF">2009-03-23T15:38:12Z</dcterms:modified>
  <cp:revision>6</cp:revision>
  <dc:subject/>
  <dc:title>Looking at Skills</dc:title>
</cp:coreProperties>
</file>