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4C0-25C1-4E97-B675-C84ACBC1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34A-3998-4252-9C4A-9F483296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3F4-B095-45C9-A8A7-3F904AD2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396-C98F-4D16-92C9-D838B592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791-41D2-4616-A525-575E02B5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509-8653-4BEE-BBE2-BEDEA582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688-747C-4E44-AF0F-CD5B126B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00B-FE09-476A-8F0E-7FC2CFD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31C-4FE6-4471-AB76-821F60A6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7FC-7D96-46F8-A386-9D8D745B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1EB-B28E-4E68-9718-FC3191C9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AC2-274A-4579-9304-B10CDD1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B56C-E399-4B13-B386-64980038E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ooking at Ski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kills are students using in the two exerci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t’s review the alignment of content and skills in your CFA’s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Steps to Creating a C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dentify power standards from longitudi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termine topics to address with C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construct test items to determine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rite essential questions matched to skills and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esign CF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581040" cy="35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581040" cy="3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ding CFA’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grade others’ te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your scored CFA’s or un-scored CFA’s…and your rubric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Score) Analyze data ...put in organizational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kills are students struggling wi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re a patter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’s your p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xt Steps…work ses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inish Creating CFA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struggling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reate resources for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ork on other formative assessments in a unit to assess skills (struggling)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9:46:29Z</dcterms:created>
  <dc:creator>Monica Daigler</dc:creator>
  <dc:description/>
  <dc:language>en-US</dc:language>
  <cp:lastModifiedBy>Monica Daigler</cp:lastModifiedBy>
  <dcterms:modified xsi:type="dcterms:W3CDTF">2009-03-23T15:38:12Z</dcterms:modified>
  <cp:revision>6</cp:revision>
  <dc:subject/>
  <dc:title>Looking at Skills</dc:title>
</cp:coreProperties>
</file>