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0.gif" ContentType="image/gif"/>
  <Override PartName="/ppt/media/image11.png" ContentType="image/png"/>
  <Override PartName="/ppt/media/image9.gif" ContentType="image/gif"/>
  <Override PartName="/ppt/media/image7.gif" ContentType="image/gif"/>
  <Override PartName="/ppt/media/image6.gif" ContentType="image/gif"/>
  <Override PartName="/ppt/media/image17.wmf" ContentType="image/x-wmf"/>
  <Override PartName="/ppt/media/image20.gif" ContentType="image/gif"/>
  <Override PartName="/ppt/media/image12.png" ContentType="image/png"/>
  <Override PartName="/ppt/media/image16.png" ContentType="image/png"/>
  <Override PartName="/ppt/media/image15.png" ContentType="image/png"/>
  <Override PartName="/ppt/media/image3.gif" ContentType="image/gif"/>
  <Override PartName="/ppt/media/image14.wmf" ContentType="image/x-wmf"/>
  <Override PartName="/ppt/media/image1.jpeg" ContentType="image/jpeg"/>
  <Override PartName="/ppt/media/image2.jpeg" ContentType="image/jpeg"/>
  <Override PartName="/ppt/media/image4.jpeg" ContentType="image/jpeg"/>
  <Override PartName="/ppt/media/image18.jpeg" ContentType="image/jpeg"/>
  <Override PartName="/ppt/media/image8.gif" ContentType="image/gif"/>
  <Override PartName="/ppt/media/image19.wmf" ContentType="image/x-wmf"/>
  <Override PartName="/ppt/media/image5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926263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0798-7C05-4CE7-A2B7-C693715F3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91212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97B1-6C60-4956-BFCF-B7A5977DD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492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CD26-51D9-411B-82E5-178CB2E5E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2308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332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2308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332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006F-B1A6-4EAD-8DDE-DA5D72876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4C0E0-14A4-43FF-A16C-194613CFF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48462-C5EC-4EF4-9F8E-7729182E3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7DEBF-DA81-4A12-8654-74C1D1ABF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E3BFA-4D20-4A62-BF49-2DC11DEF3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E9756-73CD-406C-B5C6-845D3AB47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D98D8-4F3A-4641-9865-4F4326BAD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8DCDB-5248-46C1-88E8-AEA452BC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CD26-5E85-4BA9-B339-687A570C9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4492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D2D4D-80B8-4990-9AC5-2F8AA147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A108C-989B-4B21-8F51-B163E73F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480" y="391212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B055D-E839-466D-A041-220EDAFE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4492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C6CA9-AFB6-49B7-924B-ADC999641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2308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332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48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2308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332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1DD9C-2AEB-4D31-8BC2-D538171B5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AD65-838E-4F60-BBB8-E6AE8CEDE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26C0-FB33-42A5-A5D3-8DABCA137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7F32-67DF-40AD-8085-DC09B0FEC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5E76-E46B-4AD6-990B-C0F8B90CC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2F61-E043-409D-9C9B-5F8749B9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492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3488-2754-41C7-8BE3-AB34CC1A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8ACE-B921-4ED4-9314-A8783A4F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16400" y="6400800"/>
            <a:ext cx="208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9CBBB-F468-448E-97DB-A0EF2E9391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EB531-EB0F-4800-AFAF-B96A7D6288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eht.k12.nj.us/~Jonesj/Differentiated%20Instruction/Learning%20Centers%20int%20magnets.htm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hyperlink" Target="http://www.readthewords.com/" TargetMode="External"/><Relationship Id="rId4" Type="http://schemas.openxmlformats.org/officeDocument/2006/relationships/hyperlink" Target="http://www.wikispaces.com/" TargetMode="External"/><Relationship Id="rId5" Type="http://schemas.openxmlformats.org/officeDocument/2006/relationships/hyperlink" Target="file:///delicious.com" TargetMode="External"/><Relationship Id="rId6" Type="http://schemas.openxmlformats.org/officeDocument/2006/relationships/hyperlink" Target="http://www.diigo.com/" TargetMode="External"/><Relationship Id="rId7" Type="http://schemas.openxmlformats.org/officeDocument/2006/relationships/hyperlink" Target="http://rubistar.4teachers.org/index.php" TargetMode="External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d360.com/?ContentId=1381" TargetMode="External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roduction to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fferentiated Instruc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0" y="2819520"/>
            <a:ext cx="4191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rie 1 BO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ed by: Monica Burgio Daig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2790720" cy="4267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fferentiated Instruc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is &amp; What it is NO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see char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952880" y="327672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Why Differentiated Instruction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010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in 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research confir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at experienced teachers have always know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two children are al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two children learn in the identical 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nriched environment for one student is not necessarily enriched for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classroom, we should teach children to think for themsel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indefinite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indefinite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indefinite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indefinite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indefinite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41" dur="indefinite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43" dur="indefinite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45" dur="indefinite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47" dur="indefinite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49" dur="indefinite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010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udents Retain: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218960"/>
            <a:ext cx="7010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% of what the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% of what the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% of what the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% of what the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E AND HE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0% of what the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0% of what the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Y AND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ef, Sandra F. How to Reach and Teach ADD/ADHD Children: Practical Techniques, Strategies, and Interventions for Helping Children with Attention Problems and Hyperactivity. The Center for Applied Research in Education, 1993, p. 5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781680" y="304920"/>
            <a:ext cx="1714680" cy="1635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1981080" y="612720"/>
          <a:ext cx="6324840" cy="616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612720"/>
                    <a:ext cx="6324840" cy="61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low Char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ole of the Teacher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391520" cy="5381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2286000" y="380880"/>
          <a:ext cx="6019920" cy="587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380880"/>
                    <a:ext cx="6019920" cy="587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2361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low Char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82880" y="3427560"/>
            <a:ext cx="1901880" cy="3043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Differentiated Conten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7010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put – what the students lea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 of multiple tex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 of varied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act curricul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arning contra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ontent: Sci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students are to learn and the materials or mechanisms through which this is accomplish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xample: If the classroom objective is for all students to identify parts of a cell, some students may learn to label five major parts, while others may learn to label more parts and define the function of each pa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**Can structure with personal goals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indefinite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indefinite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indefinite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63" dur="indefinite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67" dur="indefinite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71" dur="indefinite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70106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l-life Instruction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ategies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7010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 contrac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an agreement between the teacher and the student regarding how a student will complete tasks. This offers certain freedoms and choices on how a student learns the content. For example, the teacher and student could develop a contract at the beginning of a unit which includes independent study topics and assign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uia, M. (2004). Differentiating the learning environment. In  B. Hoffman (Ed.)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ncyclopedia of Educational Technology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7010280" y="228600"/>
            <a:ext cx="1752840" cy="161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135160" y="304920"/>
            <a:ext cx="6243840" cy="5790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7010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Introduce Group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ell us your nam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at level you teach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at is your goal(s) for today’s workshop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295280" y="304920"/>
            <a:ext cx="7240680" cy="6395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2286000" y="380880"/>
          <a:ext cx="6019920" cy="587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380880"/>
                    <a:ext cx="6019920" cy="587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2057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low Char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05320" y="3581280"/>
            <a:ext cx="1901880" cy="3043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fferentiated Proces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23880" y="137160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students make sense of cont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ractive journ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iered assign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earning cen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b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chor activ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rocess: Sci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752480" y="12952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key skills students use to make sense out of essential ideas and inform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Example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student may explore a learning center, while another student collects information from the we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indefinite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indefinite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93" dur="indefinite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97" dur="indefinite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6094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l-life Instruction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ategies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7391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ered activ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offering stud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s in completing questions, tasks, and so on, of various ability levels. This ensures that students explore ideas at a level that builds on their prior knowledge and stimulates realistic growth. For example, students working in cooperative groups can choose to complete questions (A,B, or C) on a specific task with which they feel most comfortab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uia, M. (2004). Differentiating the learning environment. In  B. Hoffman (Ed.)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ncyclopedia of Educational Technology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248520" y="380880"/>
            <a:ext cx="2438280" cy="163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276200" y="252360"/>
            <a:ext cx="580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nchor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4840" y="1603440"/>
            <a:ext cx="6521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chool Library Media Cen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arning Packe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Journa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arning/Interest Cen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istening Cen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search Questions or Pro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mercial Kits and Materi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640560" y="2286000"/>
            <a:ext cx="1616040" cy="2209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228600" y="380880"/>
          <a:ext cx="8610480" cy="6019560"/>
        </p:xfrm>
        <a:graphic>
          <a:graphicData uri="http://schemas.openxmlformats.org/drawingml/2006/table">
            <a:tbl>
              <a:tblPr/>
              <a:tblGrid>
                <a:gridCol w="4305240"/>
                <a:gridCol w="4305240"/>
              </a:tblGrid>
              <a:tr h="294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are the benefits in using an anchor activity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instorm good times to use anchor activities.  Think about transition tim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might be the concerns or problems to using an anchor activity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instorm how you will overcome the concerns to using anchor activiti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066680" y="673200"/>
            <a:ext cx="7086600" cy="61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ub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strategy that requires students to think on multiple levels. Things to rememb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ust have more than one cub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bes can be differentiated by student readiness, interest, or learning profi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ach side of the cube should have a comm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uch as describe, compare, analyze, etc.,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nd a prompting question or statement underneath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2209680" y="380880"/>
          <a:ext cx="6019920" cy="587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80880"/>
                    <a:ext cx="6019920" cy="587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low Char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184720" y="3581280"/>
            <a:ext cx="1901880" cy="3043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fferentiated Produc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– how students demonstrate what they know and are able to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presentation uses varied modes of expression, materials, 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ced assignments that require higher order thinking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ion by self and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entic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609120"/>
            <a:ext cx="7010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We have to know where we want to end up before we start out”  </a:t>
            </a: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Carol Ann Tomlins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Essential Questio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differentiated Instruction and what does it look like in the science classro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hould I differentiate my instruc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can I differentiate my instruc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roduct: Sci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7086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vehicles students use to demonstrate and extend what they k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Exampl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example, to demonstrate understanding of the food chain, some students may create a three-dimensional diagram, while others create a PowerPoint pres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indefinite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indefinite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27" dur="indefinite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31" dur="indefinite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143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fferentiating Products for Struggling Lear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8229600" cy="510552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 directions on audio or vid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Read The Word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bed on teacher page or class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i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, or help students prepare a timeline or cont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 Contracts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Deliciou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Dii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brics that reflect individua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Rubis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8"/>
          <a:stretch/>
        </p:blipFill>
        <p:spPr>
          <a:xfrm>
            <a:off x="228600" y="0"/>
            <a:ext cx="1828800" cy="1763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"/>
          <p:cNvGraphicFramePr/>
          <p:nvPr/>
        </p:nvGraphicFramePr>
        <p:xfrm>
          <a:off x="2209680" y="380880"/>
          <a:ext cx="6019920" cy="587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9680" y="380880"/>
                    <a:ext cx="6019920" cy="587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low Char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81680" y="3205080"/>
            <a:ext cx="1901880" cy="3043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xamp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828800" y="1523880"/>
            <a:ext cx="510552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lexible grou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i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d, Yellow, Green Cu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oice Bo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6477120" y="1752480"/>
            <a:ext cx="1819080" cy="2590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15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ere Do I Start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ve low prep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kids so that each students is in one large group and two partner pairings (learning sty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lay a daily/weekly 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for exit c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Graphic Organiz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learning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tiered ass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8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15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Do I Keep Going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ve High Prep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Contr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ctivities for different learning sty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it to using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centers allowing for m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Multiple forms of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768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8" dur="768" fill="hold"/>
                                        <p:tgtEl>
                                          <p:spTgt spid="2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0" dur="768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2" dur="768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15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676160" y="76212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to Differentiate Instruct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Bottom Line…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752120" y="1523520"/>
            <a:ext cx="7162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erentiated instruction is about using teaching strategies that connect with individual student's learning strategi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ultimate goal is to provide a learning environment that will maximize the potential for student succes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important thing to remember is to hold on to the effective teaching strategies that lead students to positive learning outcomes and to make adjustments when necessar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's about being flexible and open to chang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's also about taking risks and trying teaching and learning strategies that you would have otherwise ignore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indefinite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indefinite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indefinite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indefinite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indefinite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43" dur="indefinite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47" dur="indefinite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51" dur="indefinite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59" dur="indefinite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15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6858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velop your own differentiated lesson (Be prepared to share)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52120" y="1676520"/>
            <a:ext cx="342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You ma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a ‘sample lesson’ to mod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a lesson you have taught that you wish to impr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333760" y="1523880"/>
            <a:ext cx="342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By using one or more of the resources provid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al Web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ence Charts/ P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ks (D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15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scussion: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your les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id you choose to modify this less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you differentiated this lesson (what was modified: content, process or product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the students’ readiness, learning style, or interest considered?  If so, h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15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ca Burgio Daig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al Resource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ie 1 BO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55 Harlem R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st Seneca, NY  142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ne: (716) 821-70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-mail: mdaigler@e1b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is Differentiated Instruction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iagnostic…pair…share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648320" y="2971800"/>
            <a:ext cx="3387600" cy="319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4920" y="457200"/>
            <a:ext cx="8534160" cy="6172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144792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61722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43434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48006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52578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57150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34290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29718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38862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198108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25146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68580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and Last n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152388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ditory, Visual, or Kinesthetic?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76920" y="152388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tical, Creative, Practical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53341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Intelligence Prefer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76920" y="53341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ay Inven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09680" y="2133720"/>
            <a:ext cx="2362320" cy="29718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2133720"/>
            <a:ext cx="2362320" cy="29718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09680" y="2209680"/>
            <a:ext cx="236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-4 Words That Describe 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220968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of My Interes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617220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ave this last line blan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77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770" fill="hold"/>
                                        <p:tgtEl>
                                          <p:spTgt spid="1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" dur="1500" autoRev="1" fill="hold"/>
                                        <p:tgtEl>
                                          <p:spTgt spid="1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04920" y="457200"/>
            <a:ext cx="8534160" cy="6172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144792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61722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43434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48006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52578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57150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34290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29718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38862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198108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25146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68580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and Last n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152388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ditory, Visual, or Kinesthetic?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76920" y="152388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tical, Creative, Practical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53341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Intelligence Prefer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876920" y="53341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ay Inven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09680" y="2133720"/>
            <a:ext cx="2362320" cy="29718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2133720"/>
            <a:ext cx="2362320" cy="29718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09680" y="2209680"/>
            <a:ext cx="236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-4 Words That Describe 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0968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of My Interes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617220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ave this last line blan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86200" y="380880"/>
            <a:ext cx="4753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What are your strengths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slow">
    <p:fad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5" dur="1500" autoRev="1" fill="hold"/>
                                        <p:tgtEl>
                                          <p:spTgt spid="1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520" y="304560"/>
            <a:ext cx="8153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It's not how smart you are, </a:t>
            </a:r>
            <a:br>
              <a:rPr sz="4400"/>
            </a:b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 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it's how you are smart!"|</a:t>
            </a:r>
            <a:br>
              <a:rPr sz="4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—</a:t>
            </a: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Howard Gardner Interview, "Common Miracles" ABC 1993</a:t>
            </a:r>
            <a:r>
              <a:rPr b="0" lang="en-US" sz="44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248520" y="3886200"/>
            <a:ext cx="2361960" cy="236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cussion about Learning Styles 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523880" y="1042920"/>
            <a:ext cx="6172200" cy="5607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676520" y="1523880"/>
            <a:ext cx="5943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re your strength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 you teach to your strength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re YOUR weaknes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uld that be their streng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fferentiated Instruction i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-designing instruction based on student need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ying the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cont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roc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ities, or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rodu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veloped by the students (learning environment  can also be modified to provide a facilitative setting for effective instru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ers are assessed on their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readines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s,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learning profi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multiple intelligence styles), and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inter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These qualities are the driving factors in determining how to deliver appropriate instruction as all learners are uniq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52280" y="25909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indefinite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indefinite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indefinite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05" dur="indefinite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09" dur="indefinite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13" dur="indefinite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2T14:03:48Z</dcterms:created>
  <dc:creator>Srothwell</dc:creator>
  <dc:description/>
  <cp:keywords/>
  <dc:language>en-US</dc:language>
  <cp:lastModifiedBy>Erie 1 Staff-Mobile Labs</cp:lastModifiedBy>
  <dcterms:modified xsi:type="dcterms:W3CDTF">2008-11-10T19:35:26Z</dcterms:modified>
  <cp:revision>27</cp:revision>
  <dc:subject/>
  <dc:title>Introduction to  Differentiated Instru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875731033</vt:lpwstr>
  </property>
</Properties>
</file>