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1.png" ContentType="image/png"/>
  <Override PartName="/ppt/media/image9.gif" ContentType="image/gif"/>
  <Override PartName="/ppt/media/image7.gif" ContentType="image/gif"/>
  <Override PartName="/ppt/media/image6.gif" ContentType="image/gif"/>
  <Override PartName="/ppt/media/image17.wmf" ContentType="image/x-wmf"/>
  <Override PartName="/ppt/media/image20.gif" ContentType="image/gif"/>
  <Override PartName="/ppt/media/image12.png" ContentType="image/png"/>
  <Override PartName="/ppt/media/image16.png" ContentType="image/png"/>
  <Override PartName="/ppt/media/image15.png" ContentType="image/png"/>
  <Override PartName="/ppt/media/image3.gif" ContentType="image/gif"/>
  <Override PartName="/ppt/media/image14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18.jpeg" ContentType="image/jpeg"/>
  <Override PartName="/ppt/media/image8.gif" ContentType="image/gif"/>
  <Override PartName="/ppt/media/image19.wmf" ContentType="image/x-wm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D54-E685-47DD-BABE-D74006BD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FC9-7BA3-4F0F-ACD0-58153D90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88F-C393-46BA-91EC-05FDA5E1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7EC-27A6-45D4-A0DC-9879521A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47D9-708F-46BA-BEBF-434223AE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A83B-04CA-46CB-9039-7044A5A6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E284-A5B2-43FE-914E-C2CC0309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F5D1-5DF1-4B6D-A283-A7B5472B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6A37-77EA-44D4-AC7A-7A8FB9D4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436F-5ECC-440C-A69B-74140C82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1FDF-1822-47D6-A609-55684AC7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4CD-D266-43FB-A12A-F77F1DDE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0062-5B87-4EEC-A0CE-DF3866E6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28D9-4FB9-48CF-B132-63AB092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B742-1C04-4524-94AA-954FA516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9700-8C0E-49A5-A088-0A55027B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E262-9275-4CAB-9209-927F9948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005-B748-4601-9044-C22D3D51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AA9-CB6A-4405-BD98-D5E11EF7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5FE-25FD-4BE9-892E-425D1FC1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46D-F61B-4B4B-B6B5-7A161AA8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C42-EDC0-4981-A9E8-29103FFD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F86-7DAD-4DE2-B421-9FEB4CAA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1A2-3F19-4C98-AB82-B67C9A0F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9718-4308-4053-B434-D6012A70B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A641-4356-4480-815D-6AF343BA3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ht.k12.nj.us/~Jonesj/Differentiated%20Instruction/Learning%20Centers%20int%20magnets.htm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www.readthewords.com/" TargetMode="External"/><Relationship Id="rId4" Type="http://schemas.openxmlformats.org/officeDocument/2006/relationships/hyperlink" Target="http://www.wikispaces.com/" TargetMode="External"/><Relationship Id="rId5" Type="http://schemas.openxmlformats.org/officeDocument/2006/relationships/hyperlink" Target="file:///delicious.com" TargetMode="External"/><Relationship Id="rId6" Type="http://schemas.openxmlformats.org/officeDocument/2006/relationships/hyperlink" Target="http://www.diigo.com/" TargetMode="External"/><Relationship Id="rId7" Type="http://schemas.openxmlformats.org/officeDocument/2006/relationships/hyperlink" Target="http://rubistar.4teachers.org/index.php" TargetMode="External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d360.com/?ContentId=1381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0" y="281952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d by: Monica Burgio Daig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79072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is &amp; What it is N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ee cha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Why Differentiated Instruc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research confi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at experienced teachers have always kn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wo children are a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wo children learn in the identical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riched environment for one student is not necessarily enriched for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lassroom, we should teach children to think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indefinite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indefinite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indefinite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2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4" dur="indefinite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6" dur="indefinite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Retain: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01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 AND 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 AND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ef, Sandra F. How to Reach and Teach ADD/ADHD Children: Practical Techniques, Strategies, and Interventions for Helping Children with Attention Problems and Hyperactivity. The Center for Applied Research in Education, 1993, p. 5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71468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981080" y="612720"/>
          <a:ext cx="6324840" cy="61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612720"/>
                    <a:ext cx="63248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the Teacher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9152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2361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2880" y="3427560"/>
            <a:ext cx="1901880" cy="304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ifferentiated Conten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– what the students le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multiple tex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varie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ct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ntent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tudents are to learn and the materials or mechanisms through which this is accompli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ample: If the classroom objective is for all students to identify parts of a cell, some students may learn to label five major parts, while others may learn to label more parts and define the function of each p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*Can structure with personal goals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indefinite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indefinite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4" dur="indefinite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life Instruc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an agreement between the teacher and the student regarding how a student will complete tasks. This offers certain freedoms and choices on how a student learns the content. For example, the teacher and student could develop a contract at the beginning of a unit which includes independent study topics and assig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uia, M. (2004). Differentiating the learning environment. In  B. Hoffman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cyclopedia of Educational Technolog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752840" cy="16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5160" y="304920"/>
            <a:ext cx="624384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ntroduce Group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ll us your na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level you teac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your goal(s) for today’s workshop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7240680" cy="6395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28600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205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35812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Pro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students make sense of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ve jour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ered assig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earning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chor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cess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ey skills students use to make sense out of essential ideas and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tudent may explore a learning center, while another student collects information from the we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indefinite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4" dur="indefinite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life Instruc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red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offering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in completing questions, tasks, and so on, of various ability levels. This ensures that students explore ideas at a level that builds on their prior knowledge and stimulates realistic growth. For example, students working in cooperative groups can choose to complete questions (A,B, or C) on a specific task with which they feel most comfor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uia, M. (2004). Differentiating the learning environment. In  B. Hoffman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cyclopedia of Educational Technolog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438280" cy="163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76200" y="252360"/>
            <a:ext cx="58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nchor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840" y="1603440"/>
            <a:ext cx="65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ool Library Media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ing Pack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ourna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ing/Interest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ening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earch Questions o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ercial Kits and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640560" y="2286000"/>
            <a:ext cx="16160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28600" y="380880"/>
          <a:ext cx="8610480" cy="60195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29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benefits in using an anchor activit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storm good times to use anchor activities.  Think about transition tim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might be the concerns or problems to using an anchor activit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storm how you will overcome the concerns to using anchor activit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673200"/>
            <a:ext cx="70866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trategy that requires students to think on multiple levels. Things to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have more than one cu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es can be differentiated by student readiness, interest, or learning prof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ch side of the cube should have a 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as describe, compare, analyze, etc.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 a prompting question or statement undernea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0968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4720" y="35812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Produc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– how students demonstrate what they know and are abl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presentation uses varied modes of expression, materials,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ssignments that requir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by self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e have to know where we want to end up before we start out” 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arol Ann Tomlins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Essential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differentiated Instruction and what does it look like in the science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hould I differentiate my i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I differentiate my i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duct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vehicles students use to demonstrate and extend what they k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, to demonstrate understanding of the food chain, some students may create a three-dimensional diagram, while others create a PowerPoint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4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ing Products for Struggling Lear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51055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directions on audio or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ad The Word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 on teacher page or clas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, or help students prepare a timeline or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ontracts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eliciou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i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rics that reflect individua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bi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228600" y="0"/>
            <a:ext cx="18288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2209680" y="380880"/>
          <a:ext cx="6019920" cy="587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32050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523880"/>
            <a:ext cx="5105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xible grou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, Yellow, Green C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ice 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477120" y="1752480"/>
            <a:ext cx="18190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 I Star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low prep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kids so that each students is in one large group and two partner pairings (learning sty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a daily/weekl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exi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ar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tiered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I Keep Go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High Prep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ctivities for different 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 to using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enters allowing fo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ultiple forms of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68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68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Differentiate Instruc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ottom Line…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162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ted instruction is about using teaching strategies that connect with individual student's learning strateg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ltimate goal is to provide a learning environment that will maximize the potential for student succes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mportant thing to remember is to hold on to the effective teaching strategies that lead students to positive learning outcomes and to make adjustments when necessa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's about being flexible and open to chang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's also about taking risks and trying teaching and learning strategies that you would have otherwise igno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indefinite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indefinite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8" dur="indefinite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6" dur="indefinite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 your own differentiated lesson (Be prepared to share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ou m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‘sample lesson’ to mod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lesson you have taught that you wish to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y using one or more of the resources provi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harts/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(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ussion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choose to modify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differentiated this lesson (what was modified: content, process or produc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students’ readiness, learning style, or interest considered? 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ca Burgio Daig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al Resourc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5 Harlem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Seneca, NY  142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(716) 821-70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 mdaigler@e1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Differentiated Instruc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agnostic…pair…shar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338760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457200"/>
            <a:ext cx="853416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800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715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429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86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514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858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, Visual, or Kinesthetic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tical, Creative, Practica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telligence P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209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4 Words That Describe 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2209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My Inter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172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ve this last line bla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57200"/>
            <a:ext cx="853416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800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715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429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886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514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6858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, Visual, or Kinesthetic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tical, Creative, Practica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telligence P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2209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4 Words That Describe 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09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My Inter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172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ve this last line bla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6200" y="380880"/>
            <a:ext cx="475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are your strength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15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It's not how smart you are, 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it's how you are smart!"|</a:t>
            </a:r>
            <a:br>
              <a:rPr sz="4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—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Howard Gardner Interview, "Common Miracles" ABC 1993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about Learning Styles 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3880" y="1042920"/>
            <a:ext cx="6172200" cy="5607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teach to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weakn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that be their streng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ed Instruction i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-designing instruction based on student nee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ies, o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ed by the students (learning environment  can also be modified to provide a facilitative setting for effective instr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rs are assessed on thei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adi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earning pro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ultiple intelligence styles), and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se qualities are the driving factors in determining how to deliver appropriate instruction as all learners are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indefinite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6" dur="indefinite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4:03:48Z</dcterms:created>
  <dc:creator>Srothwell</dc:creator>
  <dc:description/>
  <cp:keywords/>
  <dc:language>en-US</dc:language>
  <cp:lastModifiedBy>Erie 1 Staff-Mobile Labs</cp:lastModifiedBy>
  <dcterms:modified xsi:type="dcterms:W3CDTF">2008-11-10T19:35:26Z</dcterms:modified>
  <cp:revision>27</cp:revision>
  <dc:subject/>
  <dc:title>Introduction to  Differentiated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