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7.gif" ContentType="image/gif"/>
  <Override PartName="/ppt/media/image6.gif" ContentType="image/gif"/>
  <Override PartName="/ppt/media/image17.wmf" ContentType="image/x-wmf"/>
  <Override PartName="/ppt/media/image20.gif" ContentType="image/gif"/>
  <Override PartName="/ppt/media/image12.png" ContentType="image/png"/>
  <Override PartName="/ppt/media/image16.png" ContentType="image/png"/>
  <Override PartName="/ppt/media/image15.png" ContentType="image/png"/>
  <Override PartName="/ppt/media/image3.gif" ContentType="image/gif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9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FA8-5C5F-4F02-AD76-A31E1D19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945-806E-45F3-9034-35FF6101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130-EA42-4D9F-8B88-78DAB6F1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118-F4C4-474B-ADE2-42CA2EEC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5CE4-EB49-4440-A912-1DA02609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231D-AB22-459C-9690-6952E04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2B06-CB47-4A7E-BD1D-E4DC2ABD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CA8-1D5E-4843-8BBD-BD66C8B4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B85A-D132-4CBB-8705-4986613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A35C-FE8A-4B5F-8A36-533E18B9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1107-1317-416B-AC2E-F9CE855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7FA-C089-4868-B177-04F732D2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1A8B-A1AF-4629-B3A3-2236BE5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5605-3EAE-492B-B238-94BB50F4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D0C7-5738-4F15-BD0A-C84FBD57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8FAD-CFD4-4862-8BAC-956E5901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B39E-88DE-43D9-9D10-96291F16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E24-6FB6-4EE3-B3CC-76923C31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577-8E09-4795-9E2E-9FCEDE5A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EB7-E95D-4991-BA8B-0486A1B4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B1C-BEDE-4736-84D0-D0E09AC5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A03-53F1-46AE-996A-B4DF941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495-861B-44CC-ACBD-9230D27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05F-3806-4DF4-81EC-3984997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292C-487D-4F5A-B56A-2DBB5791B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744F-0388-4FE1-AFDE-E99C54FDA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ht.k12.nj.us/~Jonesj/Differentiated%20Instruction/Learning%20Centers%20int%20magnets.ht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readtheword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hyperlink" Target="file:///delicious.com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d360.com/?ContentId=1381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Monica Burgio Daig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907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is &amp; What it is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ee cha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hy Differentiated Instruc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esearch confi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experienced teachers have alway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are a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learn in the identical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riched environment for one student is not necessarily enriched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lassroom, we should teach children to think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Retain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AND 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AND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ef, Sandra F. How to Reach and Teach ADD/ADHD Children: Practical Techniques, Strategies, and Interventions for Helping Children with Attention Problems and Hyperactivity. The Center for Applied Research in Education, 1993, p. 5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71468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981080" y="612720"/>
          <a:ext cx="6324840" cy="61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12720"/>
                    <a:ext cx="63248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the Teach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427560"/>
            <a:ext cx="1901880" cy="304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iated Cont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– what the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multiple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vari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nten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tudents are to learn and the materials or mechanisms through which this is accompl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: If the classroom objective is for all students to identify parts of a cell, some students may learn to label five major parts, while others may learn to label more parts and define the function of each 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Can structure with personal goals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n agreement between the teacher and the student regarding how a student will complete tasks. This offers certain freedoms and choices on how a student learns the content. For example, the teacher and student could develop a contract at the beginning of a unit which includes independent study topics and assig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52840" cy="16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5160" y="304920"/>
            <a:ext cx="624384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ntroduce Gro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ll us your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level you tea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your goal(s) for today’s worksh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240680" cy="639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udents make sense of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jou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ar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cess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 skills students use to make sense out of essential ideas and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udent may explore a learning center, while another student collects information from the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offering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in completing questions, tasks, and so on, of various ability levels. This ensures that students explore ideas at a level that builds on their prior knowledge and stimulates realistic growth. For example, students working in cooperative groups can choose to complete questions (A,B, or C) on a specific task with which they feel most comfor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43828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76200" y="25236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chor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840" y="1603440"/>
            <a:ext cx="65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 Library Media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 Pack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urn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/Interest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Questions o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rcial Kit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40560" y="228600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380880"/>
          <a:ext cx="8610480" cy="60195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29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benefits in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good times to use anchor activities.  Think about transition tim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ight be the concerns or problems to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how you will overcome the concerns to using anchor activit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673200"/>
            <a:ext cx="7086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ategy that requires students to think on multiple levels. 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have more than one cu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be differentiated by student readiness, interest, or learning pro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ch side of the cube should have a 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describe, compare, analyze, etc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a prompting question or statement undernea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47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du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– how students demonstrate what they know and are abl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presentation uses varied modes of expression, materials,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ssignments that requir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by 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e have to know where we want to end up before we start out”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rol Ann Tomlins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ifferentiated Instruction and what does it look like in the scienc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hould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vehicles students use to demonstrate and extend what they k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o demonstrate understanding of the food chain, some students may create a three-dimensional diagram, while others create a PowerPoint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ing Products for Struggling Lear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irections on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The Wor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on teacher page o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or help students prepare a timeline or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ract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licio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i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rics that reflect individu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28600" y="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2050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523880"/>
            <a:ext cx="5105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, Yellow, Green C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ice 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18190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ow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kids so that each students is in one large group and two partner pairings (learning sty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daily/weekl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ex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ar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tier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Keep Go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igh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ctivities for differen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o us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enters allowing fo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forms of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768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768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Differentiate Instru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ttom Line…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d instruction is about using teaching strategies that connect with individual student's learning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ltimate goal is to provide a learning environment that will maximize the potential for student suc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ortant thing to remember is to hold on to the effective teaching strategies that lead students to positive learning outcomes and to make adjustments when necess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bout being flexible and open to chan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lso about taking risks and trying teaching and learning strategies that you would have otherwise igno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37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1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9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3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your own differentiated lesson (Be prepared to share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ou m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‘sample lesson’ to mod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sson you have taught that you wish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y using one or more of the resources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harts/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(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choose to modify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differentiated this lesson (what was modified: content, process or produc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students’ readiness, learning style, or interest considered? 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Burgio Daig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Resour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5 Harlem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Seneca, NY  142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716) 821-7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mdaigler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Differentiated Instru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gnostic…pair…sha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38760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6200" y="380880"/>
            <a:ext cx="475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are your strength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not how smart you are, 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how you are smart!"|</a:t>
            </a:r>
            <a:br>
              <a:rPr sz="4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—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Howard Gardner Interview, "Common Miracles" ABC 1993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about Learning Styles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1042920"/>
            <a:ext cx="6172200" cy="560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teach to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that be their str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Instruction i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signing instruction based on student nee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ies, 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 by the students (learning environment  can also be modified to provide a facilitative setting for effective i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s are assessed on thei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ad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earning pro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ple intelligence styles), and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se qualities are the driving factors in determining how to deliver appropriate instruction as all learners are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03:48Z</dcterms:created>
  <dc:creator>Srothwell</dc:creator>
  <dc:description/>
  <cp:keywords/>
  <dc:language>en-US</dc:language>
  <cp:lastModifiedBy>Erie 1 Staff-Mobile Labs</cp:lastModifiedBy>
  <dcterms:modified xsi:type="dcterms:W3CDTF">2008-11-10T19:35:26Z</dcterms:modified>
  <cp:revision>27</cp:revision>
  <dc:subject/>
  <dc:title>Introduction to  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