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png" ContentType="image/png"/>
  <Override PartName="/ppt/media/image9.gif" ContentType="image/gif"/>
  <Override PartName="/ppt/media/image7.gif" ContentType="image/gif"/>
  <Override PartName="/ppt/media/image6.gif" ContentType="image/gif"/>
  <Override PartName="/ppt/media/image17.wmf" ContentType="image/x-wmf"/>
  <Override PartName="/ppt/media/image20.gif" ContentType="image/gif"/>
  <Override PartName="/ppt/media/image12.png" ContentType="image/png"/>
  <Override PartName="/ppt/media/image16.png" ContentType="image/png"/>
  <Override PartName="/ppt/media/image15.png" ContentType="image/png"/>
  <Override PartName="/ppt/media/image3.gif" ContentType="image/gif"/>
  <Override PartName="/ppt/media/image14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19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427-91C0-4507-BA30-DC77970A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3F0-BB11-402B-92BC-7E72300B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3BB-4C35-455E-874F-82E059D5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0B7-C0ED-4ADA-8908-8A807CE7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290F-9DE1-42FD-99C4-D2F8379B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B55B-22BA-4550-9BBB-DEC5F4D6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4B9E-3F9B-4B52-978A-927D1E6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2539-E88A-4766-A109-59A88F68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9E9F-979A-4CCF-A09A-449ED15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EB4-8E0F-4F50-88E2-D8843180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EFD2-6939-4E74-91FE-2416E3E4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C84-C6A9-4D9A-BB5E-588C1A8B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63C3-B36F-424E-B6D4-0693F0D4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4EB-88DC-4AE5-A7FE-DA7AE8A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CC6C-F27F-45D1-A8B0-44C255DC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5241-64ED-40EB-A58C-512D6663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9044-749F-48DA-BE73-A491B8C2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F49-3D01-4D53-B86B-ABC0E193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A3E-26AF-47A4-A0B8-2F5A7B87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041-9FE9-4505-8208-EEC74451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43D-884F-4EE6-BD5E-A80CB4FB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C47-408A-4C04-8F8F-6CB5ADE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6C9-721E-4005-9543-2E5D1DF1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845-423B-40A8-8239-8D116328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FD73-C894-4A5C-BF03-4DE27A43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6550-702F-4407-A915-527ABF7AA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ht.k12.nj.us/~Jonesj/Differentiated%20Instruction/Learning%20Centers%20int%20magnets.htm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www.readtheword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hyperlink" Target="file:///delicious.com" TargetMode="External"/><Relationship Id="rId6" Type="http://schemas.openxmlformats.org/officeDocument/2006/relationships/hyperlink" Target="http://www.diigo.com/" TargetMode="External"/><Relationship Id="rId7" Type="http://schemas.openxmlformats.org/officeDocument/2006/relationships/hyperlink" Target="http://rubistar.4teachers.org/index.php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d360.com/?ContentId=1381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8195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by: Monica Burgio Daig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79072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is &amp; What it is N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ee cha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hy Differentiated Instruc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research confi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experienced teachers have always kn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are a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learn in the identical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riched environment for one student is not necessarily enriched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lassroom, we should teach children to think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Retain: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 AND 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 AND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ef, Sandra F. How to Reach and Teach ADD/ADHD Children: Practical Techniques, Strategies, and Interventions for Helping Children with Attention Problems and Hyperactivity. The Center for Applied Research in Education, 1993, p. 5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71468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981080" y="612720"/>
          <a:ext cx="6324840" cy="61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12720"/>
                    <a:ext cx="63248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the Teach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2880" y="3427560"/>
            <a:ext cx="1901880" cy="304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fferentiated Conten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– what the students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multiple tex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vari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nten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tudents are to learn and the materials or mechanisms through which this is accompl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: If the classroom objective is for all students to identify parts of a cell, some students may learn to label five major parts, while others may learn to label more parts and define the function of each 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*Can structure with personal goals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4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2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n agreement between the teacher and the student regarding how a student will complete tasks. This offers certain freedoms and choices on how a student learns the content. For example, the teacher and student could develop a contract at the beginning of a unit which includes independent study topics and assig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52840" cy="16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5160" y="304920"/>
            <a:ext cx="624384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ntroduce Group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ll us your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level you tea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your goal(s) for today’s worksho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7240680" cy="639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205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udents make sense of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ve jour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ered ass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ear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ho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cess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 skills students use to make sense out of essential ideas and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tudent may explore a learning center, while another student collects information from the we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4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red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offering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in completing questions, tasks, and so on, of various ability levels. This ensures that students explore ideas at a level that builds on their prior knowledge and stimulates realistic growth. For example, students working in cooperative groups can choose to complete questions (A,B, or C) on a specific task with which they feel most comfor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438280" cy="16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76200" y="252360"/>
            <a:ext cx="58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chor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840" y="1603440"/>
            <a:ext cx="65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 Library Media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 Pack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urn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/Interest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earch Questions o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rcial Kit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40560" y="2286000"/>
            <a:ext cx="1616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28600" y="380880"/>
          <a:ext cx="8610480" cy="60195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29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benefits in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good times to use anchor activities.  Think about transition tim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might be the concerns or problems to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how you will overcome the concerns to using anchor activit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673200"/>
            <a:ext cx="7086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ategy that requires students to think on multiple levels. 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have more than one cu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es can be differentiated by student readiness, interest, or learning pro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ch side of the cube should have a 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describe, compare, analyze, etc.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a prompting question or statement undernea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47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du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– how students demonstrate what they know and are abl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presentation uses varied modes of expression, materials,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ssignments that requir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by self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e have to know where we want to end up before we start out” 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rol Ann Tomlins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Essenti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differentiated Instruction and what does it look like in the scienc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hould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duc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vehicles students use to demonstrate and extend what they k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, to demonstrate understanding of the food chain, some students may create a three-dimensional diagram, while others create a PowerPoint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8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2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ing Products for Struggling Lear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irections on audio or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The Word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 on teacher page or clas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, or help students prepare a timeline or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ontract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licio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i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rics that reflect individu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228600" y="0"/>
            <a:ext cx="18288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2050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523880"/>
            <a:ext cx="5105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, Yellow, Green C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ice 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18190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I Star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low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kids so that each students is in one large group and two partner pairings (learning sty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 daily/weekl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ex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ar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tiered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Keep Go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High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ctivities for different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to us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enters allowing fo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forms of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68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68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Differentiate Instruc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ttom Line…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d instruction is about using teaching strategies that connect with individual student's learning strate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ltimate goal is to provide a learning environment that will maximize the potential for student succe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mportant thing to remember is to hold on to the effective teaching strategies that lead students to positive learning outcomes and to make adjustments when necessa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bout being flexible and open to chan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lso about taking risks and trying teaching and learning strategies that you would have otherwise igno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4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8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2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your own differentiated lesson (Be prepared to share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ou m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‘sample lesson’ to mod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lesson you have taught that you wish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y using one or more of the resources prov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harts/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(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choose to modify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differentiated this lesson (what was modified: content, process or produc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students’ readiness, learning style, or interest considered? 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Burgio Daig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Resour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5 Harlem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Seneca, NY  142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(716) 821-70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mdaigler@e1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Differentiated Instruc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agnostic…pair…shar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38760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1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6200" y="380880"/>
            <a:ext cx="475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are your strength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not how smart you are, 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how you are smart!"|</a:t>
            </a:r>
            <a:br>
              <a:rPr sz="4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—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Howard Gardner Interview, "Common Miracles" ABC 1993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about Learning Styles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1042920"/>
            <a:ext cx="6172200" cy="5607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teach to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weak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that be their str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ed Instruction i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signing instruction based on student nee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ies, 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ed by the students (learning environment  can also be modified to provide a facilitative setting for effective instr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s are assessed on thei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adi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earning pro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ultiple intelligence styles), and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se qualities are the driving factors in determining how to deliver appropriate instruction as all learners are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6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0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4:03:48Z</dcterms:created>
  <dc:creator>Srothwell</dc:creator>
  <dc:description/>
  <cp:keywords/>
  <dc:language>en-US</dc:language>
  <cp:lastModifiedBy>Erie 1 Staff-Mobile Labs</cp:lastModifiedBy>
  <dcterms:modified xsi:type="dcterms:W3CDTF">2008-11-10T19:35:26Z</dcterms:modified>
  <cp:revision>27</cp:revision>
  <dc:subject/>
  <dc:title>Introduction to  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