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4C5-A5D2-4407-B180-2AA3C5AE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5E9-0B99-43E9-9F8D-CC1E2003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09B-74A9-4870-AD94-1851AABE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F8A-973E-40A7-95CA-7D73F577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F39D-E9ED-4DBD-8137-1BF9EBAE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A66C-8F41-41AF-B413-8A5BA37B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7213-7822-41FF-82FE-E5CB05D2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111F-320A-4806-BEF1-133D9BE9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C585-FD16-44A8-8EBC-1D01CA0A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C1E7-1483-4809-B89E-99557252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58EF-FE0D-4CB1-9B8D-82A1A3A8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AC3-5EFF-474C-8029-9475F246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7073-1341-45CB-941F-91D7ABC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5C16-F3F1-4819-B077-647230D5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F318-4C54-45D2-AF21-5273CF29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67A8-0ED1-4653-BF51-0938E584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76D2-B81F-4B6D-82C1-4493C5C8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858-687E-4F05-96F7-EA3C5193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0C1-B994-4C1B-BE57-A559AC3D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49C-D308-42D3-A996-6C06E2DB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495-08FC-4024-8DF5-A4CA2301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75D-D999-4906-BC70-8445F0BC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EDE-C05F-404D-A879-EFD3F32B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344-18CB-4656-9615-204B413A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7BBD-46AD-4719-A2D2-437311B4D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CFC4-2051-490A-96E9-E992056B1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ata_progress_filled_in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Grand Island Science Facilitators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CDE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ta Analy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now look at NEW Data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ery Levels (4,8, LE, ES, Chem,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data warehouse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read the CDEP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9360"/>
            <a:ext cx="830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Understanding How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Works in New York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ederal No Child Left Behind (NCLB) Act requires that states develop and report on measures of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ciency in 1) English language arts (ELA), in 2) mathematics, and on 3) a third indicator. In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in 2008–09, the third indicator is science at the elementary/middle level and graduation rat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ary level. Schools or districts that meet predefined goals on these measures are making 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ly Progress (AY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about accountability in New York Sta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: http://www.emsc.nysed.gov/irts/accountability/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Fill in the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table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scussion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meet our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didn’t, how far are we from the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we apply ALL implementation strategies listed within CDEP pl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this CONTINUE to be a CDEP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lse can we do to meet this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ay 2: Review and Continue CDEP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ish Goals and tweak goals to make SM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we are and where we want to b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l in the III. With Root Causes and Ration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66520" y="3200400"/>
            <a:ext cx="16002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41911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pothesis – why is there a ga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it important to close the ga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mplementation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K-4 (need group role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11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old as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-8 (need group roles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11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old as model (pgs. 54-55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sensu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8604" t="0" r="7723" b="0"/>
          <a:stretch/>
        </p:blipFill>
        <p:spPr>
          <a:xfrm>
            <a:off x="2743200" y="1752480"/>
            <a:ext cx="3949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Facilitator Wo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ory Time (how to fit ELA skills into Scienc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re we left off…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re are we go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’s Deconstruct the Data – color coded sheets from last tim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447920"/>
            <a:ext cx="7924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look like in your content ar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students to be able to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-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-1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0" y="2133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gend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ce Breaker -- Juli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7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m Role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t in groups of 3 pleas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m Record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ia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unce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648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Designate roles and place “role” cards in front of each team m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y of CDEP at Grand Island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Karmaz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er partici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urpose and Function of CDEP: Planning Mode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523880"/>
            <a:ext cx="7010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we want to go? (Key indic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are we now? (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stopping us from getting there? (Root ca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overcome what is stopping us? (Strateg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implement our strategies? (Action Plan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re we doing? (Eval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479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Goals, objectives, where do we want to b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2133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Data Warehouse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2819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Why? Rationale – why is it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20696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x: Increase the number of students in upper level core scienc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50292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ep by step how to get the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9421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tart by looking at last years pla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view: 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urrent Root Cause, Rational, Gap, Goals, and Implementation Pla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st Year’s Pl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7 &amp; 8 – vision, mission, and beli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9 – demograph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9-34 data tables used for OLD CD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46 – Results of OLD DATA used to plan for the OLD CDEP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54 – GOALS (top of the pag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es, tasks/action steps (54-5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we do? Page 6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557280"/>
            <a:ext cx="883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22:40Z</dcterms:created>
  <dc:creator>Monica Burgio-Daigler</dc:creator>
  <dc:description/>
  <dc:language>en-US</dc:language>
  <cp:lastModifiedBy>Monica Burgio-Daigler</cp:lastModifiedBy>
  <dcterms:modified xsi:type="dcterms:W3CDTF">2010-10-21T00:20:58Z</dcterms:modified>
  <cp:revision>16</cp:revision>
  <dc:subject/>
  <dc:title>Grand Island Science Facilitators</dc:title>
</cp:coreProperties>
</file>