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E93-BCF5-4272-AE6E-8654B1D1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239-5260-4573-B9FB-ACFA2473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85E-07B9-4BFD-9B56-1CC10819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170-6984-41D0-ABD9-E749D931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0B7B-AA7B-43AA-9C09-2027FDA2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42FF-BCA8-4E24-BBE8-1E130421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3B13-0AF0-4BB3-A113-2085C55A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1DA3-CFFE-4D49-A739-27090427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AAC6-CB02-4C3D-BA53-B144D650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50C5-3D55-4DA4-BBF4-CFE874CC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7415-B902-4088-B53F-DF8A21B9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E69-7DF3-4753-B1E3-8467ADDB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D5C1-82E7-41D3-B41F-B63D0FFC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71C1-913B-4A1C-BEF1-FA6A2E4B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E46D-07C8-4318-A174-95860B0F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749B-F49D-4912-A5A8-DAF03FA6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D8B9-2569-4E9F-9668-DD528096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884-ED59-47DC-AB57-6975CF2F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ED3-7F9C-4981-9939-75A4359D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1A0-7B23-4232-B867-40AD91FE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7AB-4A4C-4368-A92A-F066B614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F1E-CC07-4CFC-BF11-5AF689FE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4F7-B8A2-4C09-9D18-5169A11D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F68-8837-420B-8B8B-3F8EE4B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8FC2-4ED9-46F0-AECF-91D8DED45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6FE2-B6CA-4336-AD6C-EFBBA8647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ata_progress_filled_in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Grand Island Science Facilitators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CDE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ta Analy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now look at NEW Data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ery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data warehouse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CDEP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9360"/>
            <a:ext cx="830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Understanding How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Works in New York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ederal No Child Left Behind (NCLB) Act requires that states develop and report on measures of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ciency in 1) English language arts (ELA), in 2) mathematics, and on 3) a third indicator. In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in 2008–09, the third indicator is science at the elementary/middle level and graduation rat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ary level. Schools or districts that meet predefined goals on these measures are making 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ly Progress (AY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about accountability in New York Sta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: http://www.emsc.nysed.gov/irts/accountability/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Fill in the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table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scussion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meet our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didn’t, how far are we from the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apply ALL implementation strategies listed within CDEP pl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this CONTINUE to be a CDEP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lse can we do to meet this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ay 2: Review and Continue CDEP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ish Goals and tweak goals to make SM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we are and where we want to b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l in the III. With Root Causes and Ration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66520" y="3200400"/>
            <a:ext cx="16002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1911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pothesis – why is there a ga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it important to close the ga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mplementation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K-4 (need group role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11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old as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-8 (need group role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11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old as model (pgs. 54-55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sensu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8604" t="0" r="7723" b="0"/>
          <a:stretch/>
        </p:blipFill>
        <p:spPr>
          <a:xfrm>
            <a:off x="2743200" y="1752480"/>
            <a:ext cx="3949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Facilitator Wo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ory Time (how to fit ELA skills into Scienc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re we left off…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re are we go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’s Deconstruct the Data – color coded sheets from last tim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447920"/>
            <a:ext cx="7924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look like in your content ar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students to be able to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-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-1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0" y="2133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gend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ce Breaker -- Juli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7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m Role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in groups of 3 pleas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m Record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i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unc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648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Designate roles and place “role” cards in front of each team 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y of CDEP at Grand Island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Karmaz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er partici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urpose and Function of CDEP: Planning Mode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523880"/>
            <a:ext cx="7010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we want to go? (Key indic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are we now? (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pping us from getting there? (Root ca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overcome what is stopping us? (Strateg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implement our strategies? (Action Plan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we doing?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479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Goals, objectives, where do we want to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133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Data Warehouse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819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Why? Rationale – why is it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20696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x: Increase the number of students in upper level core scienc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5029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ep by step how to get the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9421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art by looking at last years pla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view: 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urrent Root Cause, Rational, Gap, Goals, and Implementation Pla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st Year’s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7 &amp; 8 – vision, mission, and beli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9 – demogra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9-34 data tables used for OLD CD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46 – Results of OLD DATA used to plan for the OLD CDEP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54 – GOALS (top of the pag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es, tasks/action steps (54-5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we do? Page 6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557280"/>
            <a:ext cx="883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22:40Z</dcterms:created>
  <dc:creator>Monica Burgio-Daigler</dc:creator>
  <dc:description/>
  <dc:language>en-US</dc:language>
  <cp:lastModifiedBy>Monica Burgio-Daigler</cp:lastModifiedBy>
  <dcterms:modified xsi:type="dcterms:W3CDTF">2010-10-21T00:20:58Z</dcterms:modified>
  <cp:revision>16</cp:revision>
  <dc:subject/>
  <dc:title>Grand Island Science Facilitators</dc:title>
</cp:coreProperties>
</file>