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066-78C7-417D-AA31-01CF3844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6B0-938A-4E74-BD1C-72B08AA3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2F2-6031-4077-9614-29F8CCBB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0A7-5242-4992-BC38-93A203AA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6F80-326C-42B6-9CBA-0B9A7B7C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039B-3260-4976-B8B2-9D0BF8BA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FC10-D4F7-4CBF-B1D4-FF022991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540B-E5D5-44EF-AFF6-FC0F6EB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1803-FDAF-42A6-92D8-AC90F9E9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6A86-4930-48B8-801C-9DA8FA38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1658-5397-4FF4-97FE-0155F3A9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CD1-D542-49C0-A100-C18753C7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2092-B130-437F-BD86-AF77926D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557A-A776-4590-80E4-A40C3789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13CA-29F5-42A3-8B84-3983832B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36C-E3B8-4D45-89AD-F2924E93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C241-2B74-46A1-A804-E4FF01E9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FD6-5B26-4452-B836-AF29B9F4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B77-AF40-43D2-90A2-6090489A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2BA-D78C-4474-9832-7DFCBEB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0FE-2F5F-4A20-BCF7-9605A467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21B-F19C-464C-B112-12A7850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6C5-F926-470A-B9CA-294AA27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55F-30BA-4F4B-884C-216C9AF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18E6-5681-40DD-A3AC-0975EC8D2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C9FB-C0AC-4C6E-B751-122BDA04E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ata_progress_filled_in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Grand Island Science Facilitators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CDE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ta Analy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now look at NEW Data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ery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data warehouse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CDEP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9360"/>
            <a:ext cx="830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Understanding How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Works in New York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ederal No Child Left Behind (NCLB) Act requires that states develop and report on measures of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ciency in 1) English language arts (ELA), in 2) mathematics, and on 3) a third indicator. In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n 2008–09, the third indicator is science at the elementary/middle level and graduation rat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ary level. Schools or districts that meet predefined goals on these measures are making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ly Progress (AY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about accountability in New York Sta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: http://www.emsc.nysed.gov/irts/accountability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Fill in the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table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cussio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meet our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didn’t, how far are we from the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apply ALL implementation strategies listed within CDEP pl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this CONTINUE to be a CDEP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lse can we do to meet this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ay 2: Review and Continue CDEP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sh Goals and tweak goals to make SM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e are and where we want to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l in the III. With Root Causes and Ration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6520" y="320040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1911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pothesis – why is there a ga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it important to close the ga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mplementation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K-4 (need group role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11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old as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-8 (need group role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11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old as model (pgs. 54-55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sensu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8604" t="0" r="7723" b="0"/>
          <a:stretch/>
        </p:blipFill>
        <p:spPr>
          <a:xfrm>
            <a:off x="2743200" y="1752480"/>
            <a:ext cx="3949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Facilitator Wo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ory Time (how to fit ELA skills into Scienc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re we left off…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re are we go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’s Deconstruct the Data – color coded sheets from last ti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447920"/>
            <a:ext cx="7924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look like in your 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students to be able to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-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-1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0" y="2133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end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ce Breaker -- Jul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m Rol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in groups of 3 pleas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m Record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unc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Designate roles and place “role” cards in front of each team 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 of CDEP at Grand Island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Karma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er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urpose and Function of CDEP: Planning Mode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523880"/>
            <a:ext cx="7010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we want to go? (Key indic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are we now?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pping us from getting there? (Root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overcome what is stopping us? (Strateg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implement our strategies? (Action Plan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we doing?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479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Goals, objectives, where do we want to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133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Data Warehouse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y? Rationale –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2069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x: Increase the number of students in upper level core scienc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ep by step how to get the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942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art by looking at last years pl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: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urrent Root Cause, Rational, Gap, Goals, and Implementation Pla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st Year’s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7 &amp; 8 – vision, mission, and bel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9 – demo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9-34 data tables used for OLD CD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46 – Results of OLD DATA used to plan for the OLD CDEP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54 – GOALS (top of the pag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, tasks/action steps (54-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we do? Page 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557280"/>
            <a:ext cx="883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22:40Z</dcterms:created>
  <dc:creator>Monica Burgio-Daigler</dc:creator>
  <dc:description/>
  <dc:language>en-US</dc:language>
  <cp:lastModifiedBy>Monica Burgio-Daigler</cp:lastModifiedBy>
  <dcterms:modified xsi:type="dcterms:W3CDTF">2010-10-21T00:20:58Z</dcterms:modified>
  <cp:revision>16</cp:revision>
  <dc:subject/>
  <dc:title>Grand Island Science Facilitators</dc:title>
</cp:coreProperties>
</file>