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BBC6-D2EC-4856-B96A-1F1BB0057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5D75-A740-4B4E-8338-8C5F1E71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B4E4-68AA-46B3-B6A3-96ACFE9C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DC89-F355-4BEE-9913-AEE2A7554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8DBA-1CAB-4A23-92AA-27A1DA056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2FB7-0A0A-4F0A-8440-904E8B04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823F-BA3A-4A08-A0CE-82ED689E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210E-FBAD-41FA-9C13-E1D85E9A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2D82-B1EF-4F18-ACC7-108BCEF1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4373-BC1B-49DE-944A-EE6F32C7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F32D-5D4B-4B75-8B65-B57B364F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53E1-ADF9-48AA-BA9A-32F69DC2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E6E1-39B5-42A3-8D7F-273947DB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EA08-39C0-428F-B521-61B541FB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5B04-AD78-497B-B6E7-08015E2A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87AA-AFF8-4804-A375-EDA0E2A54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CD9F-B1F3-41C7-B36E-4DA199B5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CF71-C43A-45E2-A787-706C81D6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A1D4-36AF-412D-A0A7-C68E0434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E9E8-9566-4303-B44E-C507035E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726A-4667-4005-960C-C85F8784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DE58-65CA-41F7-ACF4-69491F05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E02A-B102-4589-98A6-7C3C0BF4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460F-5DFD-4820-A05F-42F2507B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0D7F-E8B1-48C4-9D00-8ADB0EC9EB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0FF3-D986-4A0F-9D8C-4BE1463E03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data_progress_filled_in.doc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eec94"/>
                </a:solidFill>
                <a:latin typeface="Times New Roman"/>
              </a:rPr>
              <a:t>Grand Island Science Facilitators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6002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CDE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ata Analysi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t’s now look at NEW Data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ance Levels (4,8, LE, ES, Chem, Physi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tery Levels (4,8, LE, ES, Chem, Physi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read the data warehouse repo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read the CDEP repo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33520" y="9360"/>
            <a:ext cx="83055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0"/>
                </a:solidFill>
                <a:latin typeface="Times New Roman"/>
              </a:rPr>
              <a:t>Understanding How Accoun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0"/>
                </a:solidFill>
                <a:latin typeface="Times New Roman"/>
              </a:rPr>
              <a:t>Works in New York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ederal No Child Left Behind (NCLB) Act requires that states develop and report on measures of stu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ficiency in 1) English language arts (ELA), in 2) mathematics, and on 3) a third indicator. In New Y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 in 2008–09, the third indicator is science at the elementary/middle level and graduation rate 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condary level. Schools or districts that meet predefined goals on these measures are making Adequ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early Progress (AYP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more information about accountability in New York Stat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t: http://www.emsc.nysed.gov/irts/accountability/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Fill in the </a:t>
            </a:r>
            <a:r>
              <a:rPr b="1" lang="en-US" sz="48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table: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iscussion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d we meet our goal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we didn’t, how far are we from the go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d we apply ALL implementation strategies listed within CDEP pla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this CONTINUE to be a CDEP go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else can we do to meet this go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goal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Day 2: Review and Continue CDEP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ish Goals and tweak goals to make SM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we are and where we want to b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l in the III. With Root Causes and Ration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666520" y="3200400"/>
            <a:ext cx="16002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67480" y="3276720"/>
            <a:ext cx="0" cy="14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4191120"/>
            <a:ext cx="320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ypothesis – why is there a gap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4876920"/>
            <a:ext cx="403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it important to close the ga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mplementation Pla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K-4 (need group roles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1" marL="430920" indent="-165600">
              <a:lnSpc>
                <a:spcPct val="90000"/>
              </a:lnSpc>
              <a:spcBef>
                <a:spcPts val="11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e old as mo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-19872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-8 (need group roles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1" marL="430920" indent="-165600">
              <a:lnSpc>
                <a:spcPct val="90000"/>
              </a:lnSpc>
              <a:spcBef>
                <a:spcPts val="11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e old as model (pgs. 54-55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onsensu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8604" t="0" r="7723" b="0"/>
          <a:stretch/>
        </p:blipFill>
        <p:spPr>
          <a:xfrm>
            <a:off x="2743200" y="1752480"/>
            <a:ext cx="39495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cience Facilitator Work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tory Time (how to fit ELA skills into Science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ere we left off…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ere are we going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et’s Deconstruct the Data – color coded sheets from last tim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KILL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447920"/>
            <a:ext cx="792468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es it look like in your content are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students to be able to 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-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-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-1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0" y="2133720"/>
            <a:ext cx="41911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genda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ce Breaker -- Juli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124080" y="1600200"/>
            <a:ext cx="3176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eam Role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t in groups of 3 please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am Recorder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storia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ouncer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46483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Times New Roman"/>
              </a:rPr>
              <a:t>Designate roles and place “role” cards in front of each team me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istory of CDEP at Grand Island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. Karmaz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lie 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er particip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Purpose and Function of CDEP: Planning Model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523880"/>
            <a:ext cx="701028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we want to go? (Key indicato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are we now? (Dat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stopping us from getting there? (Root caus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we overcome what is stopping us? (Strateg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we implement our strategies? (Action Plann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are we doing? (Evalu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147960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Goals, objectives, where do we want to b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67080" y="21337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Data Warehouse re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00800" y="28195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Why? Rationale – why is it importa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420696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Ex: Increase the number of students in upper level core science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50292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Step by step how to get ther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62720" y="59421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Start by looking at last years plan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8377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eview: </a:t>
            </a: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urrent Root Cause, Rational, Gap, Goals, and Implementation Plan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st Year’s Pla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 7 &amp; 8 – vision, mission, and belie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 9 – demograph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9-34 data tables used for OLD CDE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 46 – Results of OLD DATA used to plan for the OLD CDEP go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 54 – GOALS (top of the pag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ategies, tasks/action steps (54-5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id we do? Page 6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557280"/>
            <a:ext cx="8839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7:22:40Z</dcterms:created>
  <dc:creator>Monica Burgio-Daigler</dc:creator>
  <dc:description/>
  <dc:language>en-US</dc:language>
  <cp:lastModifiedBy>Monica Burgio-Daigler</cp:lastModifiedBy>
  <dcterms:modified xsi:type="dcterms:W3CDTF">2010-10-21T00:20:58Z</dcterms:modified>
  <cp:revision>16</cp:revision>
  <dc:subject/>
  <dc:title>Grand Island Science Facilitators</dc:title>
</cp:coreProperties>
</file>