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E32-B0BC-4CB6-81C8-1D780139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233-5C80-45F8-8AB7-46BE6545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DDB-55A6-466F-9AF9-2701CD53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77D-5A2D-4DF7-B53F-D85CACC8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749-152F-47B4-BA6C-E243A97F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64DC-1AF4-41BB-ACD7-CDCD31B0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5C18-F12F-4F71-99E9-AA3FDD3C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475C-B324-46F4-8A3A-59D2E22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1185-47D9-4E97-B6DA-8B129BF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202-E7F4-46FC-91A7-9F2C9ED3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CF8B-91EA-42B7-9696-B3B73B0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100-649E-414C-937C-79C46AD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F618-EF7F-475A-85FD-61A8ADA5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2D7C-158B-4E26-A44D-A8D6368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A85C-64EA-4A31-A6F2-FE65A582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3E19-D7FF-4DAC-846E-4E5C1042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A504-CF04-4304-8329-64ECBC33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1EC-046B-4333-BFBD-6BFC89C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C57-A879-49B5-B994-A1AD56F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D77-BFD4-4D44-AC03-1C64DB7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FFD-166D-4A95-B40A-A5412E1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E10-28A7-4A05-BEF1-6E0603D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CB6-3CA8-4964-9A5D-E7AD6E22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B26-58A4-4093-BE69-B91B9D9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8FA4-F3A5-4520-921A-27E3C72E1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981-224E-4610-AAFC-3F6BF5B7A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pdate CDEP Plan (Small group: Elementary, Middle School, and High School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4320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II.  NEW District Needs/Areas for Impr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05T15:22:44Z</dcterms:modified>
  <cp:revision>11</cp:revision>
  <dc:subject/>
  <dc:title>Grand Island Science Facilitators</dc:title>
</cp:coreProperties>
</file>