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A17-0662-46EB-9EAA-5729D88A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3A1-408B-40E2-A444-E94690BD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CD5-A220-4EE9-9AF8-2E729A76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C93-3DD8-44D2-AA0E-AFA60E45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E48-67AE-4113-992B-C7279374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DCC1-6E15-4039-9769-965DC9C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109D-396C-43E2-A48B-F183BD9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2AB3-1243-4373-A4F1-037E9C7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112-B7FA-4F24-8E06-8C5B490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3022-B30D-4133-B5ED-9E684AA6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850B-83AA-4935-81D2-61D02B4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509-94B9-449C-BB9F-A9E1991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3E4-FDA3-4B8E-BEF3-9776017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C009-AB29-4EF3-BB74-B2D7664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81F-D3E4-41C1-97E5-7E9546C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CC6-625C-456E-B556-68FC3E31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585-F37B-45B4-BDD2-881BA423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7DC-1F2C-4FF3-9D67-3744CD7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268-E5B0-418A-90CE-CEBFCFE8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9F7-6E1C-400B-B7AF-360A873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30F-2779-41E5-9FBA-F7D60393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519-EB21-4015-BED7-41D9E04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3DD-2187-4ACC-8A1B-BF0CC46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882-38A1-4D15-A606-C6F3F56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C9F7-16BA-48B3-B1DD-75B8729FB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46E-8BE0-4859-AEC2-A9083262F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pdate CDEP Plan (Small group: Elementary, Middle School, and High School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4320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II.  NEW District Needs/Areas for Impr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05T15:22:44Z</dcterms:modified>
  <cp:revision>11</cp:revision>
  <dc:subject/>
  <dc:title>Grand Island Science Facilitators</dc:title>
</cp:coreProperties>
</file>