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0D20-8564-4DFE-90A2-A60D6C6C7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D3C0-0E88-4293-8D55-0A6A9630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6DC5-796B-42F7-A598-9B3D97C42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3EB6-C579-4121-B487-663E2C967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8D14-CDF2-4480-88E0-24CD854B7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CCD8-E811-4D19-B4BD-0756238A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50C3-E209-4216-A353-68722BC4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6429-7637-4809-8AC9-406C9D0F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CB2AD-1D5B-4DF4-9D8E-975785C3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2796-3D20-4607-A44A-1AA14215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6C03-A2C4-4EDC-9D49-0DF93A44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3C1C-DA22-44BD-A5DE-83E56C63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BE60-244F-4C07-B50C-EBAF4B5D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3F5F-D471-4797-9365-34181F52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3CAE-3771-47C2-8B52-D066993F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DF77-0F7F-4885-846D-46760EB12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9F42-90CB-471E-A84B-C6CF213E3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9FB8-2F86-4646-BD46-54C7C42A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E837-2B6E-46CB-88A9-ADEB3445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7F54-FA0F-46A6-B9FF-8F4EDDF6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0656-50F6-41CB-9B16-7226CA1F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CCE3-EF3A-4696-B6C4-60A25A2D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02C0-BCE5-45FB-9C88-B097E169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BA0D-326D-42CD-B9A8-9A351C89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0C46-2097-4A79-AE74-840DA5B77D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981B-BA83-4F04-AD2F-144F92AA92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data_progress_filled_in.doc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eec94"/>
                </a:solidFill>
                <a:latin typeface="Times New Roman"/>
              </a:rPr>
              <a:t>Grand Island Science Facilitators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6002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CDE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ata Analysis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t’s now look at NEW Data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ance Levels (4,8, LE, ES, Chem, Physi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tery Levels (4,8, LE, ES, Chem, Physi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read the data warehouse repo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read the CDEP repo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33520" y="9360"/>
            <a:ext cx="83055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0"/>
                </a:solidFill>
                <a:latin typeface="Times New Roman"/>
              </a:rPr>
              <a:t>Understanding How Accoun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0"/>
                </a:solidFill>
                <a:latin typeface="Times New Roman"/>
              </a:rPr>
              <a:t>Works in New York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ederal No Child Left Behind (NCLB) Act requires that states develop and report on measures of stu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ficiency in 1) English language arts (ELA), in 2) mathematics, and on 3) a third indicator. In New Y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 in 2008–09, the third indicator is science at the elementary/middle level and graduation rate 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condary level. Schools or districts that meet predefined goals on these measures are making Adequ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early Progress (AYP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more information about accountability in New York Stat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t: http://www.emsc.nysed.gov/irts/accountability/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Fill in the </a:t>
            </a:r>
            <a:r>
              <a:rPr b="1" lang="en-US" sz="48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table: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iscussion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d we meet our goal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we didn’t, how far are we from the goa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d we apply ALL implementation strategies listed within CDEP pla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this CONTINUE to be a CDEP goa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else can we do to meet this goa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goal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Update CDEP Plan (Small group: Elementary, Middle School, and High School)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2743200"/>
            <a:ext cx="83818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II.  NEW District Needs/Areas for Improve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0" y="2133720"/>
            <a:ext cx="41911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genda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ce Breaker -- Juli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124080" y="1600200"/>
            <a:ext cx="3176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eam Roles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t in groups of 3 please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am Recorder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storia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ouncer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46483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Times New Roman"/>
              </a:rPr>
              <a:t>Designate roles and place “role” cards in front of each team me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History of CDEP at Grand Island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. Karmaz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lie 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er particip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Purpose and Function of CDEP: Planning Model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523880"/>
            <a:ext cx="701028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we want to go? (Key indicato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are we now? (Dat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stopping us from getting there? (Root caus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we overcome what is stopping us? (Strategi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we implement our strategies? (Action Plann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are we doing? (Evalu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147960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Goals, objectives, where do we want to b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67080" y="21337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Data Warehouse re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00800" y="28195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Why? Rationale – why is it importa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420696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Ex: Increase the number of students in upper level core science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50292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Step by step how to get there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62720" y="59421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Start by looking at last years plan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160" y="8377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eview: </a:t>
            </a: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urrent Root Cause, Rational, Gap, Goals, and Implementation Plan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st Year’s Pla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 7 &amp; 8 – vision, mission, and belie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 9 – demograph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9-34 data tables used for OLD CDE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 46 – Results of OLD DATA used to plan for the OLD CDEP go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 54 – GOALS (top of the pag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ategies, tasks/action steps (54-5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id we do? Page 6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557280"/>
            <a:ext cx="8839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7:22:40Z</dcterms:created>
  <dc:creator>Monica Burgio-Daigler</dc:creator>
  <dc:description/>
  <dc:language>en-US</dc:language>
  <cp:lastModifiedBy>Monica Burgio-Daigler</cp:lastModifiedBy>
  <dcterms:modified xsi:type="dcterms:W3CDTF">2010-10-05T15:22:44Z</dcterms:modified>
  <cp:revision>11</cp:revision>
  <dc:subject/>
  <dc:title>Grand Island Science Facilitators</dc:title>
</cp:coreProperties>
</file>