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CB9-6FF0-4783-801B-16491725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696-9BD5-466B-B10D-48EC0D61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9C65-FA0C-4BB7-944F-19942F3A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D59-E8A2-44A4-AAE5-0D5E4CC4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152C-72B0-4FF9-A298-BF9DFC26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726A-57B6-4BA3-A08C-2F077025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12E8-F459-4218-ADE3-7875EA11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5EEF-2631-4B6F-93EE-5381C98A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CDE9-48E1-44F3-A35B-BFB0B8A1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1380-19A6-4E2D-8D8D-6E8E49CD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F2C5-6666-4733-B272-6CE4E8C0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30C7-515E-455F-924B-F29E406F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4F37-424E-4248-8DCF-C9E2FB09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A2BD-597A-4097-9BF7-9A672966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F393-88E3-4FE5-9F3F-DC854590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6356-F766-4134-B797-09C8EF71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0311-4E30-4874-977E-BE24C40D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F0D2-252A-4F9D-9075-FA4BD30E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2BA-1A85-4656-B69F-FDCB6AD4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11D-DCF9-4FE2-9E18-F50AB13A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E19-01CE-4CB7-A75D-3108558E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FF5-FB2A-4D54-B3F8-B9B9B962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2F33-BDE2-4EA1-ABBD-238DF291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84A-05CB-4EC4-9C9E-C0028AFB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3B29-8917-4043-8F45-D2987DDB8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E226-04AE-4850-A3B0-41844AA87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ata_progress_filled_in.doc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Grand Island Science Facilitators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002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CDE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ata Analysi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t’s now look at NEW Data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Levels (4,8, LE, ES, Chem,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tery Levels (4,8, LE, ES, Chem,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read the data warehouse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read the CDEP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9360"/>
            <a:ext cx="8305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Understanding How Accoun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Works in New York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ederal No Child Left Behind (NCLB) Act requires that states develop and report on measures of stu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iciency in 1) English language arts (ELA), in 2) mathematics, and on 3) a third indicator. In New Y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in 2008–09, the third indicator is science at the elementary/middle level and graduation rate 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ary level. Schools or districts that meet predefined goals on these measures are making Adequ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arly Progress (AYP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more information about accountability in New York Stat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: http://www.emsc.nysed.gov/irts/accountability/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Fill in the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table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iscussion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we meet our go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we didn’t, how far are we from the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we apply ALL implementation strategies listed within CDEP pl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this CONTINUE to be a CDEP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else can we do to meet this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go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Update CDEP Plan (Small group: Elementary, Middle School, and High School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743200"/>
            <a:ext cx="8381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II.  NEW District Needs/Areas for Improv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0" y="213372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genda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ce Breaker -- Juli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3176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eam Role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t in groups of 3 please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am Recorde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ia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unce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6483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Designate roles and place “role” cards in front of each team m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istory of CDEP at Grand Island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. Karmaz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lie 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er particip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urpose and Function of CDEP: Planning Model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523880"/>
            <a:ext cx="70102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we want to go? (Key indica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are we now? (Da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stopping us from getting there? (Root cau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overcome what is stopping us? (Strateg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implement our strategies? (Action Plann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are we doing? (Evalu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14796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Goals, objectives, where do we want to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21337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Data Warehouse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2819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Why? Rationale – why is it importa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420696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x: Increase the number of students in upper level core scienc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50292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tep by step how to get the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59421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tart by looking at last years pla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view: 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urrent Root Cause, Rational, Gap, Goals, and Implementation Plan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st Year’s Pl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7 &amp; 8 – vision, mission, and belie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9 – demograph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9-34 data tables used for OLD CD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46 – Results of OLD DATA used to plan for the OLD CDEP go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54 – GOALS (top of the pag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ies, tasks/action steps (54-5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we do? Page 6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557280"/>
            <a:ext cx="8839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7:22:40Z</dcterms:created>
  <dc:creator>Monica Burgio-Daigler</dc:creator>
  <dc:description/>
  <dc:language>en-US</dc:language>
  <cp:lastModifiedBy>Monica Burgio-Daigler</cp:lastModifiedBy>
  <dcterms:modified xsi:type="dcterms:W3CDTF">2010-10-05T15:22:44Z</dcterms:modified>
  <cp:revision>11</cp:revision>
  <dc:subject/>
  <dc:title>Grand Island Science Facilitators</dc:title>
</cp:coreProperties>
</file>