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A134-63F2-4408-A8BD-E47B7E7B1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4710-1C9C-4E00-A0BE-3C57DFB9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69F2-2B1E-47C4-A8E7-1AAD4A5D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C783-4049-45A8-ADC1-47576679B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6830-B907-4235-B504-D844BA7B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DF60-CE80-4B9B-A2CA-256F8283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EDC1-9598-4C29-AEFD-A28CE2A3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19F3-071B-4F86-A36D-7AFFB48B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218C-17C6-4E35-B1ED-8C481219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1C67-4C8C-408A-AAC5-945BA9EB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623E-BAD5-4C24-9A3F-79801018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23A6-F3FC-4229-9C07-FA97CDC8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EF54-5F78-4BD2-BC1A-BDA85D3D1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to Know you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467480" y="6094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33520" y="1981080"/>
            <a:ext cx="7924680" cy="441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l Ph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eam grade or course to te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ec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rtification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acher who inspired you to be a teacher and WH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you want your students to say about you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6297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455760"/>
            <a:ext cx="72392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rming the Fl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everything you have learned about what makes good teachers or good teaching an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m the floor:  walk around the room and look over all the words and phrases that have been left in your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meaning: pick up terms or phrases that come to mind when you think about good teachers and good teaching…and be prepared to sh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ming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yourself to the rest of the teachers in the room by sharing your name, the grade you long to teach and w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 who inspired you to be a teacher and WH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you want your students to say about you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why you selected the words or phrases that you chose from the fl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everyone has spoken, generate a list of common attributes of a good teacher or good 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1008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at’s Next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brief syllabus (more next clas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 Anticipation Gu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e me a list of what you need/want to learn from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mework:  Philosophy (1-2 page clear and conci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0120" y="2209680"/>
            <a:ext cx="9903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18:34:19Z</dcterms:created>
  <dc:creator>Erie 1 Staff-Mobile Labs</dc:creator>
  <dc:description/>
  <dc:language>en-US</dc:language>
  <cp:lastModifiedBy>Erie 1 Staff-Mobile Labs</cp:lastModifiedBy>
  <dcterms:modified xsi:type="dcterms:W3CDTF">2008-08-27T18:52:44Z</dcterms:modified>
  <cp:revision>6</cp:revision>
  <dc:subject/>
  <dc:title>Getting to Know you…</dc:title>
</cp:coreProperties>
</file>