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155F-3552-43EA-B623-F8C3ECF2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039-1962-483A-828F-E29117AF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884D-0F50-4F64-8CD7-A92907B9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309-B148-4587-85FA-8DA81815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70DA-B60D-4599-9A2A-F8179EEA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EDF0-58D4-4814-8DB0-C7246CAA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6600-94D2-4E52-AB78-A83AC049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654A-8697-4498-8350-C0C69EA8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FBD1-0A78-42D8-8072-5A6E69F0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B89-FD20-45C3-A49F-60A455FD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F90-B2C9-405D-AC43-11C2B96F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FC0-7648-41B0-BE86-35A77680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255E-D128-4D8B-B24C-48ABF23A7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to Know you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467480" y="6094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1981080"/>
            <a:ext cx="792468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eam grade or course to t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rtific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cher who inspired you to be a teacher and WH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you want your students to say about you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297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455760"/>
            <a:ext cx="7239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rming the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everything you have learned about what makes good teachers or good teaching 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m the floor:  walk around the room and look over all the words and phrases that have been left in your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meaning: pick up terms or phrases that come to mind when you think about good teachers and good teaching…and be prepar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ming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yourself to the rest of the teachers in the room by sharing your name, the grade you long to teach and w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who inspired you to be a teacher and W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you want your students to say about you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 you selected the words or phrases that you chose from the fl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everyone has spoken, generate a list of common attributes of a good teacher or good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00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’s Next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brief syllabus (more next cla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 Anticipation Gu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e me a list of what you need/want to learn from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mework:  Philosophy (1-2 page clear and conci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0120" y="2209680"/>
            <a:ext cx="990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8:34:19Z</dcterms:created>
  <dc:creator>Erie 1 Staff-Mobile Labs</dc:creator>
  <dc:description/>
  <dc:language>en-US</dc:language>
  <cp:lastModifiedBy>Erie 1 Staff-Mobile Labs</cp:lastModifiedBy>
  <dcterms:modified xsi:type="dcterms:W3CDTF">2008-08-27T18:52:44Z</dcterms:modified>
  <cp:revision>6</cp:revision>
  <dc:subject/>
  <dc:title>Getting to Know you…</dc:title>
</cp:coreProperties>
</file>