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C34F-306E-474F-9BEF-5DBD8B416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0661-9781-44C1-BBD6-A1B25F81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12B1-29D3-4A3B-A78D-49B80D857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562E-FF1C-4B26-875F-647973A84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0DB7-780A-4B1F-80F1-2651B0FA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E776-6B2D-4773-AF90-05BE74F7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3F23-E297-4ABF-BE5D-D674AF2E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5E5A-399E-476C-AF77-3E054B7D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E134-45D3-4882-AE0F-1F06F460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969B-674B-46CD-9F13-51F75D3F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CACB-0A66-4701-9379-414AB6ED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3F98-2B20-487B-8E3D-0D293185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CA00-9AA8-4439-BE22-194DE9BB0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to Know you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467480" y="6094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3520" y="1981080"/>
            <a:ext cx="792468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 Ph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eam grade or course to te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rtification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acher who inspired you to be a teacher and WH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you want your students to say about you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6297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455760"/>
            <a:ext cx="72392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rming the F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everything you have learned about what makes good teachers or good teaching an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m the floor:  walk around the room and look over all the words and phrases that have been left in your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meaning: pick up terms or phrases that come to mind when you think about good teachers and good teaching…and be prepared to sh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ming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yourself to the rest of the teachers in the room by sharing your name, the grade you long to teach and w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 who inspired you to be a teacher and WH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you want your students to say about you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why you selected the words or phrases that you chose from the fl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everyone has spoken, generate a list of common attributes of a good teacher or good 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008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at’s Next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brief syllabus (more next clas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 Anticipation Gu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e me a list of what you need/want to learn from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mework:  Philosophy (1-2 page clear and conci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0120" y="2209680"/>
            <a:ext cx="9903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8:34:19Z</dcterms:created>
  <dc:creator>Erie 1 Staff-Mobile Labs</dc:creator>
  <dc:description/>
  <dc:language>en-US</dc:language>
  <cp:lastModifiedBy>Erie 1 Staff-Mobile Labs</cp:lastModifiedBy>
  <dcterms:modified xsi:type="dcterms:W3CDTF">2008-08-27T18:52:44Z</dcterms:modified>
  <cp:revision>6</cp:revision>
  <dc:subject/>
  <dc:title>Getting to Know you…</dc:title>
</cp:coreProperties>
</file>