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7BC-D083-4B1A-9B3C-49626C43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98F-7DFF-4A27-883D-C40342B5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6C8-85EA-4B31-9994-2D57929A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67A-16AC-46AF-9870-97339612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D16-6435-4A1D-A2F2-36678E4A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A0C-70D0-4E15-9550-5AECB0AB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AF1-9B78-4850-9845-9AFC51D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20C-E83E-42DE-B082-19C6530C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7A0-C5BD-41FB-9326-855D8D61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E09-2C8D-455F-8BAE-92642E9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949-DE9A-4155-81CD-DE0DEC33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F96-6239-478C-8C9D-47E2C3E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3D5E-3253-4836-9F74-56017B91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o Know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981080"/>
            <a:ext cx="79246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am grade or course to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29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5760"/>
            <a:ext cx="723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ming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verything you have learned about what makes good teachers or good teaching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 the floor:  walk around the room and look over all the words and phrases that have been left in your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eaning: pick up terms or phrases that come to mind when you think about good teachers and good teaching…and be prepar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yourself to the rest of the teachers in the room by sharing your name, the grade you long to teach and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you selected the words or phrases that you chose from th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veryone has spoken, generate a list of common attributes of a good teacher or goo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’s Nex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rief syllabus (more next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 Anticipation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 me a list of what you need/want to learn from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work:  Philosophy (1-2 page clear and conc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2209680"/>
            <a:ext cx="99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4:19Z</dcterms:created>
  <dc:creator>Erie 1 Staff-Mobile Labs</dc:creator>
  <dc:description/>
  <dc:language>en-US</dc:language>
  <cp:lastModifiedBy>Erie 1 Staff-Mobile Labs</cp:lastModifiedBy>
  <dcterms:modified xsi:type="dcterms:W3CDTF">2008-08-27T18:52:44Z</dcterms:modified>
  <cp:revision>6</cp:revision>
  <dc:subject/>
  <dc:title>Getting to Know you…</dc:title>
</cp:coreProperties>
</file>