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7B0B-0C0A-45D5-8585-C1FF05956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9C5C-AEBC-4559-80A6-6B263B12D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77FC-ABB5-4962-B6F2-4AC3F2830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C537-08C4-41EC-A9F8-D7DFF169B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8326-EB1E-42A3-B197-F45731D1F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4AE0-D037-4A38-AA6A-543347B69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058B-4F2D-4266-86E6-F4E8BC2CF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A80A-2B75-4519-BF26-41F003E95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3AD7-6371-4E8F-A168-95C7C6389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F039-93A2-4AA6-B80A-8C9C4A8CA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95AA-45A5-4B29-A182-51B5DA0EA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7074-60C8-4A07-8364-A811A4221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A5E41-4D69-42A5-9987-80B4EB5657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tting to Know you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467480" y="60948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33520" y="1981080"/>
            <a:ext cx="7924680" cy="441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ll Ph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ream grade or course to te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ec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rtification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acher who inspired you to be a teacher and WH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you want your students to say about you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6297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455760"/>
            <a:ext cx="72392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orming the Fl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everything you have learned about what makes good teachers or good teaching an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m the floor:  walk around the room and look over all the words and phrases that have been left in your p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meaning: pick up terms or phrases that come to mind when you think about good teachers and good teaching…and be prepared to sha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80880" y="457200"/>
            <a:ext cx="8763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rming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 yourself to the rest of the teachers in the room by sharing your name, the grade you long to teach and wh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er who inspired you to be a teacher and WH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you want your students to say about you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why you selected the words or phrases that you chose from the flo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everyone has spoken, generate a list of common attributes of a good teacher or good tea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772400" y="5105520"/>
            <a:ext cx="10080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What’s Next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brief syllabus (more next clas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cuss Anticipation Gu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e me a list of what you need/want to learn from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mework:  Philosophy (1-2 page clear and concis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620120" y="2209680"/>
            <a:ext cx="99036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7T18:34:19Z</dcterms:created>
  <dc:creator>Erie 1 Staff-Mobile Labs</dc:creator>
  <dc:description/>
  <dc:language>en-US</dc:language>
  <cp:lastModifiedBy>Erie 1 Staff-Mobile Labs</cp:lastModifiedBy>
  <dcterms:modified xsi:type="dcterms:W3CDTF">2008-08-27T18:52:44Z</dcterms:modified>
  <cp:revision>6</cp:revision>
  <dc:subject/>
  <dc:title>Getting to Know you…</dc:title>
</cp:coreProperties>
</file>