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8522-7D82-4F2B-957C-114676441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2D91-10EB-49AE-94A9-67C30250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A32B-0D05-4508-B68B-1E53E2158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422B-0AE2-4ADB-9271-27640327C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4DD6-CFF1-441C-8D51-90DF0C40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6958-B995-4559-9183-6073853E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D744-8E87-48D1-A606-A2E020BD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0376-1888-4080-B6F6-8E8F1B63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3B16-ED44-4D68-9C1E-A6232CD5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DCE7-017A-4DE0-B484-FA7A4780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7729-073E-4FB3-B90C-53D66D01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9F36-543F-4313-9527-6A8EF860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CE43-6889-4D42-89CF-8E9BE6D7C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ting to Know you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467480" y="6094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33520" y="1981080"/>
            <a:ext cx="7924680" cy="441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ll Ph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eam grade or course to te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ec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rtification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acher who inspired you to be a teacher and WH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you want your students to say about you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6297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455760"/>
            <a:ext cx="72392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rming the Fl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everything you have learned about what makes good teachers or good teaching an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m the floor:  walk around the room and look over all the words and phrases that have been left in your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meaning: pick up terms or phrases that come to mind when you think about good teachers and good teaching…and be prepared to sh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ming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 yourself to the rest of the teachers in the room by sharing your name, the grade you long to teach and w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 who inspired you to be a teacher and WH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you want your students to say about you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why you selected the words or phrases that you chose from the fl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everyone has spoken, generate a list of common attributes of a good teacher or good te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772400" y="5105520"/>
            <a:ext cx="1008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hat’s Next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brief syllabus (more next clas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uss Anticipation Gu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e me a list of what you need/want to learn from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mework:  Philosophy (1-2 page clear and conci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0120" y="2209680"/>
            <a:ext cx="9903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18:34:19Z</dcterms:created>
  <dc:creator>Erie 1 Staff-Mobile Labs</dc:creator>
  <dc:description/>
  <dc:language>en-US</dc:language>
  <cp:lastModifiedBy>Erie 1 Staff-Mobile Labs</cp:lastModifiedBy>
  <dcterms:modified xsi:type="dcterms:W3CDTF">2008-08-27T18:52:44Z</dcterms:modified>
  <cp:revision>6</cp:revision>
  <dc:subject/>
  <dc:title>Getting to Know you…</dc:title>
</cp:coreProperties>
</file>