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7D7B-9C92-4F15-BDEC-DF1917F43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6267-3250-4301-A471-3DBFDFDD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ECCB-19F5-4DD4-B48C-AF6754BF1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C811-05DC-42FF-884D-2C130DC95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D782-2F71-4CA2-802A-C48B82FD8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2CED-5904-49EA-A89A-26564A60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760D-57E3-4B52-8CD0-993512A9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6476-EB90-4C2D-ACDD-DE539BF6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A2D8-1825-447F-9217-DA659B9A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FEA6-88F0-413A-B360-60BBA12E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E1DB-4D33-4E54-8EC5-39FDE5C7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65A9-FB5B-4CD1-AA8D-4985A173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F156-8E4C-4EE7-BB02-21D57D55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0AEC-E490-43AF-AA7F-2707066D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C672-A693-4C7A-BE07-529F0D4E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5B6F3-84D3-48BB-8193-898D2D3C1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922A-C4E4-42ED-BE91-BBB8B696C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BC5F-ED89-46A5-A5D3-68BEBCC7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3CBC-5B6A-4E1C-8961-B1CFF97C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865E-EA30-4816-A753-E78DDA4C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3BD8-C065-462A-BF44-8ED32AA4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91E2-42B2-4600-9B88-0CE227F6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6647-8672-4D42-B117-D8C6CFD3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799B-8E50-4A6B-B95C-06DB1173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4B0A-DDA8-4E98-A0FA-2410A1F244C3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90E0-AAE3-4732-85EA-8392DC12ADB7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ccff"/>
                </a:solidFill>
                <a:latin typeface="Verdana"/>
              </a:rPr>
              <a:t>Introductions</a:t>
            </a:r>
            <a:endParaRPr b="1" lang="en-US" sz="7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447560" y="2895120"/>
            <a:ext cx="6553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Verdana"/>
              </a:rPr>
              <a:t>New </a:t>
            </a: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Verdana"/>
              </a:rPr>
              <a:t>and </a:t>
            </a: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Verdana"/>
              </a:rPr>
              <a:t>Veteran Mentors</a:t>
            </a: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Develop Goals for Fall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71600" y="1371600"/>
            <a:ext cx="6324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Verdana"/>
              </a:rPr>
              <a:t>10/20/0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Verdana"/>
              </a:rPr>
              <a:t>12/01/0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Verdana"/>
              </a:rPr>
              <a:t>03/16/0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Verdana"/>
              </a:rPr>
              <a:t>05/19/0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Group Norm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</a:rPr>
              <a:t>Review Goals from Last Workshop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Format maps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Prioritize, revise, and add vocabulary to maps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Resources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Review and revise CFA’s and check for alignment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Ice Breaker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38080" y="2286000"/>
            <a:ext cx="1409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levat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733920" y="1447920"/>
            <a:ext cx="1342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spir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105520" y="2057400"/>
            <a:ext cx="165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motivat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438280" y="3200400"/>
            <a:ext cx="172404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impac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257800" y="3124080"/>
            <a:ext cx="2819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accomplis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143000" y="4572000"/>
            <a:ext cx="1600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rea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429000" y="5181480"/>
            <a:ext cx="139068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oost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181480" y="4648320"/>
            <a:ext cx="2581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ntribut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781680" y="1295280"/>
            <a:ext cx="1228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elight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371600" y="1066680"/>
            <a:ext cx="13622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erv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Verdana"/>
              </a:rPr>
              <a:t>Roles: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	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9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Team Recorder: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records notes for the group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spcBef>
                <a:spcPts val="9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Reporter: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summarizes and shares work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spcBef>
                <a:spcPts val="9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Bouncer: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Ensures focus of group on topic and is cogniscent of time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spcBef>
                <a:spcPts val="9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Norms Keeper: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makes sure the group stays positive and re-enforces norms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4857"/>
                </a:solidFill>
                <a:latin typeface="Verdana"/>
              </a:rPr>
              <a:t>Let’s Look at the Data…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Comparison– Top 5 schools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What do those colors mean?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What to do with all this data?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lvl="1" marL="690840" indent="-265680">
              <a:spcBef>
                <a:spcPts val="9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Pick 3 areas of trends and gaps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lvl="1" marL="690840" indent="-265680">
              <a:spcBef>
                <a:spcPts val="9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Go to the wiki and find the core and test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lvl="1" marL="690840" indent="-265680">
              <a:spcBef>
                <a:spcPts val="9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Deconstruct for content (vocabulary)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Vocabulary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hase 1 – decide on number of words to be taugh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hase 2 – create a rank ordered list (use data and secured learning from matrix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Format (color code,*, separate lists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hase 3 – share your list with the grade level above and below and make chang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hase 4 – Place in your map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Format Map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Months, Units and Concepts, PI’s/MU’s, Skills, Vocabulary, add Essential Question column and move questions to that column (to be added at a later date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Units and Concepts (Unit names bolded, concepts bulleted below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Resources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Use wiki, books, kits, tools, and create resource folders for that/those grade level(s) -- Monica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If a grade level is not in need of resources, work on revise, review, and align CFA’s to updated maps -- Julie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16:42:56Z</dcterms:created>
  <dc:creator>boces</dc:creator>
  <dc:description/>
  <dc:language>en-US</dc:language>
  <cp:lastModifiedBy>boces</cp:lastModifiedBy>
  <dcterms:modified xsi:type="dcterms:W3CDTF">2009-07-21T17:48:23Z</dcterms:modified>
  <cp:revision>9</cp:revision>
  <dc:subject/>
  <dc:title>Introductions</dc:title>
</cp:coreProperties>
</file>