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4BB-5B7A-4DA1-BF6D-7BE9A4DF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929-2242-47F9-8B86-E346AAD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EE1-39A9-4C85-8400-9C98D55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D12-CFEA-4C74-AE65-0AA3CE51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CB90-94FA-4EA4-A093-BCC90519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C14-BA26-4603-B913-4DF18D2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457E-E483-477C-9EB5-E2350C8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0462-80AB-43AA-963B-A6909291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E05B-F519-4536-B2E6-4851C374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1357-AAEB-4DD5-882A-0A6AAF3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DA84-D0CC-45C0-86F4-D09319D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F04-FE1C-4FF8-99F1-0A7D59E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302-2506-4153-A085-2751F39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294-76AF-4691-A779-B613A89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611-A7EA-40D9-A7D3-5B8570E5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4FF-0E56-4A88-A7C4-B23FC804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F95F-4B31-4FA1-B889-8FE5E232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5F8-5516-44F7-852B-7C765B2A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259-D359-4638-9785-964BD17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DE4-B651-4762-9035-B4DA490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343-BF42-49BF-814D-10ABA30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487-D01E-48FF-9BE3-CB955A0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2F8-01BD-49BE-86BD-7805747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017-1DD2-4EE9-B1CE-BD19A81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E9CD-9A64-4127-910C-22C5C275BD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8F3C-0417-4D1B-9263-98CCB82AF23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Veteran Mentors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1T17:48:23Z</dcterms:modified>
  <cp:revision>9</cp:revision>
  <dc:subject/>
  <dc:title>Introductions</dc:title>
</cp:coreProperties>
</file>