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181-585F-4027-ABEA-321CFB43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934-F37A-4C6C-B5B0-7E68D643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5C1-A984-4220-9532-D38CC6D4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ADC-3F32-44F6-B5DC-4C33398C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CC45-0411-47DF-9C81-083518E8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40B-F31F-4D7A-86C3-40A0729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D65E-D876-4D75-AE07-21659CD6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BDE-BE3E-41AF-B430-2048748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A408-2D46-4FDD-B624-4486A3D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C3F7-8E45-4B4A-BAED-4D226A3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594-DE22-4090-ACE6-1BCAC40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D38-3CAB-43C7-8ABA-0BAF5F7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F53-93B1-433F-9496-0819BDF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769-1964-48AF-AAD5-24ED9A9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2D6-AD45-491A-8901-3BD7C18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441-A6E4-4ED0-A8BF-28FD894B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988-4A1F-4360-84C5-5BB2336C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E15-7D48-48A3-87F1-C42BF74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915-DC31-44C1-B29F-143A9CB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212-7041-49CF-972D-A9023148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EF2-4291-469E-A7CF-A60A8D2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1EF-6984-48CE-9875-F1EFA23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98F-C31F-4E4B-A664-7C05286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16E-9916-4C4B-AEBE-AA0D472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45F5-EFF3-4776-8E5C-33C9B2D7DBC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4CC-97B1-4E91-B3BC-44D3FEA2C35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Veteran Mentors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1T17:48:23Z</dcterms:modified>
  <cp:revision>9</cp:revision>
  <dc:subject/>
  <dc:title>Introductions</dc:title>
</cp:coreProperties>
</file>