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AA3-5725-4A35-A4AB-F05DC89D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D0D-2AF2-498B-8247-19559A5D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F4B-2F8D-4EF9-9151-B7A82171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271-5A09-4C47-A5FC-FFFB656E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0818-5146-4C93-A115-40AA2C50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E691-B30B-4EE3-BB4D-30AD6891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BDE0-55CC-4406-8A21-89AA3851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98ED-9A62-4F93-9FDF-3AF199A7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6B35-36AD-4D14-B2C0-8A353D73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3F2D-C9DA-444D-9395-89681211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8A22-B6B8-4AC3-91F5-210A2173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F57-C2D2-4261-9101-02306D43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891B-B122-4CE7-9A5B-4DABCC3B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4095-B88D-4E4D-9835-632086C1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4846-0E8C-4DB1-B7C1-1D99820E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3029-5147-469F-9F62-E8ED37B0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23F7-0467-4D51-9D52-EF05DBC0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A2E-4871-4B23-A8C1-EA6CB706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EC7-2BE4-4000-840B-4FC1DB05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0D7-5E88-45D1-8A82-E7A9EBC5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70D-C29B-4DC9-ADD3-B529E81C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AEF-BC10-400F-9399-18C9B491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A17-2B81-4F18-B72F-48D98ED4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0C8-ABB0-481D-8C38-90D91FE2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F062-0124-4D74-9467-F72CA552990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208C-D9BD-48BF-A464-42D383C04C3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ff"/>
                </a:solidFill>
                <a:latin typeface="Verdana"/>
              </a:rPr>
              <a:t>Introductions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New 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and 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Veteran Mentors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Develop Goals for Fal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6324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0/20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2/01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3/16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5/19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Group Nor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Review Goals from Last Work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Format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Prioritize, revise, and add vocabulary to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source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view and revise CFA’s and check for alignment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ce Bre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8080" y="2286000"/>
            <a:ext cx="1409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ev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733920" y="1447920"/>
            <a:ext cx="1342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pir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05520" y="2057400"/>
            <a:ext cx="165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otivat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38280" y="320040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impa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257800" y="312408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accompl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43000" y="457200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re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29000" y="5181480"/>
            <a:ext cx="1390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oos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81480" y="4648320"/>
            <a:ext cx="25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ibu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781680" y="1295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ligh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71600" y="1066680"/>
            <a:ext cx="1362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rv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Roles: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Team Recorder: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records notes for the group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Reporter: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summarizes and shares work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Bouncer: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Ensures focus of group on topic and is cogniscent of tim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Norms Keeper: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makes sure the group stays positive and re-enforces norms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4857"/>
                </a:solidFill>
                <a:latin typeface="Verdana"/>
              </a:rPr>
              <a:t>Let’s Look at the Data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Comparison– Top 5 school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What do those colors mean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What to do with all this data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spcBef>
                <a:spcPts val="9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Pick 3 areas of trends and gaps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spcBef>
                <a:spcPts val="9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Go to the wiki and find the core and test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spcBef>
                <a:spcPts val="9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Deconstruct for content (vocabulary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1 – decide on number of words to be taugh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2 – create a rank ordered list (use data and secured learning from matrix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mat (color code,*, separate list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3 – share your list with the grade level above and below and make chang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4 – Place in your ma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at Map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nths, Units and Concepts, PI’s/MU’s, Skills, Vocabulary, add Essential Question column and move questions to that column (to be added at a later dat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its and Concepts (Unit names bolded, concepts bulleted below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source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Use wiki, books, kits, tools, and create resource folders for that/those grade level(s) -- Monic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If a grade level is not in need of resources, work on revise, review, and align CFA’s to updated maps -- Juli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6:42:56Z</dcterms:created>
  <dc:creator>boces</dc:creator>
  <dc:description/>
  <dc:language>en-US</dc:language>
  <cp:lastModifiedBy>boces</cp:lastModifiedBy>
  <dcterms:modified xsi:type="dcterms:W3CDTF">2009-07-21T17:48:23Z</dcterms:modified>
  <cp:revision>9</cp:revision>
  <dc:subject/>
  <dc:title>Introductions</dc:title>
</cp:coreProperties>
</file>