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6D1-6D35-423A-9ED6-BE2A7EBB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461-548C-4760-9AFA-D6251B2F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672-D6EB-425E-A8B1-E2A21633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9C9-7E28-4743-8F9F-8C53014C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972-FAA8-471B-AD22-B15E8B41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016-3657-4DA9-AF16-55F1CE0F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A80-28F2-4A13-877D-E1301C7A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BFF-6161-4D55-9640-CC040920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1A3-81AC-4185-A1A3-DA414A25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85C-47C0-4ADF-AF55-B765030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80A-281C-4D7B-9004-EC5D763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008-3A21-4C21-93A8-ABC35B49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92B2-D615-4CE9-BA4C-DD2018B36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elcome…to our LAST meeting of the school year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write down some norms for this meeting that you feel will set a good environment for accomplishing our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chart paper on the w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Last Meet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 Goals K-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a common format for elementary curriculum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ly review changes in each grade level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summer dates for Science Mentor work – July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PIs and MUs as: introduced, developed, secured, and 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skills to Curriculum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upon key vocabulary for each unit and prioritize vocabulary (master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eeds of how to support faculty with training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instructional strategies and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-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for next science workshop in May Grades 5-8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sh matrix (on line 8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al levels (I, D, S, 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vocabulary and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e will try to have new vocabulary finished by the end of this school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zzle Masters (break up K-4 and 5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directions o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32200"/>
            <a:ext cx="5639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r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collaborate without commun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attempt to reach a goal without knowing what that goal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their any analogies you could make to what has happened this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2200" y="2362320"/>
            <a:ext cx="2781360" cy="2866680"/>
            <a:chOff x="6172200" y="2362320"/>
            <a:chExt cx="2781360" cy="2866680"/>
          </a:xfrm>
        </p:grpSpPr>
        <p:sp>
          <p:nvSpPr>
            <p:cNvPr id="53" name="Puzzle3"/>
            <p:cNvSpPr/>
            <p:nvPr/>
          </p:nvSpPr>
          <p:spPr>
            <a:xfrm>
              <a:off x="7526520" y="2362320"/>
              <a:ext cx="1092960" cy="152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7208640" y="3472200"/>
              <a:ext cx="1744920" cy="13874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6533280" y="3454920"/>
              <a:ext cx="1051920" cy="1774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6172200" y="2823120"/>
              <a:ext cx="1766520" cy="1057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ole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eam Record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cords notes for th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port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ummarizes and share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ounc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sures focus of group on topic and is cogniscent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rms Keep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s sure the group stays positive and re-enforces n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mmon goal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 (If there is a “I”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, what level/type of learning occur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odu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opic/concept is introduced to the students to build 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el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students are actively engaged in the learning and build upon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been mastered by th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t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moved beyond the standard to encompass mo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l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-8: finish placing “I’s” on map (starting on line 87 (Juli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developmental learning on maps (Mo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9625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-4: Put developmental levels on maps (Mon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t maps (Ju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Ou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ion of Succ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you proud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something positive you learned about or from some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accompl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accomplish over Summer and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Presents from Julie and Mon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22:35Z</dcterms:created>
  <dc:creator>Monica Daigler</dc:creator>
  <dc:description/>
  <dc:language>en-US</dc:language>
  <cp:lastModifiedBy>Monica Daigler</cp:lastModifiedBy>
  <dcterms:modified xsi:type="dcterms:W3CDTF">2009-06-03T18:33:54Z</dcterms:modified>
  <cp:revision>5</cp:revision>
  <dc:subject/>
  <dc:title>Welcome…to our LAST meeting of the school year!!</dc:title>
</cp:coreProperties>
</file>