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08C-C88A-448F-8F32-D73A8D42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990-18AE-4B68-8031-EC81AE89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2AE-7825-46C5-80E7-C0FD1AD7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AD5-8555-40D6-8985-29704781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9A3-89DA-468B-A875-0D32CF84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241-C6B9-4A17-8CF4-855F55CB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5F9-FDF9-439C-AB77-D9198847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570-27E6-40CA-A3FA-6C92F558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F008-AAA1-43C1-8B5F-5C44F746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726-F051-4E29-B9C4-6BC16B9F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E3B-2CEF-4A90-A62A-BF61B369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52D-73A5-4400-A28B-86F1D82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39D5-C555-4511-B30C-838AB2674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elcome…to our LAST meeting of the school year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ease write down some norms for this meeting that you feel will set a good environment for accomplishing our go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is chart paper on the wal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Last Meet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 Goals K-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a common format for elementary curriculum m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ly review changes in each grade level curriculum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summer dates for Science Mentor work – July 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2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e PIs and MUs as: introduced, developed, secured, and ex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skills to Curriculum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upon key vocabulary for each unit and prioritize vocabulary (master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needs of how to support faculty with training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instructional strategies and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-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als for next science workshop in May Grades 5-8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ish matrix (on line 8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mental levels (I, D, S, 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 vocabulary and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e will try to have new vocabulary finished by the end of this school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zzle Masters (break up K-4 and 5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directions on your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932200"/>
            <a:ext cx="56390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rie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it feel to collaborate without commun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it feel to attempt to reach a goal without knowing what that goal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e their any analogies you could make to what has happened this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72200" y="2362320"/>
            <a:ext cx="2781360" cy="2866680"/>
            <a:chOff x="6172200" y="2362320"/>
            <a:chExt cx="2781360" cy="2866680"/>
          </a:xfrm>
        </p:grpSpPr>
        <p:sp>
          <p:nvSpPr>
            <p:cNvPr id="53" name="Puzzle3"/>
            <p:cNvSpPr/>
            <p:nvPr/>
          </p:nvSpPr>
          <p:spPr>
            <a:xfrm>
              <a:off x="7526520" y="2362320"/>
              <a:ext cx="1092960" cy="15235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Puzzle2"/>
            <p:cNvSpPr/>
            <p:nvPr/>
          </p:nvSpPr>
          <p:spPr>
            <a:xfrm>
              <a:off x="7208640" y="3472200"/>
              <a:ext cx="1744920" cy="13874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Puzzle4"/>
            <p:cNvSpPr/>
            <p:nvPr/>
          </p:nvSpPr>
          <p:spPr>
            <a:xfrm>
              <a:off x="6533280" y="3454920"/>
              <a:ext cx="1051920" cy="17740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uzzle1"/>
            <p:cNvSpPr/>
            <p:nvPr/>
          </p:nvSpPr>
          <p:spPr>
            <a:xfrm>
              <a:off x="6172200" y="2823120"/>
              <a:ext cx="1766520" cy="10576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ole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eam Record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cords notes for the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port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ummarizes and shares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ounc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nsures focus of group on topic and is cogniscent of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rms Keep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kes sure the group stays positive and re-enforces n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mmon goal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izing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ing (If there is a “I”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, what level/type of learning occur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rodu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topic/concept is introduced to the students to build backgrou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velo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students are actively engaged in the learning and build upon 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c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learning has been mastered by the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ten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learning has moved beyond the standard to encompass mor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li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-8: finish placing “I’s” on map (starting on line 87 (Juli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developmental learning on maps (Mon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9625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-4: Put developmental levels on maps (Mon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ormat maps (Ju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Ou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ebration of Succes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you proud o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something positive you learned about or from some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accomplis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like to accomplish over Summer and Next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Presents from Julie and Mon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5:22:35Z</dcterms:created>
  <dc:creator>Monica Daigler</dc:creator>
  <dc:description/>
  <dc:language>en-US</dc:language>
  <cp:lastModifiedBy>Monica Daigler</cp:lastModifiedBy>
  <dcterms:modified xsi:type="dcterms:W3CDTF">2009-06-03T18:33:54Z</dcterms:modified>
  <cp:revision>5</cp:revision>
  <dc:subject/>
  <dc:title>Welcome…to our LAST meeting of the school year!!</dc:title>
</cp:coreProperties>
</file>