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801-154E-4F35-9860-C0206757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72D-967F-4848-86EC-01AFEA83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A0C-7A96-4971-A288-BCD8D0FB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58E-C08D-4706-9A5C-14AF4EA1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4F6-249C-4814-BD2A-246A8405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5A2-E593-48E4-811E-52E9C63C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934-B15A-45F3-B769-67F9B61F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927-5CAB-4573-8A8B-3225FC85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7285-0524-4A6C-BA09-B22ABB23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10E-F488-4033-B610-540F37AC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DEA-265A-4B98-95C4-BCB97AD0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0436-D0C6-40C2-9E52-FE860AA4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3E28-0A3B-4929-AE15-2AA9782F4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 Mentor Workshop #2 11/14/08– FRIDAY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42416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1523880"/>
            <a:ext cx="72392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0 – Coffee, tea, and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5--10:15– Curriculum map conti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15--10:25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30-12:00 – Finish skills on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00-1:00 –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00-2:30 – Mapping changes and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30-2:40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40-3:30 –Mapp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skeleton maps and our master trend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to consensus on curricular modifications based on repetitions, scaffolding, and g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up with a plan for developmental levels of skills and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benchmarks for each grad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3800" y="380880"/>
            <a:ext cx="905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--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1 – Look at monthly maps and spreadsheet…make sure your information from your grade is cor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2 – make cor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3 – Add skills (standards 1,2, 6, 7)—use cor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let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d concepts not taught or not spir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tep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6 – Key Idea 2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through the KI – brainstorm 1-3 hands-on activities where you use this in each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on Trend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K – plant a seed and watch it grow, and label a plant diagram as part of CF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839880"/>
            <a:ext cx="51055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the units are taught?? Pre-requisite skills…background knowledg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spi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28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084920"/>
            <a:ext cx="73152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295280"/>
            <a:ext cx="1143000" cy="3276720"/>
          </a:xfrm>
          <a:custGeom>
            <a:avLst/>
            <a:gdLst>
              <a:gd name="textAreaLeft" fmla="*/ 0 w 1143000"/>
              <a:gd name="textAreaRight" fmla="*/ 412560 w 11430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1828800"/>
            <a:ext cx="1752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-visit Maps and Health (Look at and mak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473040"/>
            <a:ext cx="6629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UPPORT do we (and our teachers) ne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 skills from department meetings to M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w let’s look at map agai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ured areas of learning “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41:17Z</dcterms:created>
  <dc:creator>Erie 1 Staff-Mobile Labs</dc:creator>
  <dc:description/>
  <dc:language>en-US</dc:language>
  <cp:lastModifiedBy>Monica Daigler</cp:lastModifiedBy>
  <dcterms:modified xsi:type="dcterms:W3CDTF">2008-12-05T17:26:59Z</dcterms:modified>
  <cp:revision>13</cp:revision>
  <dc:subject/>
  <dc:title>GI – FRIDAY AGENDA</dc:title>
</cp:coreProperties>
</file>