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784-10CD-4B4F-ABA4-694624A9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F30-E811-4FA1-963D-AC49E57A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B6F-B6D0-4A7C-9AF7-4CF722A9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B56-D7A2-48AB-A58E-B728B2EF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1AC-C0D9-4C9D-B5F3-2EE5B653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C47-90E6-4074-94B5-D2329946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DD7-16AB-4DF9-8A48-B9C5F4ED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920-46F0-48B5-8C50-09D6CB6A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281-E2C8-4A59-8163-2D94B8E3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8FD-F6E5-4DC9-A893-B6F00FDD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A3C-6B42-48E5-A6B4-79633A74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6FD-5A81-4971-B93C-ABEA1922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7EFD-A393-40B8-91EB-04FA8055B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 Mentor Workshop #2 11/14/08– FRIDAY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42416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1523880"/>
            <a:ext cx="72392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0 – Coffee, tea, and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5--10:15– Curriculum map conti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15--10:25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30-12:00 – Finish skills on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00-1:00 –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00-2:30 – Mapping changes and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30-2:40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40-3:30 –Mapp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skeleton maps and our master trend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to consensus on curricular modifications based on repetitions, scaffolding, and g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up with a plan for developmental levels of skills and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benchmarks for each grad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3800" y="380880"/>
            <a:ext cx="905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--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1 – Look at monthly maps and spreadsheet…make sure your information from your grade is cor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2 – make cor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3 – Add skills (standards 1,2, 6, 7)—use cor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let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d concepts not taught or not spir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tep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6 – Key Idea 2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through the KI – brainstorm 1-3 hands-on activities where you use this in each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on Trend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K – plant a seed and watch it grow, and label a plant diagram as part of CF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839880"/>
            <a:ext cx="51055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the units are taught?? Pre-requisite skills…background knowledg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spi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28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084920"/>
            <a:ext cx="73152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295280"/>
            <a:ext cx="1143000" cy="3276720"/>
          </a:xfrm>
          <a:custGeom>
            <a:avLst/>
            <a:gdLst>
              <a:gd name="textAreaLeft" fmla="*/ 0 w 1143000"/>
              <a:gd name="textAreaRight" fmla="*/ 412560 w 11430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1828800"/>
            <a:ext cx="1752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-visit Maps and Health (Look at and mak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473040"/>
            <a:ext cx="6629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UPPORT do we (and our teachers) ne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 skills from department meetings to M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w let’s look at map agai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ured areas of learning “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41:17Z</dcterms:created>
  <dc:creator>Erie 1 Staff-Mobile Labs</dc:creator>
  <dc:description/>
  <dc:language>en-US</dc:language>
  <cp:lastModifiedBy>Monica Daigler</cp:lastModifiedBy>
  <dcterms:modified xsi:type="dcterms:W3CDTF">2008-12-05T17:26:59Z</dcterms:modified>
  <cp:revision>13</cp:revision>
  <dc:subject/>
  <dc:title>GI – FRIDAY AGENDA</dc:title>
</cp:coreProperties>
</file>